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5EA0-BD37-4185-9929-C8DE41F0A0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EA66-9380-493D-B8D8-E3C132540E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B8C0-65EB-4887-97BB-4A10143A35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57CE-377D-4078-8B34-0AF1A1C0BB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4E8-8708-47C7-9CFF-48139DB7DF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AC03-8DFA-443B-8160-362BFA8FBB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857-86C1-4465-92BF-CA792E6209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6BFA-FF0D-4AE4-BC8A-260E73CE64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C4F8-4853-4293-948C-63563E3C3A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E655-D97A-4C0C-91B8-D0F878A917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D8D-72DB-40FF-9F32-71F0868175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BD11-5635-4200-AC96-43CF128229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9E5D-44B5-4A4B-A557-4AA166D273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483-0F3E-4408-ACD1-68159EAE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C3C-6F12-4C6D-BB01-D38BE60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CC8-A3F0-47D7-B684-77C9DECF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0AF-DB4C-4157-9E37-D306BAB4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B27-C894-4DFE-B589-AF88A576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1AD-CE92-46AB-8E32-44FC941C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F7D-6DE7-447E-8B13-EFA757AD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383-E720-4661-842B-6D3640F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C90-F48B-49F0-B792-33B62202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B8D-2A75-4774-B11A-BE71825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855-754A-4384-8166-0D4D5960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1BD-A530-45D2-A658-5E7F8EA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B22-5D9C-412A-9869-91E474FA53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2960" y="214308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以内数的认识及读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4"/>
          <p:cNvSpPr/>
          <p:nvPr/>
        </p:nvSpPr>
        <p:spPr>
          <a:xfrm>
            <a:off x="285840" y="714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我国四个直辖市两次人口普查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00040" y="1292400"/>
            <a:ext cx="8143920" cy="3358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-71280" y="4649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四个城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人口普查结果，按从少到多排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285840" y="5689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93822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61236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01914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84617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4"/>
          <p:cNvSpPr/>
          <p:nvPr/>
        </p:nvSpPr>
        <p:spPr>
          <a:xfrm>
            <a:off x="285840" y="714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下面横线上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57120" y="1405080"/>
            <a:ext cx="3952800" cy="3095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4"/>
          <p:cNvSpPr/>
          <p:nvPr/>
        </p:nvSpPr>
        <p:spPr>
          <a:xfrm>
            <a:off x="4357800" y="1500120"/>
            <a:ext cx="478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国新建公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十万四千四百五十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新建公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五万五千二百八十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99"/>
          <p:cNvSpPr/>
          <p:nvPr/>
        </p:nvSpPr>
        <p:spPr>
          <a:xfrm>
            <a:off x="2643120" y="471492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44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99"/>
          <p:cNvSpPr/>
          <p:nvPr/>
        </p:nvSpPr>
        <p:spPr>
          <a:xfrm>
            <a:off x="2643120" y="54291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52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4"/>
          <p:cNvSpPr/>
          <p:nvPr/>
        </p:nvSpPr>
        <p:spPr>
          <a:xfrm>
            <a:off x="285840" y="714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下面横线上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3905280" cy="3095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/>
          <p:cNvSpPr/>
          <p:nvPr/>
        </p:nvSpPr>
        <p:spPr>
          <a:xfrm>
            <a:off x="4357800" y="1668600"/>
            <a:ext cx="478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私人拥有汽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六百二十五万七千三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私人拥有汽车增加到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六千五百三十九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9"/>
          <p:cNvSpPr/>
          <p:nvPr/>
        </p:nvSpPr>
        <p:spPr>
          <a:xfrm>
            <a:off x="2643120" y="492912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257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9"/>
          <p:cNvSpPr/>
          <p:nvPr/>
        </p:nvSpPr>
        <p:spPr>
          <a:xfrm>
            <a:off x="2643120" y="57117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539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85840" y="260208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事例，经历认识数位表以及读、写亿以内数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认识亿以内的数位顺序，知道各个数位上的数字所表示的意义，能读、写亿以内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现实生活中与大数有关的事物感兴趣，体会大数在表达和交流信息中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创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7" descr="绿枫叶1.png"/>
          <p:cNvPicPr/>
          <p:nvPr/>
        </p:nvPicPr>
        <p:blipFill>
          <a:blip r:embed="rId1"/>
          <a:stretch/>
        </p:blipFill>
        <p:spPr>
          <a:xfrm>
            <a:off x="84240" y="793800"/>
            <a:ext cx="67932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606920" y="1643040"/>
            <a:ext cx="3894120" cy="25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534960" y="1643040"/>
            <a:ext cx="3929040" cy="2505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71680" y="4214880"/>
            <a:ext cx="371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极长城站到北京的距离大约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857840" y="421488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与月球的平均距离约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928880" y="600084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一说这两个数据有什么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1"/>
          <p:cNvSpPr/>
          <p:nvPr/>
        </p:nvSpPr>
        <p:spPr>
          <a:xfrm>
            <a:off x="1837800" y="52293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万七千五百零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6500880" y="475632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三十八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5397840" y="5222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四千四百零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14280" y="2298600"/>
          <a:ext cx="6413760" cy="3200400"/>
        </p:xfrm>
        <a:graphic>
          <a:graphicData uri="http://schemas.openxmlformats.org/drawingml/2006/table">
            <a:tbl>
              <a:tblPr/>
              <a:tblGrid>
                <a:gridCol w="216000"/>
                <a:gridCol w="888120"/>
                <a:gridCol w="776880"/>
                <a:gridCol w="756720"/>
                <a:gridCol w="791280"/>
                <a:gridCol w="720000"/>
                <a:gridCol w="783720"/>
                <a:gridCol w="718200"/>
                <a:gridCol w="762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6" name="Group 48"/>
          <p:cNvGrpSpPr/>
          <p:nvPr/>
        </p:nvGrpSpPr>
        <p:grpSpPr>
          <a:xfrm>
            <a:off x="1150920" y="2266920"/>
            <a:ext cx="6356160" cy="2232360"/>
            <a:chOff x="1150920" y="2266920"/>
            <a:chExt cx="6356160" cy="2232360"/>
          </a:xfrm>
        </p:grpSpPr>
        <p:grpSp>
          <p:nvGrpSpPr>
            <p:cNvPr id="67" name="Group 49"/>
            <p:cNvGrpSpPr/>
            <p:nvPr/>
          </p:nvGrpSpPr>
          <p:grpSpPr>
            <a:xfrm>
              <a:off x="1150920" y="2912760"/>
              <a:ext cx="6356160" cy="1586520"/>
              <a:chOff x="1150920" y="2912760"/>
              <a:chExt cx="6356160" cy="1586520"/>
            </a:xfrm>
          </p:grpSpPr>
          <p:sp>
            <p:nvSpPr>
              <p:cNvPr id="68" name="Text Box 50"/>
              <p:cNvSpPr/>
              <p:nvPr/>
            </p:nvSpPr>
            <p:spPr>
              <a:xfrm>
                <a:off x="1150920" y="334476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51"/>
              <p:cNvGrpSpPr/>
              <p:nvPr/>
            </p:nvGrpSpPr>
            <p:grpSpPr>
              <a:xfrm>
                <a:off x="1643040" y="2912760"/>
                <a:ext cx="5864040" cy="1586520"/>
                <a:chOff x="1643040" y="2912760"/>
                <a:chExt cx="5864040" cy="1586520"/>
              </a:xfrm>
            </p:grpSpPr>
            <p:sp>
              <p:nvSpPr>
                <p:cNvPr id="70" name="Text Box 52"/>
                <p:cNvSpPr/>
                <p:nvPr/>
              </p:nvSpPr>
              <p:spPr>
                <a:xfrm>
                  <a:off x="6931080" y="3350880"/>
                  <a:ext cx="576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个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53"/>
                <p:cNvSpPr/>
                <p:nvPr/>
              </p:nvSpPr>
              <p:spPr>
                <a:xfrm>
                  <a:off x="6218280" y="3350880"/>
                  <a:ext cx="576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十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54"/>
                <p:cNvSpPr/>
                <p:nvPr/>
              </p:nvSpPr>
              <p:spPr>
                <a:xfrm>
                  <a:off x="5468760" y="3350880"/>
                  <a:ext cx="576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百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Text Box 55"/>
                <p:cNvSpPr/>
                <p:nvPr/>
              </p:nvSpPr>
              <p:spPr>
                <a:xfrm>
                  <a:off x="4701960" y="3350880"/>
                  <a:ext cx="576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千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56"/>
                <p:cNvSpPr/>
                <p:nvPr/>
              </p:nvSpPr>
              <p:spPr>
                <a:xfrm>
                  <a:off x="3956040" y="3355920"/>
                  <a:ext cx="576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57"/>
                <p:cNvSpPr/>
                <p:nvPr/>
              </p:nvSpPr>
              <p:spPr>
                <a:xfrm>
                  <a:off x="3157560" y="2912760"/>
                  <a:ext cx="62856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十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58"/>
                <p:cNvSpPr/>
                <p:nvPr/>
              </p:nvSpPr>
              <p:spPr>
                <a:xfrm>
                  <a:off x="1643040" y="2943000"/>
                  <a:ext cx="62856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千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Text Box 59"/>
                <p:cNvSpPr/>
                <p:nvPr/>
              </p:nvSpPr>
              <p:spPr>
                <a:xfrm>
                  <a:off x="2371680" y="2943000"/>
                  <a:ext cx="62856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百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Text Box 60"/>
            <p:cNvSpPr/>
            <p:nvPr/>
          </p:nvSpPr>
          <p:spPr>
            <a:xfrm>
              <a:off x="2071800" y="2280960"/>
              <a:ext cx="207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   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1"/>
            <p:cNvSpPr/>
            <p:nvPr/>
          </p:nvSpPr>
          <p:spPr>
            <a:xfrm>
              <a:off x="5237280" y="2266920"/>
              <a:ext cx="165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　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63"/>
          <p:cNvSpPr/>
          <p:nvPr/>
        </p:nvSpPr>
        <p:spPr>
          <a:xfrm>
            <a:off x="7072200" y="45640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5"/>
          <p:cNvSpPr/>
          <p:nvPr/>
        </p:nvSpPr>
        <p:spPr>
          <a:xfrm>
            <a:off x="6300720" y="45655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6"/>
          <p:cNvSpPr/>
          <p:nvPr/>
        </p:nvSpPr>
        <p:spPr>
          <a:xfrm>
            <a:off x="5572080" y="45655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7"/>
          <p:cNvSpPr/>
          <p:nvPr/>
        </p:nvSpPr>
        <p:spPr>
          <a:xfrm>
            <a:off x="4857840" y="456552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4071960" y="45655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3"/>
          <p:cNvSpPr/>
          <p:nvPr/>
        </p:nvSpPr>
        <p:spPr>
          <a:xfrm>
            <a:off x="7072200" y="49863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5"/>
          <p:cNvSpPr/>
          <p:nvPr/>
        </p:nvSpPr>
        <p:spPr>
          <a:xfrm>
            <a:off x="6300720" y="49863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6"/>
          <p:cNvSpPr/>
          <p:nvPr/>
        </p:nvSpPr>
        <p:spPr>
          <a:xfrm>
            <a:off x="5572080" y="49863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7"/>
          <p:cNvSpPr/>
          <p:nvPr/>
        </p:nvSpPr>
        <p:spPr>
          <a:xfrm>
            <a:off x="4857840" y="49863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8"/>
          <p:cNvSpPr/>
          <p:nvPr/>
        </p:nvSpPr>
        <p:spPr>
          <a:xfrm>
            <a:off x="4071960" y="49863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8"/>
          <p:cNvSpPr/>
          <p:nvPr/>
        </p:nvSpPr>
        <p:spPr>
          <a:xfrm>
            <a:off x="3274920" y="4987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1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5"/>
          <p:cNvGrpSpPr/>
          <p:nvPr/>
        </p:nvGrpSpPr>
        <p:grpSpPr>
          <a:xfrm>
            <a:off x="1671480" y="785880"/>
            <a:ext cx="6621840" cy="581400"/>
            <a:chOff x="1671480" y="785880"/>
            <a:chExt cx="6621840" cy="581400"/>
          </a:xfrm>
        </p:grpSpPr>
        <p:sp>
          <p:nvSpPr>
            <p:cNvPr id="93" name="矩形 42"/>
            <p:cNvSpPr/>
            <p:nvPr/>
          </p:nvSpPr>
          <p:spPr>
            <a:xfrm>
              <a:off x="1671480" y="78588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一万七千五百零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43"/>
            <p:cNvSpPr/>
            <p:nvPr/>
          </p:nvSpPr>
          <p:spPr>
            <a:xfrm>
              <a:off x="4500360" y="785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三十八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44"/>
            <p:cNvSpPr/>
            <p:nvPr/>
          </p:nvSpPr>
          <p:spPr>
            <a:xfrm>
              <a:off x="6649560" y="7858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四千四百零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46"/>
          <p:cNvSpPr/>
          <p:nvPr/>
        </p:nvSpPr>
        <p:spPr>
          <a:xfrm>
            <a:off x="928800" y="150012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上面的数写在数位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箭头连接符 49"/>
          <p:cNvCxnSpPr/>
          <p:nvPr/>
        </p:nvCxnSpPr>
        <p:spPr>
          <a:xfrm flipH="1">
            <a:off x="6928920" y="4929120"/>
            <a:ext cx="286560" cy="929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98" name="TextBox 50"/>
          <p:cNvSpPr/>
          <p:nvPr/>
        </p:nvSpPr>
        <p:spPr>
          <a:xfrm>
            <a:off x="5072040" y="5857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个位上，表示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51"/>
          <p:cNvCxnSpPr/>
          <p:nvPr/>
        </p:nvCxnSpPr>
        <p:spPr>
          <a:xfrm flipH="1">
            <a:off x="3857040" y="4929120"/>
            <a:ext cx="286200" cy="929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00" name="TextBox 52"/>
          <p:cNvSpPr/>
          <p:nvPr/>
        </p:nvSpPr>
        <p:spPr>
          <a:xfrm>
            <a:off x="1143000" y="5857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万位上，表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53"/>
          <p:cNvSpPr/>
          <p:nvPr/>
        </p:nvSpPr>
        <p:spPr>
          <a:xfrm>
            <a:off x="4714920" y="3357720"/>
            <a:ext cx="285732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54"/>
          <p:cNvSpPr/>
          <p:nvPr/>
        </p:nvSpPr>
        <p:spPr>
          <a:xfrm>
            <a:off x="1643040" y="3000240"/>
            <a:ext cx="2857680" cy="1500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5"/>
          <p:cNvSpPr/>
          <p:nvPr/>
        </p:nvSpPr>
        <p:spPr>
          <a:xfrm>
            <a:off x="6929280" y="2786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四位一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14200" y="3071880"/>
            <a:ext cx="8715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以内数的计数单位有一（个）、十、百、千、万、十万、百万、千万；把这些计数单位所对应的数按照数位顺序从右到左排列起来，便是数位顺序表；数字所在的数位不同，表示的意义也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计数的习惯，从个位起，从低位到高位每四位一份级，分别是个级、万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5"/>
          <p:cNvGrpSpPr/>
          <p:nvPr/>
        </p:nvGrpSpPr>
        <p:grpSpPr>
          <a:xfrm>
            <a:off x="128520" y="785880"/>
            <a:ext cx="1862280" cy="2000160"/>
            <a:chOff x="128520" y="785880"/>
            <a:chExt cx="1862280" cy="2000160"/>
          </a:xfrm>
        </p:grpSpPr>
        <p:pic>
          <p:nvPicPr>
            <p:cNvPr id="107" name="图片 4" descr="抠图、图片2.png"/>
            <p:cNvPicPr/>
            <p:nvPr/>
          </p:nvPicPr>
          <p:blipFill>
            <a:blip r:embed="rId1"/>
            <a:stretch/>
          </p:blipFill>
          <p:spPr>
            <a:xfrm>
              <a:off x="128520" y="785880"/>
              <a:ext cx="18622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4"/>
            <p:cNvSpPr/>
            <p:nvPr/>
          </p:nvSpPr>
          <p:spPr>
            <a:xfrm>
              <a:off x="414360" y="1071360"/>
              <a:ext cx="135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归纳总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下面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7" descr="绿枫叶1.png"/>
          <p:cNvPicPr/>
          <p:nvPr/>
        </p:nvPicPr>
        <p:blipFill>
          <a:blip r:embed="rId1"/>
          <a:stretch/>
        </p:blipFill>
        <p:spPr>
          <a:xfrm>
            <a:off x="84240" y="801720"/>
            <a:ext cx="679320" cy="720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4276800" cy="2371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99"/>
          <p:cNvSpPr/>
          <p:nvPr/>
        </p:nvSpPr>
        <p:spPr>
          <a:xfrm>
            <a:off x="785880" y="447660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三百五十万四千零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01"/>
          <p:cNvSpPr/>
          <p:nvPr/>
        </p:nvSpPr>
        <p:spPr>
          <a:xfrm>
            <a:off x="785880" y="504828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一千零三万零九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2"/>
          <p:cNvSpPr/>
          <p:nvPr/>
        </p:nvSpPr>
        <p:spPr>
          <a:xfrm>
            <a:off x="785880" y="561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楷体_GB2312"/>
              </a:rPr>
              <a:t>六百二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3"/>
          <p:cNvSpPr/>
          <p:nvPr/>
        </p:nvSpPr>
        <p:spPr>
          <a:xfrm>
            <a:off x="4929120" y="1785960"/>
            <a:ext cx="41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级末尾不管有几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都不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级中间或前面有一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连续几个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都只读一个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" descr="抠图、议一议.png"/>
          <p:cNvPicPr/>
          <p:nvPr/>
        </p:nvPicPr>
        <p:blipFill>
          <a:blip r:embed="rId1"/>
          <a:stretch/>
        </p:blipFill>
        <p:spPr>
          <a:xfrm>
            <a:off x="357120" y="928800"/>
            <a:ext cx="2357640" cy="1406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714240" y="24289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有两级的数怎样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5840" y="3027240"/>
            <a:ext cx="8715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读万级，再读个级；②万级的数，要先按照个级数的读法去读，再在后面加上一个“万”字；③每级末尾不管有几个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都不读；④每级中间或前面有一个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连续几个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都只读一个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85840" y="2208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我国四个直辖市两次人口普查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00040" y="2786040"/>
            <a:ext cx="8143920" cy="335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4"/>
          <p:cNvSpPr/>
          <p:nvPr/>
        </p:nvSpPr>
        <p:spPr>
          <a:xfrm>
            <a:off x="-71280" y="6143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计算器算出四个城市人口的变化情况，填在表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643800" y="35449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79336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643800" y="419112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28144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643800" y="4857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9294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643800" y="54770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少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583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4"/>
          <p:cNvSpPr/>
          <p:nvPr/>
        </p:nvSpPr>
        <p:spPr>
          <a:xfrm>
            <a:off x="285840" y="714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我国四个直辖市两次人口普查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00040" y="1292400"/>
            <a:ext cx="8143920" cy="3358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-71280" y="4649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四个城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人口普查结果，按从多到少排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85840" y="5689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90450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73770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81900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0880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6:05:24Z</dcterms:created>
  <dc:creator/>
  <dc:description/>
  <cp:keywords/>
  <dc:language>en-US</dc:language>
  <cp:lastModifiedBy/>
  <dcterms:modified xsi:type="dcterms:W3CDTF">2016-12-02T16:19:30Z</dcterms:modified>
  <cp:revision>5</cp:revision>
  <dc:subject/>
  <dc:title/>
</cp:coreProperties>
</file>