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A980-3DC2-4DFA-A5D2-722216C1B7C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A52D-B598-4EAB-8420-A6118B9B66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0D53-2480-4AA2-B52C-F6A6E05AF4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AE06-3462-43BC-9D3E-BBA7F94153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DFBC-E9EC-411A-BA0B-230E69E143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E843-9005-4B0E-85E5-335C3DD5157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1D8-FB0C-4CB9-948B-425479DECC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FE5D-2052-4813-B1C5-318C3FCF04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4E7F-A080-47A3-A0A6-E9F6414517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333B-CA65-4E10-92D5-B283E1CDAA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B05-1A2C-491F-B6A5-D4EB027013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58A-97F0-4B5E-A6F1-D146A80025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8D7-4135-4D38-9085-6E040C9664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BB10-2DC4-44E7-A2CC-006CA8301F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8DE-A9DE-44A3-8E9B-3ADA264C73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1F6-E9FA-49DA-84B5-741D0599E7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2478-983B-480B-8136-3E99B303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0DA2-0D9C-4587-9B61-050DBEE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1D105-981F-490E-AEA6-D663DBD3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AD176-5257-4090-AAF9-1D72AF9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465F3-C19B-489F-8960-F0A31F1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25BE5-7366-441B-A844-E1F08B6C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11D97-4A03-4F87-A9EE-C4CBAAE1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2A7CE-F6BC-4B70-877A-FC0E1A71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F0265-9F8C-47D6-9BB0-62B7119A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B82E3-6D78-4929-B253-7A0E652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BC91E-182E-4B40-988C-00A575A3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D5A2D-2EE0-40B4-B69D-A782011E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8F3-851B-49DC-8E1F-76261C24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4EBCE-BF28-4E8C-8415-DB63FDA9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BE14B-8166-436E-9379-9525032E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A9342-7C7A-40E6-834E-0F1B1447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FF7E-F43B-4BE0-B813-ABEA980E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00B5-91BA-40F9-A647-D41BD830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C31BE-2867-41C8-BC01-3CDFA44C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A85BB-8A34-4172-935D-40530F46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A4526-BB7E-4391-9106-B48A0C0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76D6-79DD-43A6-9F56-50F6AAD4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7CF73-F75F-4A67-869B-D043DF309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AA3B-9B97-472A-85DD-8A96DC6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00D89-A98C-428B-9BE7-E7A9B39C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83D6D-5E19-4E21-86AA-648BB53F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82CAC-05A2-4E31-91E4-96060EA5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721B2-0889-4E80-B7BA-7C9B282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7F277-8850-498A-899D-A8D00C12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906E-B45E-454A-B610-ACA2602C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C83B0-7360-4230-B0D1-D78BBE75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E0EC1-B6FB-4006-89E3-67AE08F3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BEA66-7D94-4249-A46D-E8A2C0E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87D75-0B99-4981-BE6E-EDA43258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0E04-E10F-4D06-ACB6-84BCB9AE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4F3C3-8B04-4DAE-9625-7655C07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847C8-8DD9-4CE6-816D-845C6EA3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4AD68-3804-41C4-8604-259B9E239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E2B22-6A32-429D-803D-577465D7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26258-DA0C-4A9B-89E6-CBE47328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66FD8-4A5E-4751-BDDC-278BA7C8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8E264-A82F-4A96-AD20-14A0155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3282D-6062-4687-8C44-90F472AE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F57B5-C05C-48D1-9D84-EF024AC6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8633D-68C0-4337-BAF2-0D86DB0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C31F-3FE0-4908-80C3-543290E8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18E7EA-DD4A-42AA-B7CB-DE8D5E4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065D0-3001-4210-BEEF-4E45104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C0524-64C7-424B-A5E0-2955E984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38A9D-8B59-473C-99D2-BD81D4E5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160EF-EE7E-4149-BDD7-CDC9B259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DBCB-127F-486C-9587-1696FCBF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658-F21E-4861-B9DA-B0A6ECA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A00D-2568-4D5A-988F-4BB378F5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7E5C-62E7-495F-815F-A40FD0A9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FD9A-208D-4335-9BAC-C256D742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615-78A9-4F56-97CF-3E863D5E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3D0D-9A0A-48A8-99C9-C393D47B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8B63-95BE-4636-94C1-4899112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2A5-C004-4A20-B017-AC4CC448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903C-1064-442C-B7EA-03DA6B24C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99C-F62E-4A91-9EAD-5DC8DABD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BB470-AA65-4158-875E-1E32AD86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72CDA-5205-4157-9DA3-C6D2D212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6E26-C21D-4059-84EC-3B950FC4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512B-CAAC-422E-A8ED-C07D3A74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F288-D86E-46C1-9689-79D0C693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8913-DBCB-4E1F-A84C-F39004AA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1D585-7554-4A4B-87F7-85CC71DD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8F050-075F-484E-97E7-AA3C6AA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C2B12-9B70-4F10-A0FF-58710C2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B9D40-2201-4820-B123-DB92DECD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3756D-EEBB-4195-BAAD-3A526D84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EF4C-EC33-40AE-B182-F8BE6D7D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2297C-6988-4139-BD45-D205DEE9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46AA-C7F4-4FE5-9F44-873B9739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A5EF6-0D5B-45E2-92C5-7E13710B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11BC-21A0-442A-9FDE-2485CCFB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FB1-5AA7-4C12-8B31-711F318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95595-8BBD-4FBA-937A-A9D0147A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E8C5-846A-46D1-8226-DD685080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A12CC-B7BC-474D-8C5C-90F2D90B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6690F-2DF1-4787-AFB3-B5EA0AA0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D394-A25B-4D25-B1F2-F9DB0C5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EA5D0-6834-4E8D-ABC3-8E3648B8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4A47-E001-4FD5-BDC8-18D4AE3C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E83D-01B8-42F5-9F13-E892F098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5663-6D65-4FE8-B416-73D4E3D3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D9E0-ECF7-4557-A98C-4ED2DB59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983-A4A5-4BB2-BFEE-294B08C9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0411C-FFD3-496B-8788-F3715067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0F269-FD83-43F9-BD73-E1B2841D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D01E7-6E24-4BE6-9E80-AFA35B6B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B8439-27B2-4CA0-9BD8-A6159D0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2FC7B-8FA6-4767-8915-179B7EDC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67038-08CE-42E0-B067-55D6697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C7B81-493B-4086-A1E9-EC38CA1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BCBB-E499-4555-8BF6-D9A676D2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10BCF-14B1-4428-8F19-560826F3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62A4F-ADE5-4CD9-94CF-C84A73EC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E10-AF33-4F8C-8945-D9934871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31411-34FC-4569-BE98-8CEF01FA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04FA2-4975-43D5-8386-D8DC2F11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B7F46-F308-4DF8-96F1-E2EC6991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027F2-2FE1-4C32-B873-22574EF3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938BA-E45D-40C6-8A68-F4F8F94A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A2A59-4459-47EC-9F7D-E845D43E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673A-CBBB-4566-B255-BC7DD376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895B-A5FF-4422-A133-FF871221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C52B0-9EAC-45F8-8F57-E99D03F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E8B72-4C53-430A-9B28-AFD155C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275E-B3E4-4C9E-81C7-90F61D8D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95411-79C3-4D40-818D-DC770B4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F6AE6-9C66-4436-A613-1003A2E5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38A02-EE25-493A-AEE6-C853A995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F8CDA-603A-42C9-A123-1A477B04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EEB2B-499A-4076-97DE-B190D61A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996D3-F68C-48F8-81D6-8E7226C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7A97-FBC3-44A9-B062-98F1D5DF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7B89F-4F23-4B0B-B403-20F96EB1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0D8D2-6D86-4771-9FED-6F87502A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D4343-026F-40CD-96D3-86FE6C3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730-70F5-4D24-9D8B-73BCBD01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54C70-8EDB-4B04-A291-9509CA1A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79589-6814-4236-9ACE-32DA6180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8EDD-1736-4A31-BF51-2BAC59E7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15C4A-3DFE-43FB-8E86-651A8E9C7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33A97-8388-4D03-94D3-3AD06225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CD894-AF64-4BED-9830-7514F0CA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9E047-FDBF-40BA-93C9-4832F6D5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DCA05-9459-4F91-A6C4-419276D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7E7D3-4BEB-4744-9269-04DCB2FB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56712-BDF2-47B3-92CE-63C405B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9C7-4C74-4D34-8E20-DB7149A3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0EBE8-D4E2-48DD-AD9B-45EC59F4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60130-B494-4E0C-B3F0-EDDC25D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F8B79-8F25-4CFE-A4B9-63EB8EE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2769C-4BDE-4444-83FE-6B25113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BAA5D-183C-4CE8-B66C-0DCDE340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9F641-23CD-49C8-992C-775403CE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9A2B-6150-448F-9991-27A92277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B5E7-8F98-4856-B7C9-36A8264C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6413F-3727-46CC-84EE-5CF79D07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055A-38E5-4634-8F90-63598CA3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5DB9-8FE2-42A1-9B94-0ACB1A7CEC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1A0-434F-42B3-87EF-766836FF57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27B-5DC6-400D-AA9E-5D34F154BF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EEF-71BC-495F-A7C4-038B5D6A46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29F5-CA5B-4E63-8BBB-1925F1EA7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204F-5997-4F5D-87BD-A71E56A464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AFB4-C4BE-47FC-837F-EC1E845947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A62B-7B17-43CE-A21B-DDCE92BDC5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E9F0-D75F-4413-9F3C-768AD37F16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4C61-A431-40B6-8F8D-6003CBA42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558-10C8-4546-AB60-7BC48CA8A6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5C9F-7E04-430E-B6D4-0D70DD2DD2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3"/>
          <p:cNvSpPr/>
          <p:nvPr/>
        </p:nvSpPr>
        <p:spPr>
          <a:xfrm>
            <a:off x="890640" y="119556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冀教版小学数学四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642960" y="214308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以上数的改写和求近似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4"/>
          <p:cNvSpPr/>
          <p:nvPr/>
        </p:nvSpPr>
        <p:spPr>
          <a:xfrm>
            <a:off x="214200" y="3071880"/>
            <a:ext cx="871560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以“亿”为单位的数改写成以“万”为单位的数时，去掉亿字，在数的末尾添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写上万字；把以“亿”为单位的数改写成以“个”为单位的数时，去掉亿字，在数的末尾添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组合 5"/>
          <p:cNvGrpSpPr/>
          <p:nvPr/>
        </p:nvGrpSpPr>
        <p:grpSpPr>
          <a:xfrm>
            <a:off x="128520" y="785880"/>
            <a:ext cx="1862280" cy="2000160"/>
            <a:chOff x="128520" y="785880"/>
            <a:chExt cx="1862280" cy="2000160"/>
          </a:xfrm>
        </p:grpSpPr>
        <p:pic>
          <p:nvPicPr>
            <p:cNvPr id="582" name="图片 4" descr="抠图、图片2.png"/>
            <p:cNvPicPr/>
            <p:nvPr/>
          </p:nvPicPr>
          <p:blipFill>
            <a:blip r:embed="rId1"/>
            <a:stretch/>
          </p:blipFill>
          <p:spPr>
            <a:xfrm>
              <a:off x="128520" y="785880"/>
              <a:ext cx="18622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Text Box 14"/>
            <p:cNvSpPr/>
            <p:nvPr/>
          </p:nvSpPr>
          <p:spPr>
            <a:xfrm>
              <a:off x="414360" y="1071360"/>
              <a:ext cx="135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归纳总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214200" y="3071880"/>
            <a:ext cx="87156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一个数改写成以“亿”为单位的数与把一个数改写成以“万”为单位的数基本相同，都采用“四舍五入”法，如果求得的数是近似数，要用“≈”连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组合 5"/>
          <p:cNvGrpSpPr/>
          <p:nvPr/>
        </p:nvGrpSpPr>
        <p:grpSpPr>
          <a:xfrm>
            <a:off x="128520" y="785880"/>
            <a:ext cx="1862280" cy="2000160"/>
            <a:chOff x="128520" y="785880"/>
            <a:chExt cx="1862280" cy="2000160"/>
          </a:xfrm>
        </p:grpSpPr>
        <p:pic>
          <p:nvPicPr>
            <p:cNvPr id="587" name="图片 4" descr="抠图、图片2.png"/>
            <p:cNvPicPr/>
            <p:nvPr/>
          </p:nvPicPr>
          <p:blipFill>
            <a:blip r:embed="rId1"/>
            <a:stretch/>
          </p:blipFill>
          <p:spPr>
            <a:xfrm>
              <a:off x="128520" y="785880"/>
              <a:ext cx="186228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Text Box 14"/>
            <p:cNvSpPr/>
            <p:nvPr/>
          </p:nvSpPr>
          <p:spPr>
            <a:xfrm>
              <a:off x="414360" y="1071360"/>
              <a:ext cx="1357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归纳总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3"/>
          <p:cNvSpPr/>
          <p:nvPr/>
        </p:nvSpPr>
        <p:spPr>
          <a:xfrm>
            <a:off x="714240" y="78588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一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7" descr="绿枫叶1.png"/>
          <p:cNvPicPr/>
          <p:nvPr/>
        </p:nvPicPr>
        <p:blipFill>
          <a:blip r:embed="rId1"/>
          <a:stretch/>
        </p:blipFill>
        <p:spPr>
          <a:xfrm>
            <a:off x="98280" y="809640"/>
            <a:ext cx="650880" cy="7048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6" descr="QQ截图20141121112328.jpg"/>
          <p:cNvPicPr/>
          <p:nvPr/>
        </p:nvPicPr>
        <p:blipFill>
          <a:blip r:embed="rId2"/>
          <a:stretch/>
        </p:blipFill>
        <p:spPr>
          <a:xfrm>
            <a:off x="3071880" y="1285920"/>
            <a:ext cx="5343480" cy="1752480"/>
          </a:xfrm>
          <a:prstGeom prst="rect">
            <a:avLst/>
          </a:prstGeom>
          <a:ln w="0">
            <a:noFill/>
          </a:ln>
        </p:spPr>
      </p:pic>
      <p:sp>
        <p:nvSpPr>
          <p:cNvPr id="593" name="TextBox 7"/>
          <p:cNvSpPr/>
          <p:nvPr/>
        </p:nvSpPr>
        <p:spPr>
          <a:xfrm>
            <a:off x="428760" y="3059280"/>
            <a:ext cx="84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张复印纸摞在一起大约有多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10" descr="WWX.jpg"/>
          <p:cNvPicPr/>
          <p:nvPr/>
        </p:nvPicPr>
        <p:blipFill>
          <a:blip r:embed="rId3"/>
          <a:stretch/>
        </p:blipFill>
        <p:spPr>
          <a:xfrm>
            <a:off x="714240" y="3643200"/>
            <a:ext cx="4500720" cy="2508480"/>
          </a:xfrm>
          <a:prstGeom prst="rect">
            <a:avLst/>
          </a:prstGeom>
          <a:ln w="0">
            <a:noFill/>
          </a:ln>
        </p:spPr>
      </p:pic>
      <p:sp>
        <p:nvSpPr>
          <p:cNvPr id="595" name="TextBox 11"/>
          <p:cNvSpPr/>
          <p:nvPr/>
        </p:nvSpPr>
        <p:spPr>
          <a:xfrm>
            <a:off x="5143680" y="414324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约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214200" y="7858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复印纸摞在一起大约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高。那么一万张呢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张呢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张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285840" y="20001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2643120" y="2000160"/>
            <a:ext cx="23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4714920" y="2000160"/>
            <a:ext cx="235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0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"/>
          <p:cNvPicPr/>
          <p:nvPr/>
        </p:nvPicPr>
        <p:blipFill>
          <a:blip r:embed="rId1"/>
          <a:stretch/>
        </p:blipFill>
        <p:spPr>
          <a:xfrm>
            <a:off x="804960" y="2643120"/>
            <a:ext cx="2555640" cy="36435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" descr=""/>
          <p:cNvPicPr/>
          <p:nvPr/>
        </p:nvPicPr>
        <p:blipFill>
          <a:blip r:embed="rId2"/>
          <a:stretch/>
        </p:blipFill>
        <p:spPr>
          <a:xfrm>
            <a:off x="3662280" y="3000240"/>
            <a:ext cx="498168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" descr="3练一练.png"/>
          <p:cNvPicPr/>
          <p:nvPr/>
        </p:nvPicPr>
        <p:blipFill>
          <a:blip r:embed="rId1"/>
          <a:stretch/>
        </p:blipFill>
        <p:spPr>
          <a:xfrm>
            <a:off x="60480" y="800280"/>
            <a:ext cx="2260440" cy="136656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4"/>
          <p:cNvSpPr/>
          <p:nvPr/>
        </p:nvSpPr>
        <p:spPr>
          <a:xfrm>
            <a:off x="285840" y="21430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横线上的数改写成以“亿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2"/>
          <a:stretch/>
        </p:blipFill>
        <p:spPr>
          <a:xfrm>
            <a:off x="714240" y="3316320"/>
            <a:ext cx="785844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14"/>
          <p:cNvSpPr/>
          <p:nvPr/>
        </p:nvSpPr>
        <p:spPr>
          <a:xfrm>
            <a:off x="285840" y="785880"/>
            <a:ext cx="86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世界人口过亿的国家改写成以“亿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4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巩固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4"/>
          <p:cNvSpPr/>
          <p:nvPr/>
        </p:nvSpPr>
        <p:spPr>
          <a:xfrm>
            <a:off x="285840" y="34225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失学儿童重返校园大约需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。如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人每人节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，这些钱大约可以资助多少名失学儿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285840" y="2602080"/>
            <a:ext cx="8553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合现实素材，经历把亿以上的数改写成以“万”或“亿”为单位的数并感受一亿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会用“四舍五人法”把一个大数改写成以“亿”或“万”为单位的近似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一亿的实际意义，了解数的改写在现实生活中的广泛应用，发展数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2971800" y="7174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8"/>
          <p:cNvGrpSpPr/>
          <p:nvPr/>
        </p:nvGrpSpPr>
        <p:grpSpPr>
          <a:xfrm>
            <a:off x="237960" y="1582560"/>
            <a:ext cx="8705880" cy="2867040"/>
            <a:chOff x="237960" y="1582560"/>
            <a:chExt cx="8705880" cy="2867040"/>
          </a:xfrm>
        </p:grpSpPr>
        <p:pic>
          <p:nvPicPr>
            <p:cNvPr id="528" name="Picture 1" descr=""/>
            <p:cNvPicPr/>
            <p:nvPr/>
          </p:nvPicPr>
          <p:blipFill>
            <a:blip r:embed="rId1"/>
            <a:stretch/>
          </p:blipFill>
          <p:spPr>
            <a:xfrm>
              <a:off x="237960" y="1582560"/>
              <a:ext cx="4305240" cy="28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2" descr=""/>
            <p:cNvPicPr/>
            <p:nvPr/>
          </p:nvPicPr>
          <p:blipFill>
            <a:blip r:embed="rId2"/>
            <a:stretch/>
          </p:blipFill>
          <p:spPr>
            <a:xfrm>
              <a:off x="4667040" y="1582560"/>
              <a:ext cx="4276800" cy="28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0" name="组合 4"/>
          <p:cNvGrpSpPr/>
          <p:nvPr/>
        </p:nvGrpSpPr>
        <p:grpSpPr>
          <a:xfrm>
            <a:off x="285840" y="4422600"/>
            <a:ext cx="8786880" cy="1068840"/>
            <a:chOff x="285840" y="4422600"/>
            <a:chExt cx="8786880" cy="1068840"/>
          </a:xfrm>
        </p:grpSpPr>
        <p:sp>
          <p:nvSpPr>
            <p:cNvPr id="531" name="TextBox 2"/>
            <p:cNvSpPr/>
            <p:nvPr/>
          </p:nvSpPr>
          <p:spPr>
            <a:xfrm>
              <a:off x="285840" y="4422600"/>
              <a:ext cx="4214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北京故宫的占地面积是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2000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"/>
            <p:cNvSpPr/>
            <p:nvPr/>
          </p:nvSpPr>
          <p:spPr>
            <a:xfrm>
              <a:off x="4714920" y="4422600"/>
              <a:ext cx="4357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北京圆明园的占地面积</a:t>
              </a:r>
              <a:r>
                <a:rPr b="1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3460000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平方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旧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3"/>
          <p:cNvSpPr/>
          <p:nvPr/>
        </p:nvSpPr>
        <p:spPr>
          <a:xfrm>
            <a:off x="142920" y="773280"/>
            <a:ext cx="90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横线上的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642960" y="584532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12"/>
          <p:cNvSpPr/>
          <p:nvPr/>
        </p:nvSpPr>
        <p:spPr>
          <a:xfrm>
            <a:off x="4857840" y="584532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6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3"/>
          <p:cNvSpPr/>
          <p:nvPr/>
        </p:nvSpPr>
        <p:spPr>
          <a:xfrm>
            <a:off x="714240" y="78588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图片 7" descr="绿枫叶1.png"/>
          <p:cNvPicPr/>
          <p:nvPr/>
        </p:nvPicPr>
        <p:blipFill>
          <a:blip r:embed="rId1"/>
          <a:stretch/>
        </p:blipFill>
        <p:spPr>
          <a:xfrm>
            <a:off x="92160" y="809640"/>
            <a:ext cx="663480" cy="704880"/>
          </a:xfrm>
          <a:prstGeom prst="rect">
            <a:avLst/>
          </a:prstGeom>
          <a:ln w="0">
            <a:noFill/>
          </a:ln>
        </p:spPr>
      </p:pic>
      <p:sp>
        <p:nvSpPr>
          <p:cNvPr id="539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4314600" cy="25524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4643280" y="1866960"/>
            <a:ext cx="428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国全年研究与实验发展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其中基础研究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285840" y="492912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何把整亿的数改写成以“亿”为单位的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3"/>
          <p:cNvSpPr/>
          <p:nvPr/>
        </p:nvSpPr>
        <p:spPr>
          <a:xfrm>
            <a:off x="714240" y="785880"/>
            <a:ext cx="557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图片 7" descr="绿枫叶1.png"/>
          <p:cNvPicPr/>
          <p:nvPr/>
        </p:nvPicPr>
        <p:blipFill>
          <a:blip r:embed="rId1"/>
          <a:stretch/>
        </p:blipFill>
        <p:spPr>
          <a:xfrm>
            <a:off x="92160" y="809640"/>
            <a:ext cx="663480" cy="704880"/>
          </a:xfrm>
          <a:prstGeom prst="rect">
            <a:avLst/>
          </a:prstGeom>
          <a:ln w="0">
            <a:noFill/>
          </a:ln>
        </p:spPr>
      </p:pic>
      <p:sp>
        <p:nvSpPr>
          <p:cNvPr id="545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285840" y="1714680"/>
            <a:ext cx="4314600" cy="25524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7"/>
          <p:cNvSpPr/>
          <p:nvPr/>
        </p:nvSpPr>
        <p:spPr>
          <a:xfrm>
            <a:off x="4643280" y="1866960"/>
            <a:ext cx="428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国全年研究与实验发展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其中基础研究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8" descr="抠图、议一议.png"/>
          <p:cNvPicPr/>
          <p:nvPr/>
        </p:nvPicPr>
        <p:blipFill>
          <a:blip r:embed="rId3"/>
          <a:stretch/>
        </p:blipFill>
        <p:spPr>
          <a:xfrm>
            <a:off x="285840" y="4357800"/>
            <a:ext cx="2124000" cy="1266840"/>
          </a:xfrm>
          <a:prstGeom prst="rect">
            <a:avLst/>
          </a:prstGeom>
          <a:ln w="0">
            <a:noFill/>
          </a:ln>
        </p:spPr>
      </p:pic>
      <p:sp>
        <p:nvSpPr>
          <p:cNvPr id="549" name="TextBox 9"/>
          <p:cNvSpPr/>
          <p:nvPr/>
        </p:nvSpPr>
        <p:spPr>
          <a:xfrm>
            <a:off x="611280" y="544500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以“亿”为单位的数改写成以“万”或“个”为单位的数，怎样改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4314600" cy="2552760"/>
          </a:xfrm>
          <a:prstGeom prst="rect">
            <a:avLst/>
          </a:prstGeom>
          <a:ln w="0">
            <a:noFill/>
          </a:ln>
        </p:spPr>
      </p:pic>
      <p:sp>
        <p:nvSpPr>
          <p:cNvPr id="552" name="TextBox 5"/>
          <p:cNvSpPr/>
          <p:nvPr/>
        </p:nvSpPr>
        <p:spPr>
          <a:xfrm>
            <a:off x="4643280" y="1009800"/>
            <a:ext cx="428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国全年研究与实验发展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其中基础研究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6"/>
          <p:cNvSpPr/>
          <p:nvPr/>
        </p:nvSpPr>
        <p:spPr>
          <a:xfrm>
            <a:off x="571680" y="3786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改写成以“个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"/>
          <p:cNvSpPr/>
          <p:nvPr/>
        </p:nvSpPr>
        <p:spPr>
          <a:xfrm>
            <a:off x="857160" y="4487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10 000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8"/>
          <p:cNvSpPr/>
          <p:nvPr/>
        </p:nvSpPr>
        <p:spPr>
          <a:xfrm>
            <a:off x="1000080" y="52023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96 0000 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3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4314600" cy="255276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4643280" y="1009800"/>
            <a:ext cx="428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我国全年研究与实验发展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，其中基础研究经费支出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6"/>
          <p:cNvSpPr/>
          <p:nvPr/>
        </p:nvSpPr>
        <p:spPr>
          <a:xfrm>
            <a:off x="571680" y="378612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改写成以“万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857160" y="44877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610 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"/>
          <p:cNvSpPr/>
          <p:nvPr/>
        </p:nvSpPr>
        <p:spPr>
          <a:xfrm>
            <a:off x="1000080" y="520236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＝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96 000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Box 3"/>
          <p:cNvSpPr/>
          <p:nvPr/>
        </p:nvSpPr>
        <p:spPr>
          <a:xfrm>
            <a:off x="714240" y="785880"/>
            <a:ext cx="62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太阳系中八大行星与太阳的平均距离改写成以“万”或“亿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7" descr="绿枫叶1.png"/>
          <p:cNvPicPr/>
          <p:nvPr/>
        </p:nvPicPr>
        <p:blipFill>
          <a:blip r:embed="rId1"/>
          <a:stretch/>
        </p:blipFill>
        <p:spPr>
          <a:xfrm>
            <a:off x="98280" y="809640"/>
            <a:ext cx="650880" cy="704880"/>
          </a:xfrm>
          <a:prstGeom prst="rect">
            <a:avLst/>
          </a:prstGeom>
          <a:ln w="0">
            <a:noFill/>
          </a:ln>
        </p:spPr>
      </p:pic>
      <p:sp>
        <p:nvSpPr>
          <p:cNvPr id="564" name="TextBox 5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2"/>
          <a:stretch/>
        </p:blipFill>
        <p:spPr>
          <a:xfrm>
            <a:off x="6858000" y="752400"/>
            <a:ext cx="2166840" cy="60721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585792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Box 3"/>
          <p:cNvSpPr/>
          <p:nvPr/>
        </p:nvSpPr>
        <p:spPr>
          <a:xfrm>
            <a:off x="714240" y="785880"/>
            <a:ext cx="84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太阳系中八大行星与太阳的平均距离改写成以“万”或“亿”为单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7786800" cy="480528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7" descr="绿枫叶1.png"/>
          <p:cNvPicPr/>
          <p:nvPr/>
        </p:nvPicPr>
        <p:blipFill>
          <a:blip r:embed="rId2"/>
          <a:stretch/>
        </p:blipFill>
        <p:spPr>
          <a:xfrm>
            <a:off x="98280" y="809640"/>
            <a:ext cx="650880" cy="704880"/>
          </a:xfrm>
          <a:prstGeom prst="rect">
            <a:avLst/>
          </a:prstGeom>
          <a:ln w="0">
            <a:noFill/>
          </a:ln>
        </p:spPr>
      </p:pic>
      <p:sp>
        <p:nvSpPr>
          <p:cNvPr id="570" name="TextBox 6"/>
          <p:cNvSpPr/>
          <p:nvPr/>
        </p:nvSpPr>
        <p:spPr>
          <a:xfrm>
            <a:off x="85680" y="6048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7"/>
          <p:cNvSpPr/>
          <p:nvPr/>
        </p:nvSpPr>
        <p:spPr>
          <a:xfrm>
            <a:off x="5718240" y="282420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79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8"/>
          <p:cNvSpPr/>
          <p:nvPr/>
        </p:nvSpPr>
        <p:spPr>
          <a:xfrm>
            <a:off x="5572080" y="328608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82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"/>
          <p:cNvSpPr/>
          <p:nvPr/>
        </p:nvSpPr>
        <p:spPr>
          <a:xfrm>
            <a:off x="5572080" y="376236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96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0"/>
          <p:cNvSpPr/>
          <p:nvPr/>
        </p:nvSpPr>
        <p:spPr>
          <a:xfrm>
            <a:off x="5572080" y="424008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97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1"/>
          <p:cNvSpPr/>
          <p:nvPr/>
        </p:nvSpPr>
        <p:spPr>
          <a:xfrm>
            <a:off x="5572080" y="4714920"/>
            <a:ext cx="28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783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2"/>
          <p:cNvSpPr/>
          <p:nvPr/>
        </p:nvSpPr>
        <p:spPr>
          <a:xfrm>
            <a:off x="5432400" y="5168880"/>
            <a:ext cx="29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27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3"/>
          <p:cNvSpPr/>
          <p:nvPr/>
        </p:nvSpPr>
        <p:spPr>
          <a:xfrm>
            <a:off x="5429160" y="5646600"/>
            <a:ext cx="29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709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9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4"/>
          <p:cNvSpPr/>
          <p:nvPr/>
        </p:nvSpPr>
        <p:spPr>
          <a:xfrm>
            <a:off x="5429160" y="6119640"/>
            <a:ext cx="32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040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5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09:41:56Z</dcterms:created>
  <dc:creator/>
  <dc:description/>
  <cp:keywords/>
  <dc:language>en-US</dc:language>
  <cp:lastModifiedBy/>
  <dcterms:modified xsi:type="dcterms:W3CDTF">2016-12-02T16:20:40Z</dcterms:modified>
  <cp:revision>5</cp:revision>
  <dc:subject/>
  <dc:title/>
</cp:coreProperties>
</file>