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4.png" ContentType="image/png"/>
  <Override PartName="/ppt/media/image9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469FB-BFAC-4D59-A9A5-D0452E4AAAC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B02B8-A9F1-40FF-898F-F86A969CB8D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8FD4D-CA60-4636-A1F3-8621A13CBCE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9D874-F1A4-48E1-9D43-40BD783E762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B1C1E-508E-4A71-8600-535849D91A9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20821-06F5-4DD8-9258-CCF83C4BA2D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C1CCA-1D24-456B-B8EE-16DC80E90BC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5AD1E-1CDC-4C40-A92F-FCF7C9D9984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6356F-643E-409A-9B0E-5EEC973C790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47FBB-46AC-4DF0-81BB-6DDA4415A58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028D5-DBAB-449F-8918-E648D2D55E0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CD7B1-1B9C-4985-A1E7-545F84C0396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CA9BD-2305-4442-AA6E-FB8D3322253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FD6B8-9692-4F25-A8F6-FC5F57472F9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1C02-A4C0-409B-8ABB-96287334E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4757-5E06-4A09-B5BD-4D75DD3A0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9668-3D66-4685-A2E3-D556E356C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4BB4-995F-473D-AA8C-4EB837B89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7E79-4114-455B-9E31-DEF587C8F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97EE-E75F-4179-A918-BC0FBC6B3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CEC3-7814-44A9-BC94-09DA60353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8DFE-4316-4051-9171-FF89ADC9F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B4D9-7EA1-424F-969C-AFA2DDF53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EB2A-25A8-47D5-A186-AE0A21B12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FE38-91D5-424C-A3F6-15EEF2D45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1E81-5CEB-4665-A0A5-111147CC5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http://cai.7cxk.net 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中小学课件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1C839-85F5-4278-90D4-2B5FC70B3F7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3"/>
          <p:cNvSpPr/>
          <p:nvPr/>
        </p:nvSpPr>
        <p:spPr>
          <a:xfrm>
            <a:off x="890640" y="1195560"/>
            <a:ext cx="43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冀教版小学数学四年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642960" y="2625840"/>
            <a:ext cx="77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认 识 垂 线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2500200" y="1566720"/>
            <a:ext cx="4295880" cy="2648160"/>
          </a:xfrm>
          <a:prstGeom prst="rect">
            <a:avLst/>
          </a:prstGeom>
          <a:ln w="0">
            <a:noFill/>
          </a:ln>
        </p:spPr>
      </p:pic>
      <p:sp>
        <p:nvSpPr>
          <p:cNvPr id="186" name="TextBox 4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探究新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3"/>
          <p:cNvSpPr/>
          <p:nvPr/>
        </p:nvSpPr>
        <p:spPr>
          <a:xfrm>
            <a:off x="714240" y="844560"/>
            <a:ext cx="835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图是直线外的点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向这条直线画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条线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图片 7" descr="绿枫叶1.png"/>
          <p:cNvPicPr/>
          <p:nvPr/>
        </p:nvPicPr>
        <p:blipFill>
          <a:blip r:embed="rId2"/>
          <a:stretch/>
        </p:blipFill>
        <p:spPr>
          <a:xfrm>
            <a:off x="92160" y="801720"/>
            <a:ext cx="663480" cy="720720"/>
          </a:xfrm>
          <a:prstGeom prst="rect">
            <a:avLst/>
          </a:prstGeom>
          <a:ln w="0">
            <a:noFill/>
          </a:ln>
        </p:spPr>
      </p:pic>
      <p:grpSp>
        <p:nvGrpSpPr>
          <p:cNvPr id="189" name="组合 12"/>
          <p:cNvGrpSpPr/>
          <p:nvPr/>
        </p:nvGrpSpPr>
        <p:grpSpPr>
          <a:xfrm>
            <a:off x="1428840" y="4643280"/>
            <a:ext cx="2500200" cy="581400"/>
            <a:chOff x="1428840" y="4643280"/>
            <a:chExt cx="2500200" cy="581400"/>
          </a:xfrm>
        </p:grpSpPr>
        <p:sp>
          <p:nvSpPr>
            <p:cNvPr id="190" name="TextBox 3"/>
            <p:cNvSpPr/>
            <p:nvPr/>
          </p:nvSpPr>
          <p:spPr>
            <a:xfrm>
              <a:off x="1428840" y="4643280"/>
              <a:ext cx="1643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AB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直接连接符 11"/>
            <p:cNvSpPr/>
            <p:nvPr/>
          </p:nvSpPr>
          <p:spPr>
            <a:xfrm flipV="1">
              <a:off x="2286000" y="5141880"/>
              <a:ext cx="16430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组合 13"/>
          <p:cNvGrpSpPr/>
          <p:nvPr/>
        </p:nvGrpSpPr>
        <p:grpSpPr>
          <a:xfrm>
            <a:off x="5000760" y="4643280"/>
            <a:ext cx="2500200" cy="581400"/>
            <a:chOff x="5000760" y="4643280"/>
            <a:chExt cx="2500200" cy="581400"/>
          </a:xfrm>
        </p:grpSpPr>
        <p:sp>
          <p:nvSpPr>
            <p:cNvPr id="193" name="TextBox 3"/>
            <p:cNvSpPr/>
            <p:nvPr/>
          </p:nvSpPr>
          <p:spPr>
            <a:xfrm>
              <a:off x="5000760" y="4643280"/>
              <a:ext cx="1643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AC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直接连接符 15"/>
            <p:cNvSpPr/>
            <p:nvPr/>
          </p:nvSpPr>
          <p:spPr>
            <a:xfrm flipV="1">
              <a:off x="5857920" y="5141880"/>
              <a:ext cx="16430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组合 16"/>
          <p:cNvGrpSpPr/>
          <p:nvPr/>
        </p:nvGrpSpPr>
        <p:grpSpPr>
          <a:xfrm>
            <a:off x="1428840" y="5643720"/>
            <a:ext cx="2500200" cy="581400"/>
            <a:chOff x="1428840" y="5643720"/>
            <a:chExt cx="2500200" cy="581400"/>
          </a:xfrm>
        </p:grpSpPr>
        <p:sp>
          <p:nvSpPr>
            <p:cNvPr id="196" name="TextBox 3"/>
            <p:cNvSpPr/>
            <p:nvPr/>
          </p:nvSpPr>
          <p:spPr>
            <a:xfrm>
              <a:off x="1428840" y="5643720"/>
              <a:ext cx="1643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AD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直接连接符 18"/>
            <p:cNvSpPr/>
            <p:nvPr/>
          </p:nvSpPr>
          <p:spPr>
            <a:xfrm flipV="1">
              <a:off x="2286000" y="6141960"/>
              <a:ext cx="16430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组合 19"/>
          <p:cNvGrpSpPr/>
          <p:nvPr/>
        </p:nvGrpSpPr>
        <p:grpSpPr>
          <a:xfrm>
            <a:off x="5000760" y="5643720"/>
            <a:ext cx="2500200" cy="581400"/>
            <a:chOff x="5000760" y="5643720"/>
            <a:chExt cx="2500200" cy="581400"/>
          </a:xfrm>
        </p:grpSpPr>
        <p:sp>
          <p:nvSpPr>
            <p:cNvPr id="199" name="TextBox 3"/>
            <p:cNvSpPr/>
            <p:nvPr/>
          </p:nvSpPr>
          <p:spPr>
            <a:xfrm>
              <a:off x="5000760" y="5643720"/>
              <a:ext cx="1643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AE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直接连接符 21"/>
            <p:cNvSpPr/>
            <p:nvPr/>
          </p:nvSpPr>
          <p:spPr>
            <a:xfrm flipV="1">
              <a:off x="5857920" y="6141960"/>
              <a:ext cx="16430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1" name="图片 22" descr="直尺1.jpg"/>
          <p:cNvPicPr/>
          <p:nvPr/>
        </p:nvPicPr>
        <p:blipFill>
          <a:blip r:embed="rId3"/>
          <a:stretch/>
        </p:blipFill>
        <p:spPr>
          <a:xfrm rot="7128600">
            <a:off x="-1368720" y="4109040"/>
            <a:ext cx="6833880" cy="914400"/>
          </a:xfrm>
          <a:prstGeom prst="rect">
            <a:avLst/>
          </a:prstGeom>
          <a:ln w="0">
            <a:noFill/>
          </a:ln>
        </p:spPr>
      </p:pic>
      <p:sp>
        <p:nvSpPr>
          <p:cNvPr id="202" name="TextBox 23"/>
          <p:cNvSpPr/>
          <p:nvPr/>
        </p:nvSpPr>
        <p:spPr>
          <a:xfrm>
            <a:off x="2428920" y="4572000"/>
            <a:ext cx="128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.3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图片 24" descr="直尺1.jpg"/>
          <p:cNvPicPr/>
          <p:nvPr/>
        </p:nvPicPr>
        <p:blipFill>
          <a:blip r:embed="rId4"/>
          <a:stretch/>
        </p:blipFill>
        <p:spPr>
          <a:xfrm>
            <a:off x="3097080" y="1765440"/>
            <a:ext cx="914400" cy="6833880"/>
          </a:xfrm>
          <a:prstGeom prst="rect">
            <a:avLst/>
          </a:prstGeom>
          <a:ln w="0">
            <a:noFill/>
          </a:ln>
        </p:spPr>
      </p:pic>
      <p:sp>
        <p:nvSpPr>
          <p:cNvPr id="204" name="TextBox 25"/>
          <p:cNvSpPr/>
          <p:nvPr/>
        </p:nvSpPr>
        <p:spPr>
          <a:xfrm>
            <a:off x="6072120" y="4576680"/>
            <a:ext cx="128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.9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图片 26" descr="直尺1.jpg"/>
          <p:cNvPicPr/>
          <p:nvPr/>
        </p:nvPicPr>
        <p:blipFill>
          <a:blip r:embed="rId5"/>
          <a:stretch/>
        </p:blipFill>
        <p:spPr>
          <a:xfrm rot="3102600">
            <a:off x="2259000" y="4322520"/>
            <a:ext cx="6832440" cy="914400"/>
          </a:xfrm>
          <a:prstGeom prst="rect">
            <a:avLst/>
          </a:prstGeom>
          <a:ln w="0">
            <a:noFill/>
          </a:ln>
        </p:spPr>
      </p:pic>
      <p:sp>
        <p:nvSpPr>
          <p:cNvPr id="206" name="TextBox 27"/>
          <p:cNvSpPr/>
          <p:nvPr/>
        </p:nvSpPr>
        <p:spPr>
          <a:xfrm>
            <a:off x="2406600" y="5559480"/>
            <a:ext cx="128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.7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图片 28" descr="直尺1.jpg"/>
          <p:cNvPicPr/>
          <p:nvPr/>
        </p:nvPicPr>
        <p:blipFill>
          <a:blip r:embed="rId6"/>
          <a:stretch/>
        </p:blipFill>
        <p:spPr>
          <a:xfrm rot="2448000">
            <a:off x="2771640" y="3963960"/>
            <a:ext cx="6832800" cy="914400"/>
          </a:xfrm>
          <a:prstGeom prst="rect">
            <a:avLst/>
          </a:prstGeom>
          <a:ln w="0">
            <a:noFill/>
          </a:ln>
        </p:spPr>
      </p:pic>
      <p:sp>
        <p:nvSpPr>
          <p:cNvPr id="208" name="TextBox 29"/>
          <p:cNvSpPr/>
          <p:nvPr/>
        </p:nvSpPr>
        <p:spPr>
          <a:xfrm>
            <a:off x="6072120" y="5559480"/>
            <a:ext cx="128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.4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2500200" y="1566720"/>
            <a:ext cx="4295880" cy="2648160"/>
          </a:xfrm>
          <a:prstGeom prst="rect">
            <a:avLst/>
          </a:prstGeom>
          <a:ln w="0">
            <a:noFill/>
          </a:ln>
        </p:spPr>
      </p:pic>
      <p:sp>
        <p:nvSpPr>
          <p:cNvPr id="210" name="TextBox 4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探究新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3"/>
          <p:cNvSpPr/>
          <p:nvPr/>
        </p:nvSpPr>
        <p:spPr>
          <a:xfrm>
            <a:off x="714240" y="844560"/>
            <a:ext cx="835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图是直线外的点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向这条直线画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条线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图片 7" descr="绿枫叶1.png"/>
          <p:cNvPicPr/>
          <p:nvPr/>
        </p:nvPicPr>
        <p:blipFill>
          <a:blip r:embed="rId2"/>
          <a:stretch/>
        </p:blipFill>
        <p:spPr>
          <a:xfrm>
            <a:off x="92160" y="801720"/>
            <a:ext cx="663480" cy="720720"/>
          </a:xfrm>
          <a:prstGeom prst="rect">
            <a:avLst/>
          </a:prstGeom>
          <a:ln w="0">
            <a:noFill/>
          </a:ln>
        </p:spPr>
      </p:pic>
      <p:sp>
        <p:nvSpPr>
          <p:cNvPr id="213" name="TextBox 3"/>
          <p:cNvSpPr/>
          <p:nvPr/>
        </p:nvSpPr>
        <p:spPr>
          <a:xfrm>
            <a:off x="571680" y="4500720"/>
            <a:ext cx="7929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直线外一点到这条直线所画垂直线段的长度，叫做这点倒直线的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距离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图片 1" descr="3练一练.png"/>
          <p:cNvPicPr/>
          <p:nvPr/>
        </p:nvPicPr>
        <p:blipFill>
          <a:blip r:embed="rId1"/>
          <a:stretch/>
        </p:blipFill>
        <p:spPr>
          <a:xfrm>
            <a:off x="60480" y="800280"/>
            <a:ext cx="2260440" cy="136656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14"/>
          <p:cNvSpPr/>
          <p:nvPr/>
        </p:nvSpPr>
        <p:spPr>
          <a:xfrm>
            <a:off x="285840" y="2208240"/>
            <a:ext cx="778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指出下面图中互相垂直的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4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巩固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2" descr=""/>
          <p:cNvPicPr/>
          <p:nvPr/>
        </p:nvPicPr>
        <p:blipFill>
          <a:blip r:embed="rId2"/>
          <a:stretch/>
        </p:blipFill>
        <p:spPr>
          <a:xfrm>
            <a:off x="79200" y="3067200"/>
            <a:ext cx="8929800" cy="1120680"/>
          </a:xfrm>
          <a:prstGeom prst="rect">
            <a:avLst/>
          </a:prstGeom>
          <a:ln w="0">
            <a:noFill/>
          </a:ln>
        </p:spPr>
      </p:pic>
      <p:grpSp>
        <p:nvGrpSpPr>
          <p:cNvPr id="218" name="组合 7"/>
          <p:cNvGrpSpPr/>
          <p:nvPr/>
        </p:nvGrpSpPr>
        <p:grpSpPr>
          <a:xfrm>
            <a:off x="928800" y="3181320"/>
            <a:ext cx="620640" cy="450720"/>
            <a:chOff x="928800" y="3181320"/>
            <a:chExt cx="620640" cy="450720"/>
          </a:xfrm>
        </p:grpSpPr>
        <p:sp>
          <p:nvSpPr>
            <p:cNvPr id="219" name="直接连接符 8"/>
            <p:cNvSpPr/>
            <p:nvPr/>
          </p:nvSpPr>
          <p:spPr>
            <a:xfrm flipH="1">
              <a:off x="928800" y="3192120"/>
              <a:ext cx="6098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直接连接符 9"/>
            <p:cNvSpPr/>
            <p:nvPr/>
          </p:nvSpPr>
          <p:spPr>
            <a:xfrm flipV="1">
              <a:off x="1549440" y="3181320"/>
              <a:ext cx="0" cy="450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组合 10"/>
          <p:cNvGrpSpPr/>
          <p:nvPr/>
        </p:nvGrpSpPr>
        <p:grpSpPr>
          <a:xfrm>
            <a:off x="1530000" y="3192480"/>
            <a:ext cx="609480" cy="450720"/>
            <a:chOff x="1530000" y="3192480"/>
            <a:chExt cx="609480" cy="450720"/>
          </a:xfrm>
        </p:grpSpPr>
        <p:sp>
          <p:nvSpPr>
            <p:cNvPr id="222" name="直接连接符 11"/>
            <p:cNvSpPr/>
            <p:nvPr/>
          </p:nvSpPr>
          <p:spPr>
            <a:xfrm flipH="1">
              <a:off x="1530000" y="31924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直接连接符 12"/>
            <p:cNvSpPr/>
            <p:nvPr/>
          </p:nvSpPr>
          <p:spPr>
            <a:xfrm flipV="1">
              <a:off x="1541160" y="3192480"/>
              <a:ext cx="1440" cy="450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组合 13"/>
          <p:cNvGrpSpPr/>
          <p:nvPr/>
        </p:nvGrpSpPr>
        <p:grpSpPr>
          <a:xfrm>
            <a:off x="7140600" y="3557520"/>
            <a:ext cx="608040" cy="451080"/>
            <a:chOff x="7140600" y="3557520"/>
            <a:chExt cx="608040" cy="451080"/>
          </a:xfrm>
        </p:grpSpPr>
        <p:sp>
          <p:nvSpPr>
            <p:cNvPr id="225" name="直接连接符 14"/>
            <p:cNvSpPr/>
            <p:nvPr/>
          </p:nvSpPr>
          <p:spPr>
            <a:xfrm>
              <a:off x="7140600" y="4008600"/>
              <a:ext cx="6080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直接连接符 15"/>
            <p:cNvSpPr/>
            <p:nvPr/>
          </p:nvSpPr>
          <p:spPr>
            <a:xfrm flipH="1">
              <a:off x="7732800" y="3557520"/>
              <a:ext cx="1440" cy="45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组合 16"/>
          <p:cNvGrpSpPr/>
          <p:nvPr/>
        </p:nvGrpSpPr>
        <p:grpSpPr>
          <a:xfrm>
            <a:off x="7737480" y="3571920"/>
            <a:ext cx="620640" cy="450720"/>
            <a:chOff x="7737480" y="3571920"/>
            <a:chExt cx="620640" cy="450720"/>
          </a:xfrm>
        </p:grpSpPr>
        <p:sp>
          <p:nvSpPr>
            <p:cNvPr id="228" name="直接连接符 17"/>
            <p:cNvSpPr/>
            <p:nvPr/>
          </p:nvSpPr>
          <p:spPr>
            <a:xfrm>
              <a:off x="7748280" y="4011840"/>
              <a:ext cx="6098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直接连接符 18"/>
            <p:cNvSpPr/>
            <p:nvPr/>
          </p:nvSpPr>
          <p:spPr>
            <a:xfrm>
              <a:off x="7737480" y="3571920"/>
              <a:ext cx="0" cy="450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14"/>
          <p:cNvSpPr/>
          <p:nvPr/>
        </p:nvSpPr>
        <p:spPr>
          <a:xfrm>
            <a:off x="285840" y="857160"/>
            <a:ext cx="778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图中，小明如果从点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横过马路，怎样走路线最短？为什么？把最短的路线画出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4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巩固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5429160" y="2071800"/>
            <a:ext cx="30196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"/>
          <p:cNvSpPr/>
          <p:nvPr/>
        </p:nvSpPr>
        <p:spPr>
          <a:xfrm>
            <a:off x="285840" y="2602080"/>
            <a:ext cx="8553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结合具体事例，经历了解两条直线相交（包括垂直）关系的过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知道平面上两条直线相交成四个角，有一个交点；了解两条直线相互垂直的含义，认识垂线和点到直线的距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积极参与数学活动，获得积极的学习体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2971800" y="717480"/>
            <a:ext cx="304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教学目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68400" y="2374920"/>
            <a:ext cx="9001080" cy="212580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探究新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图片 7" descr="QQ截图20141127095243.png"/>
          <p:cNvPicPr/>
          <p:nvPr/>
        </p:nvPicPr>
        <p:blipFill>
          <a:blip r:embed="rId2"/>
          <a:stretch/>
        </p:blipFill>
        <p:spPr>
          <a:xfrm>
            <a:off x="115920" y="785880"/>
            <a:ext cx="2071800" cy="1120680"/>
          </a:xfrm>
          <a:prstGeom prst="rect">
            <a:avLst/>
          </a:prstGeom>
          <a:ln w="0">
            <a:noFill/>
          </a:ln>
        </p:spPr>
      </p:pic>
      <p:sp>
        <p:nvSpPr>
          <p:cNvPr id="57" name="TextBox 3"/>
          <p:cNvSpPr/>
          <p:nvPr/>
        </p:nvSpPr>
        <p:spPr>
          <a:xfrm>
            <a:off x="357120" y="1779480"/>
            <a:ext cx="835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察下面的三幅图，你发现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直接连接符 10"/>
          <p:cNvSpPr/>
          <p:nvPr/>
        </p:nvSpPr>
        <p:spPr>
          <a:xfrm>
            <a:off x="642960" y="4714920"/>
            <a:ext cx="1285920" cy="1143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直接连接符 11"/>
          <p:cNvSpPr/>
          <p:nvPr/>
        </p:nvSpPr>
        <p:spPr>
          <a:xfrm flipV="1">
            <a:off x="500040" y="4714560"/>
            <a:ext cx="1428840" cy="1143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直接连接符 12"/>
          <p:cNvSpPr/>
          <p:nvPr/>
        </p:nvSpPr>
        <p:spPr>
          <a:xfrm>
            <a:off x="3642480" y="4572000"/>
            <a:ext cx="785880" cy="1571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直接连接符 13"/>
          <p:cNvSpPr/>
          <p:nvPr/>
        </p:nvSpPr>
        <p:spPr>
          <a:xfrm flipH="1">
            <a:off x="3571560" y="4714920"/>
            <a:ext cx="857160" cy="142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接连接符 14"/>
          <p:cNvSpPr/>
          <p:nvPr/>
        </p:nvSpPr>
        <p:spPr>
          <a:xfrm>
            <a:off x="6286680" y="5454720"/>
            <a:ext cx="22860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直接连接符 15"/>
          <p:cNvSpPr/>
          <p:nvPr/>
        </p:nvSpPr>
        <p:spPr>
          <a:xfrm flipH="1">
            <a:off x="7429680" y="4500720"/>
            <a:ext cx="1440" cy="1901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直接箭头连接符 17"/>
          <p:cNvCxnSpPr/>
          <p:nvPr/>
        </p:nvCxnSpPr>
        <p:spPr>
          <a:xfrm flipH="1" flipV="1">
            <a:off x="1323360" y="5252400"/>
            <a:ext cx="819720" cy="17676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65" name="TextBox 18"/>
          <p:cNvSpPr/>
          <p:nvPr/>
        </p:nvSpPr>
        <p:spPr>
          <a:xfrm>
            <a:off x="1928880" y="528336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交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椭圆 29"/>
          <p:cNvSpPr/>
          <p:nvPr/>
        </p:nvSpPr>
        <p:spPr>
          <a:xfrm>
            <a:off x="1181160" y="5181480"/>
            <a:ext cx="142920" cy="142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椭圆 30"/>
          <p:cNvSpPr/>
          <p:nvPr/>
        </p:nvSpPr>
        <p:spPr>
          <a:xfrm>
            <a:off x="3973680" y="5283360"/>
            <a:ext cx="142560" cy="1425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椭圆 31"/>
          <p:cNvSpPr/>
          <p:nvPr/>
        </p:nvSpPr>
        <p:spPr>
          <a:xfrm>
            <a:off x="7358040" y="5384880"/>
            <a:ext cx="142920" cy="142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4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探究新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428760" y="2357280"/>
            <a:ext cx="835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条直线相交成几个角，有几个交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组合 15"/>
          <p:cNvGrpSpPr/>
          <p:nvPr/>
        </p:nvGrpSpPr>
        <p:grpSpPr>
          <a:xfrm>
            <a:off x="1214280" y="3241800"/>
            <a:ext cx="6072480" cy="1901880"/>
            <a:chOff x="1214280" y="3241800"/>
            <a:chExt cx="6072480" cy="1901880"/>
          </a:xfrm>
        </p:grpSpPr>
        <p:sp>
          <p:nvSpPr>
            <p:cNvPr id="72" name="直接连接符 6"/>
            <p:cNvSpPr/>
            <p:nvPr/>
          </p:nvSpPr>
          <p:spPr>
            <a:xfrm>
              <a:off x="1356840" y="3643200"/>
              <a:ext cx="1285920" cy="1143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直接连接符 7"/>
            <p:cNvSpPr/>
            <p:nvPr/>
          </p:nvSpPr>
          <p:spPr>
            <a:xfrm flipV="1">
              <a:off x="1214280" y="3642840"/>
              <a:ext cx="1428840" cy="1143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直接连接符 8"/>
            <p:cNvSpPr/>
            <p:nvPr/>
          </p:nvSpPr>
          <p:spPr>
            <a:xfrm>
              <a:off x="3642480" y="3456000"/>
              <a:ext cx="785880" cy="1571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直接连接符 9"/>
            <p:cNvSpPr/>
            <p:nvPr/>
          </p:nvSpPr>
          <p:spPr>
            <a:xfrm flipH="1">
              <a:off x="3571560" y="3598920"/>
              <a:ext cx="857160" cy="1428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直接连接符 10"/>
            <p:cNvSpPr/>
            <p:nvPr/>
          </p:nvSpPr>
          <p:spPr>
            <a:xfrm>
              <a:off x="5000760" y="4195800"/>
              <a:ext cx="22860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直接连接符 11"/>
            <p:cNvSpPr/>
            <p:nvPr/>
          </p:nvSpPr>
          <p:spPr>
            <a:xfrm flipH="1">
              <a:off x="6143760" y="3241800"/>
              <a:ext cx="1440" cy="1901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椭圆 16"/>
          <p:cNvSpPr/>
          <p:nvPr/>
        </p:nvSpPr>
        <p:spPr>
          <a:xfrm>
            <a:off x="1895400" y="4110120"/>
            <a:ext cx="142920" cy="1429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椭圆 17"/>
          <p:cNvSpPr/>
          <p:nvPr/>
        </p:nvSpPr>
        <p:spPr>
          <a:xfrm>
            <a:off x="3973680" y="4170240"/>
            <a:ext cx="142560" cy="1429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椭圆 18"/>
          <p:cNvSpPr/>
          <p:nvPr/>
        </p:nvSpPr>
        <p:spPr>
          <a:xfrm>
            <a:off x="6072120" y="4129200"/>
            <a:ext cx="142920" cy="1429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3"/>
          <p:cNvSpPr/>
          <p:nvPr/>
        </p:nvSpPr>
        <p:spPr>
          <a:xfrm>
            <a:off x="1793880" y="335772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3"/>
          <p:cNvSpPr/>
          <p:nvPr/>
        </p:nvSpPr>
        <p:spPr>
          <a:xfrm>
            <a:off x="2357280" y="3905280"/>
            <a:ext cx="5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1774800" y="447660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1285920" y="390528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3865680" y="340524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3"/>
          <p:cNvSpPr/>
          <p:nvPr/>
        </p:nvSpPr>
        <p:spPr>
          <a:xfrm>
            <a:off x="4286160" y="394020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3846600" y="454824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3384720" y="393228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5380200" y="364320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6500880" y="364320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6473880" y="421488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5357880" y="421812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500040" y="5416560"/>
            <a:ext cx="835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条直线相交成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个角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只有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个交点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弧形 34"/>
          <p:cNvSpPr/>
          <p:nvPr/>
        </p:nvSpPr>
        <p:spPr>
          <a:xfrm flipV="1" rot="16200000">
            <a:off x="5893200" y="3861000"/>
            <a:ext cx="500040" cy="571320"/>
          </a:xfrm>
          <a:custGeom>
            <a:avLst/>
            <a:gdLst>
              <a:gd name="textAreaLeft" fmla="*/ 203760 w 500040"/>
              <a:gd name="textAreaRight" fmla="*/ 500400 w 500040"/>
              <a:gd name="textAreaTop" fmla="*/ -360 h 571320"/>
              <a:gd name="textAreaBottom" fmla="*/ 285480 h 571320"/>
            </a:gdLst>
            <a:ahLst/>
            <a:rect l="textAreaLeft" t="textAreaTop" r="textAreaRight" b="textAreaBottom"/>
            <a:pathLst>
              <a:path stroke="0" w="500062" h="571500">
                <a:moveTo>
                  <a:pt x="203826" y="4922"/>
                </a:moveTo>
                <a:lnTo>
                  <a:pt x="203826" y="4922"/>
                </a:lnTo>
                <a:arcTo wR="250031" hR="285750" stAng="-5960594" swAng="5960608"/>
                <a:lnTo>
                  <a:pt x="250031" y="285750"/>
                </a:lnTo>
                <a:close/>
              </a:path>
              <a:path fill="none" w="500062" h="571500">
                <a:moveTo>
                  <a:pt x="203826" y="4922"/>
                </a:moveTo>
                <a:lnTo>
                  <a:pt x="203826" y="4922"/>
                </a:lnTo>
                <a:arcTo wR="250031" hR="285750" stAng="-5960594" swAng="5960608"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弧形 35"/>
          <p:cNvSpPr/>
          <p:nvPr/>
        </p:nvSpPr>
        <p:spPr>
          <a:xfrm flipV="1" rot="20919000">
            <a:off x="5908680" y="3971520"/>
            <a:ext cx="500040" cy="571680"/>
          </a:xfrm>
          <a:custGeom>
            <a:avLst/>
            <a:gdLst>
              <a:gd name="textAreaLeft" fmla="*/ 162360 w 500040"/>
              <a:gd name="textAreaRight" fmla="*/ 500400 w 500040"/>
              <a:gd name="textAreaTop" fmla="*/ 0 h 571680"/>
              <a:gd name="textAreaBottom" fmla="*/ 285840 h 571680"/>
            </a:gdLst>
            <a:ahLst/>
            <a:rect l="textAreaLeft" t="textAreaTop" r="textAreaRight" b="textAreaBottom"/>
            <a:pathLst>
              <a:path stroke="0" w="500063" h="571500">
                <a:moveTo>
                  <a:pt x="162373" y="18137"/>
                </a:moveTo>
                <a:lnTo>
                  <a:pt x="162373" y="18137"/>
                </a:lnTo>
                <a:arcTo wR="250032" hR="285750" stAng="-6488188" swAng="6488202"/>
                <a:lnTo>
                  <a:pt x="250032" y="285750"/>
                </a:lnTo>
                <a:close/>
              </a:path>
              <a:path fill="none" w="500063" h="571500">
                <a:moveTo>
                  <a:pt x="162373" y="18137"/>
                </a:moveTo>
                <a:lnTo>
                  <a:pt x="162373" y="18137"/>
                </a:lnTo>
                <a:arcTo wR="250032" hR="285750" stAng="-6488188" swAng="6488202"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弧形 36"/>
          <p:cNvSpPr/>
          <p:nvPr/>
        </p:nvSpPr>
        <p:spPr>
          <a:xfrm flipV="1" rot="5592000">
            <a:off x="5834520" y="4019760"/>
            <a:ext cx="500040" cy="571320"/>
          </a:xfrm>
          <a:custGeom>
            <a:avLst/>
            <a:gdLst>
              <a:gd name="textAreaLeft" fmla="*/ 162360 w 500040"/>
              <a:gd name="textAreaRight" fmla="*/ 500400 w 500040"/>
              <a:gd name="textAreaTop" fmla="*/ -360 h 571320"/>
              <a:gd name="textAreaBottom" fmla="*/ 362520 h 571320"/>
            </a:gdLst>
            <a:ahLst/>
            <a:rect l="textAreaLeft" t="textAreaTop" r="textAreaRight" b="textAreaBottom"/>
            <a:pathLst>
              <a:path stroke="0" w="500062" h="571500">
                <a:moveTo>
                  <a:pt x="162373" y="18137"/>
                </a:moveTo>
                <a:lnTo>
                  <a:pt x="162373" y="18137"/>
                </a:lnTo>
                <a:arcTo wR="250031" hR="285750" stAng="-6488188" swAng="7556660"/>
                <a:lnTo>
                  <a:pt x="250031" y="285750"/>
                </a:lnTo>
                <a:close/>
              </a:path>
              <a:path fill="none" w="500062" h="571500">
                <a:moveTo>
                  <a:pt x="162373" y="18137"/>
                </a:moveTo>
                <a:lnTo>
                  <a:pt x="162373" y="18137"/>
                </a:lnTo>
                <a:arcTo wR="250031" hR="285750" stAng="-6488188" swAng="7556660"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弧形 37"/>
          <p:cNvSpPr/>
          <p:nvPr/>
        </p:nvSpPr>
        <p:spPr>
          <a:xfrm flipV="1" rot="10140000">
            <a:off x="5844960" y="3852720"/>
            <a:ext cx="500040" cy="571680"/>
          </a:xfrm>
          <a:custGeom>
            <a:avLst/>
            <a:gdLst>
              <a:gd name="textAreaLeft" fmla="*/ 169200 w 500040"/>
              <a:gd name="textAreaRight" fmla="*/ 500400 w 500040"/>
              <a:gd name="textAreaTop" fmla="*/ 0 h 571680"/>
              <a:gd name="textAreaBottom" fmla="*/ 285840 h 571680"/>
            </a:gdLst>
            <a:ahLst/>
            <a:rect l="textAreaLeft" t="textAreaTop" r="textAreaRight" b="textAreaBottom"/>
            <a:pathLst>
              <a:path stroke="0" w="500063" h="571500">
                <a:moveTo>
                  <a:pt x="169439" y="15251"/>
                </a:moveTo>
                <a:lnTo>
                  <a:pt x="169439" y="15251"/>
                </a:lnTo>
                <a:arcTo wR="250032" hR="285750" stAng="-6395448" swAng="6395462"/>
                <a:lnTo>
                  <a:pt x="250032" y="285750"/>
                </a:lnTo>
                <a:close/>
              </a:path>
              <a:path fill="none" w="500063" h="571500">
                <a:moveTo>
                  <a:pt x="169439" y="15251"/>
                </a:moveTo>
                <a:lnTo>
                  <a:pt x="169439" y="15251"/>
                </a:lnTo>
                <a:arcTo wR="250032" hR="285750" stAng="-6395448" swAng="6395462"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弧形 38"/>
          <p:cNvSpPr/>
          <p:nvPr/>
        </p:nvSpPr>
        <p:spPr>
          <a:xfrm flipV="1" rot="13321200">
            <a:off x="1698120" y="3906720"/>
            <a:ext cx="500040" cy="571680"/>
          </a:xfrm>
          <a:custGeom>
            <a:avLst/>
            <a:gdLst>
              <a:gd name="textAreaLeft" fmla="*/ 217080 w 500040"/>
              <a:gd name="textAreaRight" fmla="*/ 500400 w 500040"/>
              <a:gd name="textAreaTop" fmla="*/ 0 h 571680"/>
              <a:gd name="textAreaBottom" fmla="*/ 285840 h 571680"/>
            </a:gdLst>
            <a:ahLst/>
            <a:rect l="textAreaLeft" t="textAreaTop" r="textAreaRight" b="textAreaBottom"/>
            <a:pathLst>
              <a:path stroke="0" w="500063" h="571500">
                <a:moveTo>
                  <a:pt x="217098" y="2490"/>
                </a:moveTo>
                <a:lnTo>
                  <a:pt x="217098" y="2490"/>
                </a:lnTo>
                <a:arcTo wR="250032" hR="285750" stAng="-5797912" swAng="5797926"/>
                <a:lnTo>
                  <a:pt x="250032" y="285750"/>
                </a:lnTo>
                <a:close/>
              </a:path>
              <a:path fill="none" w="500063" h="571500">
                <a:moveTo>
                  <a:pt x="217098" y="2490"/>
                </a:moveTo>
                <a:lnTo>
                  <a:pt x="217098" y="2490"/>
                </a:lnTo>
                <a:arcTo wR="250032" hR="285750" stAng="-5797912" swAng="5797926"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弧形 39"/>
          <p:cNvSpPr/>
          <p:nvPr/>
        </p:nvSpPr>
        <p:spPr>
          <a:xfrm flipV="1" rot="18795600">
            <a:off x="1772640" y="3878280"/>
            <a:ext cx="500040" cy="571680"/>
          </a:xfrm>
          <a:custGeom>
            <a:avLst/>
            <a:gdLst>
              <a:gd name="textAreaLeft" fmla="*/ 217080 w 500040"/>
              <a:gd name="textAreaRight" fmla="*/ 500400 w 500040"/>
              <a:gd name="textAreaTop" fmla="*/ 0 h 571680"/>
              <a:gd name="textAreaBottom" fmla="*/ 285840 h 571680"/>
            </a:gdLst>
            <a:ahLst/>
            <a:rect l="textAreaLeft" t="textAreaTop" r="textAreaRight" b="textAreaBottom"/>
            <a:pathLst>
              <a:path stroke="0" w="500063" h="571500">
                <a:moveTo>
                  <a:pt x="217098" y="2490"/>
                </a:moveTo>
                <a:lnTo>
                  <a:pt x="217098" y="2490"/>
                </a:lnTo>
                <a:arcTo wR="250032" hR="285750" stAng="-5797912" swAng="5797926"/>
                <a:lnTo>
                  <a:pt x="250032" y="285750"/>
                </a:lnTo>
                <a:close/>
              </a:path>
              <a:path fill="none" w="500063" h="571500">
                <a:moveTo>
                  <a:pt x="217098" y="2490"/>
                </a:moveTo>
                <a:lnTo>
                  <a:pt x="217098" y="2490"/>
                </a:lnTo>
                <a:arcTo wR="250032" hR="285750" stAng="-5797912" swAng="5797926"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弧形 40"/>
          <p:cNvSpPr/>
          <p:nvPr/>
        </p:nvSpPr>
        <p:spPr>
          <a:xfrm flipV="1" rot="3325800">
            <a:off x="1770480" y="3939120"/>
            <a:ext cx="500040" cy="571320"/>
          </a:xfrm>
          <a:custGeom>
            <a:avLst/>
            <a:gdLst>
              <a:gd name="textAreaLeft" fmla="*/ 217080 w 500040"/>
              <a:gd name="textAreaRight" fmla="*/ 500400 w 500040"/>
              <a:gd name="textAreaTop" fmla="*/ -360 h 571320"/>
              <a:gd name="textAreaBottom" fmla="*/ 285480 h 571320"/>
            </a:gdLst>
            <a:ahLst/>
            <a:rect l="textAreaLeft" t="textAreaTop" r="textAreaRight" b="textAreaBottom"/>
            <a:pathLst>
              <a:path stroke="0" w="500063" h="571500">
                <a:moveTo>
                  <a:pt x="217098" y="2490"/>
                </a:moveTo>
                <a:lnTo>
                  <a:pt x="217098" y="2490"/>
                </a:lnTo>
                <a:arcTo wR="250032" hR="285750" stAng="-5797912" swAng="5797926"/>
                <a:lnTo>
                  <a:pt x="250032" y="285750"/>
                </a:lnTo>
                <a:close/>
              </a:path>
              <a:path fill="none" w="500063" h="571500">
                <a:moveTo>
                  <a:pt x="217098" y="2490"/>
                </a:moveTo>
                <a:lnTo>
                  <a:pt x="217098" y="2490"/>
                </a:lnTo>
                <a:arcTo wR="250032" hR="285750" stAng="-5797912" swAng="5797926"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弧形 41"/>
          <p:cNvSpPr/>
          <p:nvPr/>
        </p:nvSpPr>
        <p:spPr>
          <a:xfrm flipV="1" rot="8748600">
            <a:off x="1668240" y="3947400"/>
            <a:ext cx="500040" cy="571320"/>
          </a:xfrm>
          <a:custGeom>
            <a:avLst/>
            <a:gdLst>
              <a:gd name="textAreaLeft" fmla="*/ 217080 w 500040"/>
              <a:gd name="textAreaRight" fmla="*/ 500400 w 500040"/>
              <a:gd name="textAreaTop" fmla="*/ -360 h 571320"/>
              <a:gd name="textAreaBottom" fmla="*/ 323640 h 571320"/>
            </a:gdLst>
            <a:ahLst/>
            <a:rect l="textAreaLeft" t="textAreaTop" r="textAreaRight" b="textAreaBottom"/>
            <a:pathLst>
              <a:path stroke="0" w="500062" h="571500">
                <a:moveTo>
                  <a:pt x="217097" y="2490"/>
                </a:moveTo>
                <a:lnTo>
                  <a:pt x="217097" y="2490"/>
                </a:lnTo>
                <a:arcTo wR="250031" hR="285750" stAng="-5797912" swAng="6325520"/>
                <a:lnTo>
                  <a:pt x="250031" y="285750"/>
                </a:lnTo>
                <a:close/>
              </a:path>
              <a:path fill="none" w="500062" h="571500">
                <a:moveTo>
                  <a:pt x="217097" y="2490"/>
                </a:moveTo>
                <a:lnTo>
                  <a:pt x="217097" y="2490"/>
                </a:lnTo>
                <a:arcTo wR="250031" hR="285750" stAng="-5797912" swAng="6325520"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弧形 42"/>
          <p:cNvSpPr/>
          <p:nvPr/>
        </p:nvSpPr>
        <p:spPr>
          <a:xfrm flipV="1" rot="14217000">
            <a:off x="3768840" y="3866040"/>
            <a:ext cx="500040" cy="571320"/>
          </a:xfrm>
          <a:custGeom>
            <a:avLst/>
            <a:gdLst>
              <a:gd name="textAreaLeft" fmla="*/ 330840 w 500040"/>
              <a:gd name="textAreaRight" fmla="*/ 500400 w 500040"/>
              <a:gd name="textAreaTop" fmla="*/ 14760 h 571320"/>
              <a:gd name="textAreaBottom" fmla="*/ 285480 h 571320"/>
            </a:gdLst>
            <a:ahLst/>
            <a:rect l="textAreaLeft" t="textAreaTop" r="textAreaRight" b="textAreaBottom"/>
            <a:pathLst>
              <a:path stroke="0" w="500063" h="571500">
                <a:moveTo>
                  <a:pt x="330919" y="15366"/>
                </a:moveTo>
                <a:lnTo>
                  <a:pt x="330919" y="15366"/>
                </a:lnTo>
                <a:arcTo wR="250032" hR="285750" stAng="-4400696" swAng="4400696"/>
                <a:lnTo>
                  <a:pt x="250032" y="285750"/>
                </a:lnTo>
                <a:close/>
              </a:path>
              <a:path fill="none" w="500063" h="571500">
                <a:moveTo>
                  <a:pt x="330919" y="15366"/>
                </a:moveTo>
                <a:lnTo>
                  <a:pt x="330919" y="15366"/>
                </a:lnTo>
                <a:arcTo wR="250032" hR="285750" stAng="-4400696" swAng="4400696"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弧形 43"/>
          <p:cNvSpPr/>
          <p:nvPr/>
        </p:nvSpPr>
        <p:spPr>
          <a:xfrm flipV="1" rot="19489800">
            <a:off x="3762000" y="3907800"/>
            <a:ext cx="500040" cy="571320"/>
          </a:xfrm>
          <a:custGeom>
            <a:avLst/>
            <a:gdLst>
              <a:gd name="textAreaLeft" fmla="*/ 222120 w 500040"/>
              <a:gd name="textAreaRight" fmla="*/ 500400 w 500040"/>
              <a:gd name="textAreaTop" fmla="*/ -360 h 571320"/>
              <a:gd name="textAreaBottom" fmla="*/ 358200 h 571320"/>
            </a:gdLst>
            <a:ahLst/>
            <a:rect l="textAreaLeft" t="textAreaTop" r="textAreaRight" b="textAreaBottom"/>
            <a:pathLst>
              <a:path stroke="0" w="500063" h="571500">
                <a:moveTo>
                  <a:pt x="222027" y="1798"/>
                </a:moveTo>
                <a:lnTo>
                  <a:pt x="222027" y="1798"/>
                </a:lnTo>
                <a:arcTo wR="250032" hR="285750" stAng="-5737946" swAng="6746136"/>
                <a:lnTo>
                  <a:pt x="250032" y="285750"/>
                </a:lnTo>
                <a:close/>
              </a:path>
              <a:path fill="none" w="500063" h="571500">
                <a:moveTo>
                  <a:pt x="222027" y="1798"/>
                </a:moveTo>
                <a:lnTo>
                  <a:pt x="222027" y="1798"/>
                </a:lnTo>
                <a:arcTo wR="250032" hR="285750" stAng="-5737946" swAng="6746136"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弧形 44"/>
          <p:cNvSpPr/>
          <p:nvPr/>
        </p:nvSpPr>
        <p:spPr>
          <a:xfrm flipV="1" rot="3383400">
            <a:off x="3803040" y="4035600"/>
            <a:ext cx="500040" cy="571680"/>
          </a:xfrm>
          <a:custGeom>
            <a:avLst/>
            <a:gdLst>
              <a:gd name="textAreaLeft" fmla="*/ 330840 w 500040"/>
              <a:gd name="textAreaRight" fmla="*/ 500400 w 500040"/>
              <a:gd name="textAreaTop" fmla="*/ 15120 h 571680"/>
              <a:gd name="textAreaBottom" fmla="*/ 285840 h 571680"/>
            </a:gdLst>
            <a:ahLst/>
            <a:rect l="textAreaLeft" t="textAreaTop" r="textAreaRight" b="textAreaBottom"/>
            <a:pathLst>
              <a:path stroke="0" w="500062" h="571500">
                <a:moveTo>
                  <a:pt x="330919" y="15366"/>
                </a:moveTo>
                <a:lnTo>
                  <a:pt x="330919" y="15366"/>
                </a:lnTo>
                <a:arcTo wR="250031" hR="285750" stAng="-4400696" swAng="4400696"/>
                <a:lnTo>
                  <a:pt x="250031" y="285750"/>
                </a:lnTo>
                <a:close/>
              </a:path>
              <a:path fill="none" w="500062" h="571500">
                <a:moveTo>
                  <a:pt x="330919" y="15366"/>
                </a:moveTo>
                <a:lnTo>
                  <a:pt x="330919" y="15366"/>
                </a:lnTo>
                <a:arcTo wR="250031" hR="285750" stAng="-4400696" swAng="4400696"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弧形 45"/>
          <p:cNvSpPr/>
          <p:nvPr/>
        </p:nvSpPr>
        <p:spPr>
          <a:xfrm flipV="1" rot="7618200">
            <a:off x="3799440" y="3912840"/>
            <a:ext cx="500040" cy="571320"/>
          </a:xfrm>
          <a:custGeom>
            <a:avLst/>
            <a:gdLst>
              <a:gd name="textAreaLeft" fmla="*/ 188280 w 500040"/>
              <a:gd name="textAreaRight" fmla="*/ 500400 w 500040"/>
              <a:gd name="textAreaTop" fmla="*/ -360 h 571320"/>
              <a:gd name="textAreaBottom" fmla="*/ 299160 h 571320"/>
            </a:gdLst>
            <a:ahLst/>
            <a:rect l="textAreaLeft" t="textAreaTop" r="textAreaRight" b="textAreaBottom"/>
            <a:pathLst>
              <a:path stroke="0" w="500063" h="571500">
                <a:moveTo>
                  <a:pt x="188408" y="8815"/>
                </a:moveTo>
                <a:lnTo>
                  <a:pt x="188408" y="8815"/>
                </a:lnTo>
                <a:arcTo wR="250032" hR="285750" stAng="-6152697" swAng="6343634"/>
                <a:lnTo>
                  <a:pt x="250032" y="285750"/>
                </a:lnTo>
                <a:close/>
              </a:path>
              <a:path fill="none" w="500063" h="571500">
                <a:moveTo>
                  <a:pt x="188408" y="8815"/>
                </a:moveTo>
                <a:lnTo>
                  <a:pt x="188408" y="8815"/>
                </a:lnTo>
                <a:arcTo wR="250032" hR="285750" stAng="-6152697" swAng="6343634"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图片 46" descr="1.png"/>
          <p:cNvPicPr/>
          <p:nvPr/>
        </p:nvPicPr>
        <p:blipFill>
          <a:blip r:embed="rId1"/>
          <a:stretch/>
        </p:blipFill>
        <p:spPr>
          <a:xfrm>
            <a:off x="142920" y="785880"/>
            <a:ext cx="2643120" cy="13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50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000"/>
                            </p:stCondLst>
                            <p:childTnLst>
                              <p:par>
                                <p:cTn id="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500"/>
                            </p:stCondLst>
                            <p:childTnLst>
                              <p:par>
                                <p:cTn id="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图片 3" descr="1.png"/>
          <p:cNvPicPr/>
          <p:nvPr/>
        </p:nvPicPr>
        <p:blipFill>
          <a:blip r:embed="rId1"/>
          <a:stretch/>
        </p:blipFill>
        <p:spPr>
          <a:xfrm>
            <a:off x="142920" y="785880"/>
            <a:ext cx="2643120" cy="1342800"/>
          </a:xfrm>
          <a:prstGeom prst="rect">
            <a:avLst/>
          </a:prstGeom>
          <a:ln w="0">
            <a:noFill/>
          </a:ln>
        </p:spPr>
      </p:pic>
      <p:sp>
        <p:nvSpPr>
          <p:cNvPr id="108" name="TextBox 4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探究新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214200" y="2416320"/>
            <a:ext cx="90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察两条直线相交成的角，你想到了什么问题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组合 42"/>
          <p:cNvGrpSpPr/>
          <p:nvPr/>
        </p:nvGrpSpPr>
        <p:grpSpPr>
          <a:xfrm>
            <a:off x="1214280" y="3071880"/>
            <a:ext cx="6929640" cy="2496960"/>
            <a:chOff x="1214280" y="3071880"/>
            <a:chExt cx="6929640" cy="2496960"/>
          </a:xfrm>
        </p:grpSpPr>
        <p:grpSp>
          <p:nvGrpSpPr>
            <p:cNvPr id="111" name="组合 40"/>
            <p:cNvGrpSpPr/>
            <p:nvPr/>
          </p:nvGrpSpPr>
          <p:grpSpPr>
            <a:xfrm>
              <a:off x="1214280" y="3071880"/>
              <a:ext cx="6072480" cy="1901880"/>
              <a:chOff x="1214280" y="3071880"/>
              <a:chExt cx="6072480" cy="1901880"/>
            </a:xfrm>
          </p:grpSpPr>
          <p:grpSp>
            <p:nvGrpSpPr>
              <p:cNvPr id="112" name="组合 6"/>
              <p:cNvGrpSpPr/>
              <p:nvPr/>
            </p:nvGrpSpPr>
            <p:grpSpPr>
              <a:xfrm>
                <a:off x="1214280" y="3071880"/>
                <a:ext cx="6072480" cy="1901880"/>
                <a:chOff x="1214280" y="3071880"/>
                <a:chExt cx="6072480" cy="1901880"/>
              </a:xfrm>
            </p:grpSpPr>
            <p:sp>
              <p:nvSpPr>
                <p:cNvPr id="113" name="直接连接符 7"/>
                <p:cNvSpPr/>
                <p:nvPr/>
              </p:nvSpPr>
              <p:spPr>
                <a:xfrm>
                  <a:off x="1356840" y="3473280"/>
                  <a:ext cx="1285920" cy="11430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直接连接符 8"/>
                <p:cNvSpPr/>
                <p:nvPr/>
              </p:nvSpPr>
              <p:spPr>
                <a:xfrm flipV="1">
                  <a:off x="1214280" y="3472920"/>
                  <a:ext cx="1428840" cy="11430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直接连接符 9"/>
                <p:cNvSpPr/>
                <p:nvPr/>
              </p:nvSpPr>
              <p:spPr>
                <a:xfrm>
                  <a:off x="3642480" y="3286080"/>
                  <a:ext cx="785880" cy="15717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直接连接符 10"/>
                <p:cNvSpPr/>
                <p:nvPr/>
              </p:nvSpPr>
              <p:spPr>
                <a:xfrm flipH="1">
                  <a:off x="3571560" y="3429000"/>
                  <a:ext cx="857160" cy="14288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直接连接符 11"/>
                <p:cNvSpPr/>
                <p:nvPr/>
              </p:nvSpPr>
              <p:spPr>
                <a:xfrm>
                  <a:off x="5000760" y="4025880"/>
                  <a:ext cx="2286000" cy="1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直接连接符 12"/>
                <p:cNvSpPr/>
                <p:nvPr/>
              </p:nvSpPr>
              <p:spPr>
                <a:xfrm flipH="1">
                  <a:off x="6143760" y="3071880"/>
                  <a:ext cx="1440" cy="1901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" name="椭圆 13"/>
              <p:cNvSpPr/>
              <p:nvPr/>
            </p:nvSpPr>
            <p:spPr>
              <a:xfrm>
                <a:off x="1895040" y="3940200"/>
                <a:ext cx="142560" cy="14256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椭圆 14"/>
              <p:cNvSpPr/>
              <p:nvPr/>
            </p:nvSpPr>
            <p:spPr>
              <a:xfrm>
                <a:off x="3973320" y="4000680"/>
                <a:ext cx="142560" cy="14256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椭圆 15"/>
              <p:cNvSpPr/>
              <p:nvPr/>
            </p:nvSpPr>
            <p:spPr>
              <a:xfrm>
                <a:off x="6072480" y="3959280"/>
                <a:ext cx="142560" cy="14256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TextBox 3"/>
              <p:cNvSpPr/>
              <p:nvPr/>
            </p:nvSpPr>
            <p:spPr>
              <a:xfrm>
                <a:off x="1793160" y="3187440"/>
                <a:ext cx="500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楷体_GB2312"/>
                    <a:ea typeface="楷体_GB2312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TextBox 3"/>
              <p:cNvSpPr/>
              <p:nvPr/>
            </p:nvSpPr>
            <p:spPr>
              <a:xfrm>
                <a:off x="2357280" y="3736080"/>
                <a:ext cx="500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楷体_GB2312"/>
                    <a:ea typeface="楷体_GB2312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TextBox 3"/>
              <p:cNvSpPr/>
              <p:nvPr/>
            </p:nvSpPr>
            <p:spPr>
              <a:xfrm>
                <a:off x="1774440" y="4307760"/>
                <a:ext cx="500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楷体_GB2312"/>
                    <a:ea typeface="楷体_GB2312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TextBox 3"/>
              <p:cNvSpPr/>
              <p:nvPr/>
            </p:nvSpPr>
            <p:spPr>
              <a:xfrm>
                <a:off x="1285560" y="3736080"/>
                <a:ext cx="500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楷体_GB2312"/>
                    <a:ea typeface="楷体_GB2312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TextBox 3"/>
              <p:cNvSpPr/>
              <p:nvPr/>
            </p:nvSpPr>
            <p:spPr>
              <a:xfrm>
                <a:off x="3865320" y="3236040"/>
                <a:ext cx="500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楷体_GB2312"/>
                    <a:ea typeface="楷体_GB2312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TextBox 3"/>
              <p:cNvSpPr/>
              <p:nvPr/>
            </p:nvSpPr>
            <p:spPr>
              <a:xfrm>
                <a:off x="4286160" y="3769920"/>
                <a:ext cx="500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楷体_GB2312"/>
                    <a:ea typeface="楷体_GB2312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TextBox 3"/>
              <p:cNvSpPr/>
              <p:nvPr/>
            </p:nvSpPr>
            <p:spPr>
              <a:xfrm>
                <a:off x="3846240" y="4379040"/>
                <a:ext cx="500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楷体_GB2312"/>
                    <a:ea typeface="楷体_GB2312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TextBox 3"/>
              <p:cNvSpPr/>
              <p:nvPr/>
            </p:nvSpPr>
            <p:spPr>
              <a:xfrm>
                <a:off x="3383640" y="3762360"/>
                <a:ext cx="500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楷体_GB2312"/>
                    <a:ea typeface="楷体_GB2312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TextBox 3"/>
              <p:cNvSpPr/>
              <p:nvPr/>
            </p:nvSpPr>
            <p:spPr>
              <a:xfrm>
                <a:off x="5380560" y="3473280"/>
                <a:ext cx="500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楷体_GB2312"/>
                    <a:ea typeface="楷体_GB2312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TextBox 3"/>
              <p:cNvSpPr/>
              <p:nvPr/>
            </p:nvSpPr>
            <p:spPr>
              <a:xfrm>
                <a:off x="6500880" y="3473280"/>
                <a:ext cx="500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楷体_GB2312"/>
                    <a:ea typeface="楷体_GB2312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TextBox 3"/>
              <p:cNvSpPr/>
              <p:nvPr/>
            </p:nvSpPr>
            <p:spPr>
              <a:xfrm>
                <a:off x="6474600" y="4044960"/>
                <a:ext cx="500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楷体_GB2312"/>
                    <a:ea typeface="楷体_GB2312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TextBox 3"/>
              <p:cNvSpPr/>
              <p:nvPr/>
            </p:nvSpPr>
            <p:spPr>
              <a:xfrm>
                <a:off x="5357880" y="4048920"/>
                <a:ext cx="500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楷体_GB2312"/>
                    <a:ea typeface="楷体_GB2312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弧形 28"/>
              <p:cNvSpPr/>
              <p:nvPr/>
            </p:nvSpPr>
            <p:spPr>
              <a:xfrm flipV="1" rot="16200000">
                <a:off x="5893200" y="3691080"/>
                <a:ext cx="500040" cy="571320"/>
              </a:xfrm>
              <a:custGeom>
                <a:avLst/>
                <a:gdLst>
                  <a:gd name="textAreaLeft" fmla="*/ 203760 w 500040"/>
                  <a:gd name="textAreaRight" fmla="*/ 500400 w 500040"/>
                  <a:gd name="textAreaTop" fmla="*/ -360 h 571320"/>
                  <a:gd name="textAreaBottom" fmla="*/ 285480 h 571320"/>
                </a:gdLst>
                <a:ahLst/>
                <a:rect l="textAreaLeft" t="textAreaTop" r="textAreaRight" b="textAreaBottom"/>
                <a:pathLst>
                  <a:path stroke="0" w="500067" h="571504">
                    <a:moveTo>
                      <a:pt x="203828" y="4922"/>
                    </a:moveTo>
                    <a:lnTo>
                      <a:pt x="203828" y="4922"/>
                    </a:lnTo>
                    <a:arcTo wR="250034" hR="285752" stAng="-5960602" swAng="5960616"/>
                    <a:lnTo>
                      <a:pt x="250034" y="285752"/>
                    </a:lnTo>
                    <a:close/>
                  </a:path>
                  <a:path fill="none" w="500067" h="571504">
                    <a:moveTo>
                      <a:pt x="203828" y="4922"/>
                    </a:moveTo>
                    <a:lnTo>
                      <a:pt x="203828" y="4922"/>
                    </a:lnTo>
                    <a:arcTo wR="250034" hR="285752" stAng="-5960602" swAng="5960616"/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弧形 29"/>
              <p:cNvSpPr/>
              <p:nvPr/>
            </p:nvSpPr>
            <p:spPr>
              <a:xfrm flipV="1" rot="20919000">
                <a:off x="5908680" y="3800880"/>
                <a:ext cx="500040" cy="571320"/>
              </a:xfrm>
              <a:custGeom>
                <a:avLst/>
                <a:gdLst>
                  <a:gd name="textAreaLeft" fmla="*/ 162360 w 500040"/>
                  <a:gd name="textAreaRight" fmla="*/ 500400 w 500040"/>
                  <a:gd name="textAreaTop" fmla="*/ -360 h 571320"/>
                  <a:gd name="textAreaBottom" fmla="*/ 285480 h 571320"/>
                </a:gdLst>
                <a:ahLst/>
                <a:rect l="textAreaLeft" t="textAreaTop" r="textAreaRight" b="textAreaBottom"/>
                <a:pathLst>
                  <a:path stroke="0" w="500067" h="571504">
                    <a:moveTo>
                      <a:pt x="162375" y="18137"/>
                    </a:moveTo>
                    <a:lnTo>
                      <a:pt x="162375" y="18137"/>
                    </a:lnTo>
                    <a:arcTo wR="250034" hR="285752" stAng="-6488192" swAng="6488206"/>
                    <a:lnTo>
                      <a:pt x="250034" y="285752"/>
                    </a:lnTo>
                    <a:close/>
                  </a:path>
                  <a:path fill="none" w="500067" h="571504">
                    <a:moveTo>
                      <a:pt x="162375" y="18137"/>
                    </a:moveTo>
                    <a:lnTo>
                      <a:pt x="162375" y="18137"/>
                    </a:lnTo>
                    <a:arcTo wR="250034" hR="285752" stAng="-6488192" swAng="6488206"/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弧形 30"/>
              <p:cNvSpPr/>
              <p:nvPr/>
            </p:nvSpPr>
            <p:spPr>
              <a:xfrm flipV="1" rot="5592000">
                <a:off x="5834520" y="3849840"/>
                <a:ext cx="500040" cy="571320"/>
              </a:xfrm>
              <a:custGeom>
                <a:avLst/>
                <a:gdLst>
                  <a:gd name="textAreaLeft" fmla="*/ 162360 w 500040"/>
                  <a:gd name="textAreaRight" fmla="*/ 500400 w 500040"/>
                  <a:gd name="textAreaTop" fmla="*/ -360 h 571320"/>
                  <a:gd name="textAreaBottom" fmla="*/ 362520 h 571320"/>
                </a:gdLst>
                <a:ahLst/>
                <a:rect l="textAreaLeft" t="textAreaTop" r="textAreaRight" b="textAreaBottom"/>
                <a:pathLst>
                  <a:path stroke="0" w="500067" h="571504">
                    <a:moveTo>
                      <a:pt x="162375" y="18137"/>
                    </a:moveTo>
                    <a:lnTo>
                      <a:pt x="162375" y="18137"/>
                    </a:lnTo>
                    <a:arcTo wR="250034" hR="285752" stAng="-6488192" swAng="7556664"/>
                    <a:lnTo>
                      <a:pt x="250034" y="285752"/>
                    </a:lnTo>
                    <a:close/>
                  </a:path>
                  <a:path fill="none" w="500067" h="571504">
                    <a:moveTo>
                      <a:pt x="162375" y="18137"/>
                    </a:moveTo>
                    <a:lnTo>
                      <a:pt x="162375" y="18137"/>
                    </a:lnTo>
                    <a:arcTo wR="250034" hR="285752" stAng="-6488192" swAng="7556664"/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弧形 31"/>
              <p:cNvSpPr/>
              <p:nvPr/>
            </p:nvSpPr>
            <p:spPr>
              <a:xfrm flipV="1" rot="10140000">
                <a:off x="5844960" y="3682080"/>
                <a:ext cx="500040" cy="571320"/>
              </a:xfrm>
              <a:custGeom>
                <a:avLst/>
                <a:gdLst>
                  <a:gd name="textAreaLeft" fmla="*/ 169200 w 500040"/>
                  <a:gd name="textAreaRight" fmla="*/ 500400 w 500040"/>
                  <a:gd name="textAreaTop" fmla="*/ -360 h 571320"/>
                  <a:gd name="textAreaBottom" fmla="*/ 285480 h 571320"/>
                </a:gdLst>
                <a:ahLst/>
                <a:rect l="textAreaLeft" t="textAreaTop" r="textAreaRight" b="textAreaBottom"/>
                <a:pathLst>
                  <a:path stroke="0" w="500067" h="571504">
                    <a:moveTo>
                      <a:pt x="169441" y="15251"/>
                    </a:moveTo>
                    <a:lnTo>
                      <a:pt x="169441" y="15251"/>
                    </a:lnTo>
                    <a:arcTo wR="250034" hR="285752" stAng="-6395453" swAng="6395453"/>
                    <a:lnTo>
                      <a:pt x="250034" y="285752"/>
                    </a:lnTo>
                    <a:close/>
                  </a:path>
                  <a:path fill="none" w="500067" h="571504">
                    <a:moveTo>
                      <a:pt x="169441" y="15251"/>
                    </a:moveTo>
                    <a:lnTo>
                      <a:pt x="169441" y="15251"/>
                    </a:lnTo>
                    <a:arcTo wR="250034" hR="285752" stAng="-6395453" swAng="6395453"/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弧形 32"/>
              <p:cNvSpPr/>
              <p:nvPr/>
            </p:nvSpPr>
            <p:spPr>
              <a:xfrm flipV="1" rot="13321200">
                <a:off x="1697760" y="3736080"/>
                <a:ext cx="500040" cy="571320"/>
              </a:xfrm>
              <a:custGeom>
                <a:avLst/>
                <a:gdLst>
                  <a:gd name="textAreaLeft" fmla="*/ 217080 w 500040"/>
                  <a:gd name="textAreaRight" fmla="*/ 500400 w 500040"/>
                  <a:gd name="textAreaTop" fmla="*/ -360 h 571320"/>
                  <a:gd name="textAreaBottom" fmla="*/ 285480 h 571320"/>
                </a:gdLst>
                <a:ahLst/>
                <a:rect l="textAreaLeft" t="textAreaTop" r="textAreaRight" b="textAreaBottom"/>
                <a:pathLst>
                  <a:path stroke="0" w="500067" h="571504">
                    <a:moveTo>
                      <a:pt x="217100" y="2490"/>
                    </a:moveTo>
                    <a:lnTo>
                      <a:pt x="217100" y="2490"/>
                    </a:lnTo>
                    <a:arcTo wR="250034" hR="285752" stAng="-5797910" swAng="5797923"/>
                    <a:lnTo>
                      <a:pt x="250034" y="285752"/>
                    </a:lnTo>
                    <a:close/>
                  </a:path>
                  <a:path fill="none" w="500067" h="571504">
                    <a:moveTo>
                      <a:pt x="217100" y="2490"/>
                    </a:moveTo>
                    <a:lnTo>
                      <a:pt x="217100" y="2490"/>
                    </a:lnTo>
                    <a:arcTo wR="250034" hR="285752" stAng="-5797910" swAng="5797923"/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弧形 33"/>
              <p:cNvSpPr/>
              <p:nvPr/>
            </p:nvSpPr>
            <p:spPr>
              <a:xfrm flipV="1" rot="18795600">
                <a:off x="1771560" y="3708720"/>
                <a:ext cx="500040" cy="571320"/>
              </a:xfrm>
              <a:custGeom>
                <a:avLst/>
                <a:gdLst>
                  <a:gd name="textAreaLeft" fmla="*/ 217080 w 500040"/>
                  <a:gd name="textAreaRight" fmla="*/ 500400 w 500040"/>
                  <a:gd name="textAreaTop" fmla="*/ -360 h 571320"/>
                  <a:gd name="textAreaBottom" fmla="*/ 285480 h 571320"/>
                </a:gdLst>
                <a:ahLst/>
                <a:rect l="textAreaLeft" t="textAreaTop" r="textAreaRight" b="textAreaBottom"/>
                <a:pathLst>
                  <a:path stroke="0" w="500066" h="571504">
                    <a:moveTo>
                      <a:pt x="217099" y="2490"/>
                    </a:moveTo>
                    <a:lnTo>
                      <a:pt x="217099" y="2490"/>
                    </a:lnTo>
                    <a:arcTo wR="250033" hR="285752" stAng="-5797910" swAng="5797923"/>
                    <a:lnTo>
                      <a:pt x="250033" y="285752"/>
                    </a:lnTo>
                    <a:close/>
                  </a:path>
                  <a:path fill="none" w="500066" h="571504">
                    <a:moveTo>
                      <a:pt x="217099" y="2490"/>
                    </a:moveTo>
                    <a:lnTo>
                      <a:pt x="217099" y="2490"/>
                    </a:lnTo>
                    <a:arcTo wR="250033" hR="285752" stAng="-5797910" swAng="5797923"/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弧形 34"/>
              <p:cNvSpPr/>
              <p:nvPr/>
            </p:nvSpPr>
            <p:spPr>
              <a:xfrm flipV="1" rot="3325800">
                <a:off x="1770120" y="3769200"/>
                <a:ext cx="500040" cy="571320"/>
              </a:xfrm>
              <a:custGeom>
                <a:avLst/>
                <a:gdLst>
                  <a:gd name="textAreaLeft" fmla="*/ 217080 w 500040"/>
                  <a:gd name="textAreaRight" fmla="*/ 500400 w 500040"/>
                  <a:gd name="textAreaTop" fmla="*/ -360 h 571320"/>
                  <a:gd name="textAreaBottom" fmla="*/ 285480 h 571320"/>
                </a:gdLst>
                <a:ahLst/>
                <a:rect l="textAreaLeft" t="textAreaTop" r="textAreaRight" b="textAreaBottom"/>
                <a:pathLst>
                  <a:path stroke="0" w="500066" h="571504">
                    <a:moveTo>
                      <a:pt x="217099" y="2490"/>
                    </a:moveTo>
                    <a:lnTo>
                      <a:pt x="217099" y="2490"/>
                    </a:lnTo>
                    <a:arcTo wR="250033" hR="285752" stAng="-5797910" swAng="5797923"/>
                    <a:lnTo>
                      <a:pt x="250033" y="285752"/>
                    </a:lnTo>
                    <a:close/>
                  </a:path>
                  <a:path fill="none" w="500066" h="571504">
                    <a:moveTo>
                      <a:pt x="217099" y="2490"/>
                    </a:moveTo>
                    <a:lnTo>
                      <a:pt x="217099" y="2490"/>
                    </a:lnTo>
                    <a:arcTo wR="250033" hR="285752" stAng="-5797910" swAng="5797923"/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弧形 35"/>
              <p:cNvSpPr/>
              <p:nvPr/>
            </p:nvSpPr>
            <p:spPr>
              <a:xfrm flipV="1" rot="8748600">
                <a:off x="1667880" y="3777480"/>
                <a:ext cx="500040" cy="571320"/>
              </a:xfrm>
              <a:custGeom>
                <a:avLst/>
                <a:gdLst>
                  <a:gd name="textAreaLeft" fmla="*/ 217080 w 500040"/>
                  <a:gd name="textAreaRight" fmla="*/ 500400 w 500040"/>
                  <a:gd name="textAreaTop" fmla="*/ -360 h 571320"/>
                  <a:gd name="textAreaBottom" fmla="*/ 323640 h 571320"/>
                </a:gdLst>
                <a:ahLst/>
                <a:rect l="textAreaLeft" t="textAreaTop" r="textAreaRight" b="textAreaBottom"/>
                <a:pathLst>
                  <a:path stroke="0" w="500066" h="571504">
                    <a:moveTo>
                      <a:pt x="217099" y="2490"/>
                    </a:moveTo>
                    <a:lnTo>
                      <a:pt x="217099" y="2490"/>
                    </a:lnTo>
                    <a:arcTo wR="250033" hR="285752" stAng="-5797910" swAng="6325526"/>
                    <a:lnTo>
                      <a:pt x="250033" y="285752"/>
                    </a:lnTo>
                    <a:close/>
                  </a:path>
                  <a:path fill="none" w="500066" h="571504">
                    <a:moveTo>
                      <a:pt x="217099" y="2490"/>
                    </a:moveTo>
                    <a:lnTo>
                      <a:pt x="217099" y="2490"/>
                    </a:lnTo>
                    <a:arcTo wR="250033" hR="285752" stAng="-5797910" swAng="6325526"/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弧形 36"/>
              <p:cNvSpPr/>
              <p:nvPr/>
            </p:nvSpPr>
            <p:spPr>
              <a:xfrm flipV="1" rot="14217000">
                <a:off x="3770280" y="3696120"/>
                <a:ext cx="500040" cy="571320"/>
              </a:xfrm>
              <a:custGeom>
                <a:avLst/>
                <a:gdLst>
                  <a:gd name="textAreaLeft" fmla="*/ 330840 w 500040"/>
                  <a:gd name="textAreaRight" fmla="*/ 500400 w 500040"/>
                  <a:gd name="textAreaTop" fmla="*/ 14760 h 571320"/>
                  <a:gd name="textAreaBottom" fmla="*/ 285480 h 571320"/>
                </a:gdLst>
                <a:ahLst/>
                <a:rect l="textAreaLeft" t="textAreaTop" r="textAreaRight" b="textAreaBottom"/>
                <a:pathLst>
                  <a:path stroke="0" w="500066" h="571504">
                    <a:moveTo>
                      <a:pt x="330921" y="15366"/>
                    </a:moveTo>
                    <a:lnTo>
                      <a:pt x="330921" y="15366"/>
                    </a:lnTo>
                    <a:arcTo wR="250033" hR="285752" stAng="-4400703" swAng="4400703"/>
                    <a:lnTo>
                      <a:pt x="250033" y="285752"/>
                    </a:lnTo>
                    <a:close/>
                  </a:path>
                  <a:path fill="none" w="500066" h="571504">
                    <a:moveTo>
                      <a:pt x="330921" y="15366"/>
                    </a:moveTo>
                    <a:lnTo>
                      <a:pt x="330921" y="15366"/>
                    </a:lnTo>
                    <a:arcTo wR="250033" hR="285752" stAng="-4400703" swAng="4400703"/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弧形 37"/>
              <p:cNvSpPr/>
              <p:nvPr/>
            </p:nvSpPr>
            <p:spPr>
              <a:xfrm flipV="1" rot="19489800">
                <a:off x="3762000" y="3737880"/>
                <a:ext cx="500040" cy="571320"/>
              </a:xfrm>
              <a:custGeom>
                <a:avLst/>
                <a:gdLst>
                  <a:gd name="textAreaLeft" fmla="*/ 222120 w 500040"/>
                  <a:gd name="textAreaRight" fmla="*/ 500400 w 500040"/>
                  <a:gd name="textAreaTop" fmla="*/ -360 h 571320"/>
                  <a:gd name="textAreaBottom" fmla="*/ 358200 h 571320"/>
                </a:gdLst>
                <a:ahLst/>
                <a:rect l="textAreaLeft" t="textAreaTop" r="textAreaRight" b="textAreaBottom"/>
                <a:pathLst>
                  <a:path stroke="0" w="500067" h="571504">
                    <a:moveTo>
                      <a:pt x="222029" y="1798"/>
                    </a:moveTo>
                    <a:lnTo>
                      <a:pt x="222029" y="1798"/>
                    </a:lnTo>
                    <a:arcTo wR="250034" hR="285752" stAng="-5737943" swAng="6746139"/>
                    <a:lnTo>
                      <a:pt x="250034" y="285752"/>
                    </a:lnTo>
                    <a:close/>
                  </a:path>
                  <a:path fill="none" w="500067" h="571504">
                    <a:moveTo>
                      <a:pt x="222029" y="1798"/>
                    </a:moveTo>
                    <a:lnTo>
                      <a:pt x="222029" y="1798"/>
                    </a:lnTo>
                    <a:arcTo wR="250034" hR="285752" stAng="-5737943" swAng="6746139"/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弧形 38"/>
              <p:cNvSpPr/>
              <p:nvPr/>
            </p:nvSpPr>
            <p:spPr>
              <a:xfrm flipV="1" rot="3383400">
                <a:off x="3802680" y="3865320"/>
                <a:ext cx="500040" cy="571680"/>
              </a:xfrm>
              <a:custGeom>
                <a:avLst/>
                <a:gdLst>
                  <a:gd name="textAreaLeft" fmla="*/ 330840 w 500040"/>
                  <a:gd name="textAreaRight" fmla="*/ 500400 w 500040"/>
                  <a:gd name="textAreaTop" fmla="*/ 15120 h 571680"/>
                  <a:gd name="textAreaBottom" fmla="*/ 285840 h 571680"/>
                </a:gdLst>
                <a:ahLst/>
                <a:rect l="textAreaLeft" t="textAreaTop" r="textAreaRight" b="textAreaBottom"/>
                <a:pathLst>
                  <a:path stroke="0" w="500067" h="571504">
                    <a:moveTo>
                      <a:pt x="330922" y="15366"/>
                    </a:moveTo>
                    <a:lnTo>
                      <a:pt x="330922" y="15366"/>
                    </a:lnTo>
                    <a:arcTo wR="250034" hR="285752" stAng="-4400703" swAng="4400703"/>
                    <a:lnTo>
                      <a:pt x="250034" y="285752"/>
                    </a:lnTo>
                    <a:close/>
                  </a:path>
                  <a:path fill="none" w="500067" h="571504">
                    <a:moveTo>
                      <a:pt x="330922" y="15366"/>
                    </a:moveTo>
                    <a:lnTo>
                      <a:pt x="330922" y="15366"/>
                    </a:lnTo>
                    <a:arcTo wR="250034" hR="285752" stAng="-4400703" swAng="4400703"/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弧形 39"/>
              <p:cNvSpPr/>
              <p:nvPr/>
            </p:nvSpPr>
            <p:spPr>
              <a:xfrm flipV="1" rot="7618200">
                <a:off x="3799440" y="3743640"/>
                <a:ext cx="500040" cy="571320"/>
              </a:xfrm>
              <a:custGeom>
                <a:avLst/>
                <a:gdLst>
                  <a:gd name="textAreaLeft" fmla="*/ 188280 w 500040"/>
                  <a:gd name="textAreaRight" fmla="*/ 500400 w 500040"/>
                  <a:gd name="textAreaTop" fmla="*/ -360 h 571320"/>
                  <a:gd name="textAreaBottom" fmla="*/ 299160 h 571320"/>
                </a:gdLst>
                <a:ahLst/>
                <a:rect l="textAreaLeft" t="textAreaTop" r="textAreaRight" b="textAreaBottom"/>
                <a:pathLst>
                  <a:path stroke="0" w="500066" h="571504">
                    <a:moveTo>
                      <a:pt x="188409" y="8815"/>
                    </a:moveTo>
                    <a:lnTo>
                      <a:pt x="188409" y="8815"/>
                    </a:lnTo>
                    <a:arcTo wR="250033" hR="285752" stAng="-6152704" swAng="6343641"/>
                    <a:lnTo>
                      <a:pt x="250033" y="285752"/>
                    </a:lnTo>
                    <a:close/>
                  </a:path>
                  <a:path fill="none" w="500066" h="571504">
                    <a:moveTo>
                      <a:pt x="188409" y="8815"/>
                    </a:moveTo>
                    <a:lnTo>
                      <a:pt x="188409" y="8815"/>
                    </a:lnTo>
                    <a:arcTo wR="250033" hR="285752" stAng="-6152704" swAng="6343641"/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" name="TextBox 3"/>
            <p:cNvSpPr/>
            <p:nvPr/>
          </p:nvSpPr>
          <p:spPr>
            <a:xfrm>
              <a:off x="1571400" y="4987440"/>
              <a:ext cx="6572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①        ②         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7" name="图片 44" descr="QQ截图20141127095243.png"/>
          <p:cNvPicPr/>
          <p:nvPr/>
        </p:nvPicPr>
        <p:blipFill>
          <a:blip r:embed="rId2"/>
          <a:stretch/>
        </p:blipFill>
        <p:spPr>
          <a:xfrm>
            <a:off x="1332000" y="5359320"/>
            <a:ext cx="6653160" cy="14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直接连接符 3"/>
          <p:cNvSpPr/>
          <p:nvPr/>
        </p:nvSpPr>
        <p:spPr>
          <a:xfrm>
            <a:off x="3000240" y="2097000"/>
            <a:ext cx="22860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直接连接符 4"/>
          <p:cNvSpPr/>
          <p:nvPr/>
        </p:nvSpPr>
        <p:spPr>
          <a:xfrm flipH="1">
            <a:off x="4142880" y="1143000"/>
            <a:ext cx="1800" cy="1901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椭圆 5"/>
          <p:cNvSpPr/>
          <p:nvPr/>
        </p:nvSpPr>
        <p:spPr>
          <a:xfrm>
            <a:off x="4071960" y="2027160"/>
            <a:ext cx="142920" cy="142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6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探究新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直接箭头连接符 7"/>
          <p:cNvCxnSpPr/>
          <p:nvPr/>
        </p:nvCxnSpPr>
        <p:spPr>
          <a:xfrm flipH="1" flipV="1">
            <a:off x="4192560" y="2156760"/>
            <a:ext cx="643320" cy="50076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153" name="TextBox 8"/>
          <p:cNvSpPr/>
          <p:nvPr/>
        </p:nvSpPr>
        <p:spPr>
          <a:xfrm>
            <a:off x="4357800" y="257184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垂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3"/>
          <p:cNvSpPr/>
          <p:nvPr/>
        </p:nvSpPr>
        <p:spPr>
          <a:xfrm>
            <a:off x="571680" y="3692520"/>
            <a:ext cx="7643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条直线相交成直角时，这两条直线叫做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互相垂直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其中一条直线叫做另一条直线的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垂线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组合 15"/>
          <p:cNvGrpSpPr/>
          <p:nvPr/>
        </p:nvGrpSpPr>
        <p:grpSpPr>
          <a:xfrm>
            <a:off x="4143240" y="1785960"/>
            <a:ext cx="285840" cy="285840"/>
            <a:chOff x="4143240" y="1785960"/>
            <a:chExt cx="285840" cy="285840"/>
          </a:xfrm>
        </p:grpSpPr>
        <p:sp>
          <p:nvSpPr>
            <p:cNvPr id="156" name="直接连接符 12"/>
            <p:cNvSpPr/>
            <p:nvPr/>
          </p:nvSpPr>
          <p:spPr>
            <a:xfrm>
              <a:off x="4143240" y="1785960"/>
              <a:ext cx="285840" cy="1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直接连接符 14"/>
            <p:cNvSpPr/>
            <p:nvPr/>
          </p:nvSpPr>
          <p:spPr>
            <a:xfrm flipH="1">
              <a:off x="4427640" y="1785960"/>
              <a:ext cx="1440" cy="285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3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探究新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3"/>
          <p:cNvSpPr/>
          <p:nvPr/>
        </p:nvSpPr>
        <p:spPr>
          <a:xfrm>
            <a:off x="428760" y="2344680"/>
            <a:ext cx="835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活中有很多垂直现象，你能找出哪些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图片 5" descr="1.png"/>
          <p:cNvPicPr/>
          <p:nvPr/>
        </p:nvPicPr>
        <p:blipFill>
          <a:blip r:embed="rId1"/>
          <a:stretch/>
        </p:blipFill>
        <p:spPr>
          <a:xfrm>
            <a:off x="142920" y="785880"/>
            <a:ext cx="2643120" cy="1342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"/>
          <p:cNvPicPr/>
          <p:nvPr/>
        </p:nvPicPr>
        <p:blipFill>
          <a:blip r:embed="rId2"/>
          <a:stretch/>
        </p:blipFill>
        <p:spPr>
          <a:xfrm>
            <a:off x="1214280" y="3357720"/>
            <a:ext cx="6286680" cy="2357280"/>
          </a:xfrm>
          <a:prstGeom prst="rect">
            <a:avLst/>
          </a:prstGeom>
          <a:ln w="0">
            <a:noFill/>
          </a:ln>
        </p:spPr>
      </p:pic>
      <p:grpSp>
        <p:nvGrpSpPr>
          <p:cNvPr id="162" name="组合 11"/>
          <p:cNvGrpSpPr/>
          <p:nvPr/>
        </p:nvGrpSpPr>
        <p:grpSpPr>
          <a:xfrm>
            <a:off x="1569960" y="3714840"/>
            <a:ext cx="1359000" cy="642960"/>
            <a:chOff x="1569960" y="3714840"/>
            <a:chExt cx="1359000" cy="642960"/>
          </a:xfrm>
        </p:grpSpPr>
        <p:sp>
          <p:nvSpPr>
            <p:cNvPr id="163" name="直接连接符 8"/>
            <p:cNvSpPr/>
            <p:nvPr/>
          </p:nvSpPr>
          <p:spPr>
            <a:xfrm>
              <a:off x="1569960" y="3714840"/>
              <a:ext cx="135900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直接连接符 10"/>
            <p:cNvSpPr/>
            <p:nvPr/>
          </p:nvSpPr>
          <p:spPr>
            <a:xfrm flipH="1">
              <a:off x="1569960" y="3714840"/>
              <a:ext cx="1440" cy="642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组合 12"/>
          <p:cNvGrpSpPr/>
          <p:nvPr/>
        </p:nvGrpSpPr>
        <p:grpSpPr>
          <a:xfrm>
            <a:off x="5559480" y="3681360"/>
            <a:ext cx="1359000" cy="642960"/>
            <a:chOff x="5559480" y="3681360"/>
            <a:chExt cx="1359000" cy="642960"/>
          </a:xfrm>
        </p:grpSpPr>
        <p:sp>
          <p:nvSpPr>
            <p:cNvPr id="166" name="直接连接符 13"/>
            <p:cNvSpPr/>
            <p:nvPr/>
          </p:nvSpPr>
          <p:spPr>
            <a:xfrm>
              <a:off x="5559480" y="3681360"/>
              <a:ext cx="135900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直接连接符 14"/>
            <p:cNvSpPr/>
            <p:nvPr/>
          </p:nvSpPr>
          <p:spPr>
            <a:xfrm flipH="1">
              <a:off x="5559480" y="3681360"/>
              <a:ext cx="1440" cy="642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组合 15"/>
          <p:cNvGrpSpPr/>
          <p:nvPr/>
        </p:nvGrpSpPr>
        <p:grpSpPr>
          <a:xfrm>
            <a:off x="5808240" y="4726080"/>
            <a:ext cx="1359000" cy="642960"/>
            <a:chOff x="5808240" y="4726080"/>
            <a:chExt cx="1359000" cy="642960"/>
          </a:xfrm>
        </p:grpSpPr>
        <p:sp>
          <p:nvSpPr>
            <p:cNvPr id="169" name="直接连接符 16"/>
            <p:cNvSpPr/>
            <p:nvPr/>
          </p:nvSpPr>
          <p:spPr>
            <a:xfrm flipH="1" flipV="1">
              <a:off x="5808240" y="5367600"/>
              <a:ext cx="135900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直接连接符 17"/>
            <p:cNvSpPr/>
            <p:nvPr/>
          </p:nvSpPr>
          <p:spPr>
            <a:xfrm flipV="1">
              <a:off x="7165800" y="4726080"/>
              <a:ext cx="1440" cy="642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组合 18"/>
          <p:cNvGrpSpPr/>
          <p:nvPr/>
        </p:nvGrpSpPr>
        <p:grpSpPr>
          <a:xfrm>
            <a:off x="2978280" y="4776840"/>
            <a:ext cx="1357200" cy="642960"/>
            <a:chOff x="2978280" y="4776840"/>
            <a:chExt cx="1357200" cy="642960"/>
          </a:xfrm>
        </p:grpSpPr>
        <p:sp>
          <p:nvSpPr>
            <p:cNvPr id="172" name="直接连接符 19"/>
            <p:cNvSpPr/>
            <p:nvPr/>
          </p:nvSpPr>
          <p:spPr>
            <a:xfrm flipH="1" flipV="1">
              <a:off x="2978280" y="5418360"/>
              <a:ext cx="135720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直接连接符 20"/>
            <p:cNvSpPr/>
            <p:nvPr/>
          </p:nvSpPr>
          <p:spPr>
            <a:xfrm flipV="1">
              <a:off x="4334040" y="4776840"/>
              <a:ext cx="1440" cy="642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2500200" y="1566720"/>
            <a:ext cx="4295880" cy="2648160"/>
          </a:xfrm>
          <a:prstGeom prst="rect">
            <a:avLst/>
          </a:prstGeom>
          <a:ln w="0">
            <a:noFill/>
          </a:ln>
        </p:spPr>
      </p:pic>
      <p:sp>
        <p:nvSpPr>
          <p:cNvPr id="175" name="TextBox 3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探究新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714240" y="844560"/>
            <a:ext cx="835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图是直线外的点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向这条直线画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条线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图片 7" descr="绿枫叶1.png"/>
          <p:cNvPicPr/>
          <p:nvPr/>
        </p:nvPicPr>
        <p:blipFill>
          <a:blip r:embed="rId2"/>
          <a:stretch/>
        </p:blipFill>
        <p:spPr>
          <a:xfrm>
            <a:off x="92160" y="801720"/>
            <a:ext cx="663480" cy="720720"/>
          </a:xfrm>
          <a:prstGeom prst="rect">
            <a:avLst/>
          </a:prstGeom>
          <a:ln w="0">
            <a:noFill/>
          </a:ln>
        </p:spPr>
      </p:pic>
      <p:sp>
        <p:nvSpPr>
          <p:cNvPr id="178" name="TextBox 3"/>
          <p:cNvSpPr/>
          <p:nvPr/>
        </p:nvSpPr>
        <p:spPr>
          <a:xfrm>
            <a:off x="571680" y="4630680"/>
            <a:ext cx="857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说一说从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A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点到直线的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条线段哪条是垂线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直接连接符 10"/>
          <p:cNvSpPr/>
          <p:nvPr/>
        </p:nvSpPr>
        <p:spPr>
          <a:xfrm flipH="1">
            <a:off x="4022280" y="1928880"/>
            <a:ext cx="1800" cy="1859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2500200" y="1566720"/>
            <a:ext cx="4295880" cy="2648160"/>
          </a:xfrm>
          <a:prstGeom prst="rect">
            <a:avLst/>
          </a:prstGeom>
          <a:ln w="0">
            <a:noFill/>
          </a:ln>
        </p:spPr>
      </p:pic>
      <p:sp>
        <p:nvSpPr>
          <p:cNvPr id="181" name="TextBox 4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探究新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714240" y="844560"/>
            <a:ext cx="835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图是直线外的点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向这条直线画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条线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图片 7" descr="绿枫叶1.png"/>
          <p:cNvPicPr/>
          <p:nvPr/>
        </p:nvPicPr>
        <p:blipFill>
          <a:blip r:embed="rId2"/>
          <a:stretch/>
        </p:blipFill>
        <p:spPr>
          <a:xfrm>
            <a:off x="92160" y="801720"/>
            <a:ext cx="663480" cy="720720"/>
          </a:xfrm>
          <a:prstGeom prst="rect">
            <a:avLst/>
          </a:prstGeom>
          <a:ln w="0">
            <a:noFill/>
          </a:ln>
        </p:spPr>
      </p:pic>
      <p:sp>
        <p:nvSpPr>
          <p:cNvPr id="184" name="TextBox 3"/>
          <p:cNvSpPr/>
          <p:nvPr/>
        </p:nvSpPr>
        <p:spPr>
          <a:xfrm>
            <a:off x="1571760" y="4643280"/>
            <a:ext cx="764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估一估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条线段中哪条线段最短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7T03:06:33Z</dcterms:created>
  <dc:creator/>
  <dc:description/>
  <cp:keywords/>
  <dc:language>en-US</dc:language>
  <cp:lastModifiedBy/>
  <dcterms:modified xsi:type="dcterms:W3CDTF">2016-12-02T16:25:31Z</dcterms:modified>
  <cp:revision>5</cp:revision>
  <dc:subject/>
  <dc:title/>
</cp:coreProperties>
</file>