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AD4D-A176-46F3-9463-C4ECC604F7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8D4B-0A6B-4E79-AB39-80C2A7622A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A6BB-77DE-4658-93B4-1B1C714EAE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7028-105B-4B30-8127-8C329D398C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455F-4449-43D2-BE67-4598319423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88E0-084B-4958-A5AA-D579E447C0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62FA-030D-4289-89D8-1F55A3C59A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365D-EBE9-4131-A458-675036AFAF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D50B-58C9-4DC7-8AE5-5EABDB14FE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A02-5785-454E-9B3A-B825EE49DB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A3C8-30A9-4A94-A84E-6F9D454DDC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FA5E-3BA2-4A68-AF45-5C89EE8A01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096D-9CB0-46F4-A449-8C0518203A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FD84-7C0B-43D5-A79E-8695B6191D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62B8-35A3-40A4-A363-E09158424C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2A2-ADAD-4D24-9FEA-DF82C6A096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1BD-8A5B-4DC9-9C2E-F62FCA36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43D-423A-448C-8C94-38D1EE7E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F12-31C7-4AF5-B601-A50DB0F3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536-2E1C-4A92-80AD-0824719A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BB0-7214-4E27-83B1-322A167D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3AA-D864-400E-B3D9-3237BCFB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1FD-8DEB-4BE2-BECD-F6B9CA9C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A24-6997-4F6C-9BD7-29DDBE1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D32-58B4-40F6-B622-02FC247B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B12-9391-4C5C-806B-27AD2949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97C-0C24-4CAB-8B98-269E0468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9D2-DCCD-449C-8AAC-03F3EED5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C2C8-275C-452F-A155-6B2B204732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5840" y="207180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平均数解决实际问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-71280" y="714240"/>
            <a:ext cx="9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计算器分别计算两支球队队员的平均体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52680" y="1362240"/>
            <a:ext cx="6234120" cy="3665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142920" y="5359320"/>
            <a:ext cx="88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+35+45+54+53+51+56+56+5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9=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637200" y="497664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星队：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42920" y="614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+58+40+42+50+56+52+50+4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9=4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64548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银河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5" descr="抠图、议一议.png"/>
          <p:cNvPicPr/>
          <p:nvPr/>
        </p:nvPicPr>
        <p:blipFill>
          <a:blip r:embed="rId1"/>
          <a:stretch/>
        </p:blipFill>
        <p:spPr>
          <a:xfrm>
            <a:off x="285840" y="957240"/>
            <a:ext cx="2754360" cy="1400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28760" y="263052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支球队队员的平均体重和平均身高有什么关系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85840" y="220824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华小学四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组的同学植树情况如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8858160" cy="190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285840" y="520848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平均每个小组植树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42920" y="571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187280" y="6273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平均每个小组植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4"/>
          <p:cNvSpPr/>
          <p:nvPr/>
        </p:nvSpPr>
        <p:spPr>
          <a:xfrm>
            <a:off x="285840" y="7794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华小学四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组的同学植树情况如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2920" y="1928880"/>
            <a:ext cx="8858160" cy="19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285840" y="37800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全班平均每人植树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42920" y="442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143000" y="563076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全班平均每人植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4"/>
          <p:cNvSpPr/>
          <p:nvPr/>
        </p:nvSpPr>
        <p:spPr>
          <a:xfrm>
            <a:off x="285840" y="77940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夕阳红敬老院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老人，它们的年龄分别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他们的平均年龄是多少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4086360" cy="2676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42920" y="4846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7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143000" y="563076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他们的平均年龄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4"/>
          <p:cNvSpPr/>
          <p:nvPr/>
        </p:nvSpPr>
        <p:spPr>
          <a:xfrm>
            <a:off x="285840" y="7794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辆长途客车从出发站到目的地行驶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下表中给出了这辆客车每小时行驶的路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2000160"/>
            <a:ext cx="8786880" cy="1222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142920" y="4001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7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785880" y="478620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辆长途客车每小时行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85840" y="32148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：这辆长途客车每小时行驶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85840" y="297180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具体实例，经历了解数据信息、估计、用计算器计算平均数及讨论平均数意义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一步体会平均数的作用，能计算平均数，能用自己的语言解释其实际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估计平均身高、用平均数描述具体事物的过程中，发展数感，体会数学与日常生活的密切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5" descr="70.jpg"/>
          <p:cNvPicPr/>
          <p:nvPr/>
        </p:nvPicPr>
        <p:blipFill>
          <a:blip r:embed="rId1"/>
          <a:stretch/>
        </p:blipFill>
        <p:spPr>
          <a:xfrm>
            <a:off x="6715080" y="3214800"/>
            <a:ext cx="1736640" cy="1957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创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标注 6"/>
          <p:cNvSpPr/>
          <p:nvPr/>
        </p:nvSpPr>
        <p:spPr>
          <a:xfrm>
            <a:off x="500040" y="2143080"/>
            <a:ext cx="6000840" cy="1714680"/>
          </a:xfrm>
          <a:prstGeom prst="wedgeRoundRectCallout">
            <a:avLst>
              <a:gd name="adj1" fmla="val 63999"/>
              <a:gd name="adj2" fmla="val 44439"/>
              <a:gd name="adj3" fmla="val 16667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你们喜欢打篮球吗？ 说一说你知道打篮球都有哪些规则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747720" y="71424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市举办小学生篮球友谊赛，进入决赛的两支球队部分队员的身高和体重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468360" y="1933560"/>
            <a:ext cx="83772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93600" y="750960"/>
            <a:ext cx="8907480" cy="5235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714240" y="6059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上面的统计表，你了解到哪些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3600" y="750960"/>
            <a:ext cx="8907480" cy="5235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428760" y="60595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计一下，哪支球队队员的平均身高高一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-71280" y="714240"/>
            <a:ext cx="9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计算器分别计算两支球队队员的平均身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52680" y="1362240"/>
            <a:ext cx="6234120" cy="3665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-71280" y="5504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3+138+153+163+165+158+166+168+15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9=15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94280" y="492912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星队：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-71280" y="714240"/>
            <a:ext cx="9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计算器分别计算两支球队队员的平均身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52680" y="1362240"/>
            <a:ext cx="6234120" cy="3665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-71280" y="5504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2+172+140+140+154+160+167+161+16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9=15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494280" y="492912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银河队：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5" descr="抠图、议一议.png"/>
          <p:cNvPicPr/>
          <p:nvPr/>
        </p:nvPicPr>
        <p:blipFill>
          <a:blip r:embed="rId1"/>
          <a:stretch/>
        </p:blipFill>
        <p:spPr>
          <a:xfrm>
            <a:off x="285840" y="857160"/>
            <a:ext cx="2274840" cy="1357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28760" y="22082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出的平均身高是每个队员的身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28760" y="28447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个队员的身高能代表整支球队的平均身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28760" y="392256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子最高的队员超出本队平均身高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28760" y="499428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子最矮的队员低于本队平均身高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03:38:32Z</dcterms:created>
  <dc:creator/>
  <dc:description/>
  <cp:keywords/>
  <dc:language>en-US</dc:language>
  <cp:lastModifiedBy/>
  <dcterms:modified xsi:type="dcterms:W3CDTF">2016-12-02T16:28:50Z</dcterms:modified>
  <cp:revision>5</cp:revision>
  <dc:subject/>
  <dc:title/>
</cp:coreProperties>
</file>