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26D7-E9BA-4DC1-9DAB-5AB0F1C1BD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633-39CB-437B-934D-2486EC9566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C16D-E003-4728-8B62-1BD3FCD9C9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256-3428-4B88-B671-9234BD1CB2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5B92-A0A8-4B9C-8DCB-086F4060D1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C1E-8BB5-4EFF-8101-1DBED0EBAE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FE7-02DF-4067-8A73-A48D4F75B8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0E7-2EF8-455A-9CD0-9E85D5C786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D785-74BD-4DA7-BAB5-F9FD5517DA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25FF-08B3-45B0-B421-951EA9EAEF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02B2-C442-4479-B85D-60158F4A0A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C87-7D57-49F8-800D-951A091D13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918-C400-4E37-9580-F3E6F9D769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E84-7E96-49F2-BA25-275E3BC5D3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C357-5707-4E23-8956-B889309171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F14-5079-47D5-9270-E69916B736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C4C9-8E1A-4720-A732-1C64A15AA2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A4B-66AE-4334-AC06-CA49471406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5AC-5B8F-4AD0-AC4F-4E46B324C7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87F-876B-4C01-852B-1D48D5BE46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2DE-7CA7-45A1-8A2D-32D2B2ACA2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BAC-FB6A-4DAE-8971-B3781A6C04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12E5-0ACF-4F94-8A27-15F914B7F0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1A03-EBAA-4870-9819-F69BF12FB5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7BAE-EF55-4387-8BDA-F048B45CEC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C56-D496-4A39-8E20-AFA0AF469E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8CC-F284-4A6C-954F-37EF732C40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0DD-E5BD-471C-AAFE-1238D5A50D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A461-77AE-4150-87F7-699EE8F56F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F0B-0BBE-4049-81E0-F1117AE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1A3-E187-44EF-815B-35B0B39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15FA-C0A7-4F7F-A3F0-BC26921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4749-2677-4432-AA8D-F89B9F2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5FA47-AAB6-4F6A-AA2B-88867F0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F930-7119-41BD-B11C-00723A1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6CDBC-7466-48ED-8135-110E01D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B672-0C02-4574-BA60-E065B36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8AFB-C9F5-456E-9902-F84E690C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DAEDD-4F2B-44EE-99A5-ED7B3F9D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6F70-0247-4141-9A9C-8ECD5E8B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ECFA7-733B-41C6-9E40-2870D792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B1B-4996-4CA1-89B4-73B37D8C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5EA46-9794-4160-8FF0-8E5B298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3473F-F650-4CCC-8F8F-F24DEC2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5CB8-F1F1-414B-B670-D5CD14A5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A644-4A0E-4026-A3AD-2E78E99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5EC8A-8A95-4CCE-BDB5-D6422AD2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7113-DCE0-4E8D-B889-15A1982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F6D7-BF00-4FCA-A014-B8384AC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5C4A6-7864-453A-B6BA-BDFFDDB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475F4-46C9-4BC1-9ECE-A3B613B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1B410-565C-4231-9DD1-F86A957E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DFB-8CBC-4A66-B900-6925F5A3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10472-2F1F-48A2-B4D8-F3FA65AC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2AF88-9CF9-4600-93AF-EB8A1FA9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9FD2-B5F0-41E8-AEB4-CF869C4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A739F-8E80-40BA-A201-D76D8CAD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6752-A9D8-4445-9525-1ABD0FA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F617-C048-42E5-B6B0-5B01224D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B4DA-6F4C-4549-89B8-D06E404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0E79E-05B9-4DA6-8618-3D698BF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BF8A-960F-4787-B111-C72931D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138F7-EFB7-4510-97CE-D45CEF6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3DFE-EF18-426B-8493-5CD44C4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1B25-B347-471D-82B0-D397E5E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2AAC-252C-4C0D-BD62-4B5CD71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F301F-A20F-4399-B4B0-07D35242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879C8-6E0D-44BF-8461-2EE05B84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A03A0-8888-4B1A-86E2-F96F586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4676D-77EC-410A-8F8E-25DE1005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8FEF0-156A-4B4B-9376-0CA0C28A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61E10-2D88-456D-84BD-557C1819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7E473-6A84-4943-9207-50748A65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1521A-DB32-45AC-8A50-CD951F31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3EF-7C45-4D42-9397-B34FD5D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C7C70-0F5B-40B6-9537-FC449DF1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864D0-C679-4873-ADC4-24B7E2B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045F7-0B42-4772-BB4F-3A19B650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1E1F6-90AC-43F8-B8D1-442A2BE0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05A6E-4A54-4F92-A45C-375769F6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1624-7C98-48CB-99A6-AD156EDB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3727-F519-499D-B8FB-BE4B6ED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7879-A454-4246-B663-B9A40D3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E06-F85F-44F6-A13A-901BDFE1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2C7-0A91-4BF9-BD83-B5075BB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FE4-156F-484B-80C6-4FB0F714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B7C-737C-4B02-8BE5-5B7E30E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C84-9371-4601-80D3-73E8DD9C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6477-3E22-4863-AC9C-1343370C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779D-2783-4982-9BA2-41007F75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095-7B10-460C-B27F-DCA2A86A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10D8-C071-4AD6-843A-2ABD80ED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014B-31A3-45AE-9DDD-27ABC461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1FCB-54EB-4B06-A1F7-F5D002E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8CB2-9C3E-4E9C-995A-549C534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4ECD-D8C2-436C-89AF-FC7AD665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4E4-D2FD-421C-99EF-8401629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770F-941E-44B4-BE61-B71F036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FEAE-95D3-48BE-83C2-3CE7F75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06CB-2D6A-49D1-B9ED-4EF2682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A489-62AD-4F57-96A0-527E5AF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1A95-6B9E-4A2B-8413-280F90E0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87D5-D552-4104-88A7-755F0E0F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E22C-4F2E-4066-8814-47E26858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4005-5E40-4B61-B623-3E711575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6978-F017-4437-B948-8436CD75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8C28-DF1E-4A25-AE72-6402643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A73-34F3-40D1-80CB-BAF5CC2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DF1B-CC69-418E-81A8-997E39E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0CDA-6862-411F-AA52-5130FA0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FA6A-7FF2-4DDC-BE93-BA500DC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D114-DB68-41DA-A12F-1BC1259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1D90-C5B0-4217-8C5B-9BC4B93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56A3-DAAD-4353-9388-26F1EEC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33B9-0360-490A-8A97-28B36C89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7E16-2B07-4935-9F1D-384BF37E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79BD-C235-472F-85FB-FECCF78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112A-FFD5-45FD-A312-4CB01C15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27D-28DE-41E3-8343-58F6D62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1987-00F7-4777-AF8D-990EFD2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2A23-918C-4A15-8419-95DEDD8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20B7-512D-4342-8BBA-B3C31A1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2657-BD91-491A-A370-963323CA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F92F-8184-4B55-80C2-B3ACF2F2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301C-9942-41B3-AAE1-1880533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5907-EA20-40F2-8B54-B638F66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FF67-82B8-4664-BBC9-FB2BC7E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C936-9B19-424D-A28E-59D5DEB7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FC46-3FDC-4E4F-A16D-E44FFDA4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4C5-9001-49F3-A06D-2AD2670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60FD-ADCF-4343-B3F8-E39CD9BC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CE61-D7C7-4142-AE86-C5B72A2A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56743-48E8-470B-9115-3DC5C467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ADE0-98D9-4B91-89EC-C3271A4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9F7B-C0B7-4CC4-993B-F3CA788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D247-5C44-4017-8AF5-4E6393A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933B-CB62-4F40-85B9-57FAB03C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C81AA-8DCF-447D-AE9B-62ED58F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75C2-87E3-4084-AAD0-EE9ACD9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5E09-4245-4431-8185-F045BE3A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889-82C1-49D6-A114-8D7DA58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00F1-07E3-4581-B49D-0790D217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522F-D270-4443-81E0-F934064E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46E84-E2C1-46B9-9693-0D8C0DEB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ABA9C-7189-4EA1-BF66-9367BEFC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9D2A-5CB2-4F85-B45B-F67C85C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8B1F-897C-4654-B5D8-1EA8F9EF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80FE-4E3B-415F-BC04-45D941DB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58CD0-8288-45F6-936B-10F69CB3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5CC10-43B3-48F0-AFAE-75D9F87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FE6A-FD3E-4C33-ABCB-D2A6F2D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EB3-7BDD-43D8-B104-E82E1A9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285EB-D606-4278-BCA1-0E5EE92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530D-7EA1-4F79-B5E7-840A44D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EF88-46E4-44CB-A53D-55B14B4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3F22-7CBF-44BB-A13E-DDC45DFB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4597-632C-4ACE-A678-28C1A6EA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889A-0335-4488-85C1-BD4E9BDD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F4A06-2243-40E9-AD59-3F249B9F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7886-4687-4555-9A61-B824C64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248C-73BE-4A65-A2B6-E4DB351F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F612B-8EC6-4215-A779-A1270E6C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AE1-BC92-4EF2-97CE-9CBAB31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B60B-535C-44F7-A30B-C16D8E3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2DF6-FD34-4C89-98DE-E2E1498B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FFE9-545F-4202-BAE4-66F46CB1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7435-9A43-4282-9E72-7FE60E50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15DF-DAAB-4E07-9A58-1BAD85A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4A0A-CEE1-45A9-96D3-2212DAA0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F24BB-32CE-464D-BBCC-D190A21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D5A37-DB1B-4EF9-B641-9E7775F0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CEB49-5E53-47E3-AE11-EFA71530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88C3-653B-4E3E-A265-34493ECF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0A9-6955-4672-A754-C8CCCB92AF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7951-4048-4A1E-9EDE-A907472B00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703-33D3-4A21-AF68-71D207E7C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E54C-7089-437E-AFBE-0F2C308DE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77D-CB7F-4D97-9B6A-368726F087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5624-B204-416C-A4E5-1807F8DA54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714-B05B-4295-9E9E-B5A1A9A2F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4203-CC44-4852-9559-5D5EBB9A6A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889-7EFA-47CD-96DF-85097AFEB4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548-6FB8-4296-B94C-3D867756C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CBC-2008-42B9-A189-F1AEBD7EE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43A-FC48-42B8-A6AB-E5DA776939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85840" y="248292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技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0600" y="1071720"/>
            <a:ext cx="8929800" cy="26571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1857240" y="392904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÷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1928880" y="4773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903240"/>
          </a:xfrm>
          <a:prstGeom prst="rect">
            <a:avLst/>
          </a:prstGeom>
          <a:ln w="0">
            <a:noFill/>
          </a:ln>
        </p:spPr>
      </p:pic>
      <p:sp>
        <p:nvSpPr>
          <p:cNvPr id="588" name="TextBox 5"/>
          <p:cNvSpPr/>
          <p:nvPr/>
        </p:nvSpPr>
        <p:spPr>
          <a:xfrm>
            <a:off x="2143080" y="228600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6"/>
          <p:cNvSpPr/>
          <p:nvPr/>
        </p:nvSpPr>
        <p:spPr>
          <a:xfrm>
            <a:off x="2143080" y="307188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00÷2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7"/>
          <p:cNvSpPr/>
          <p:nvPr/>
        </p:nvSpPr>
        <p:spPr>
          <a:xfrm>
            <a:off x="928800" y="39290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些粮食大约可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吃一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71280" y="1071720"/>
            <a:ext cx="8929800" cy="146664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/>
          <p:cNvSpPr/>
          <p:nvPr/>
        </p:nvSpPr>
        <p:spPr>
          <a:xfrm>
            <a:off x="1643040" y="31431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7"/>
          <p:cNvSpPr/>
          <p:nvPr/>
        </p:nvSpPr>
        <p:spPr>
          <a:xfrm>
            <a:off x="1643040" y="39877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1643040" y="48578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858160" cy="9921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642960" y="26431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数有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9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642960" y="35719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数有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10840" cy="571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2"/>
          <a:stretch/>
        </p:blipFill>
        <p:spPr>
          <a:xfrm>
            <a:off x="857160" y="2786040"/>
            <a:ext cx="4695840" cy="523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3"/>
          <a:stretch/>
        </p:blipFill>
        <p:spPr>
          <a:xfrm>
            <a:off x="928800" y="4324320"/>
            <a:ext cx="5581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组合 15"/>
          <p:cNvGrpSpPr/>
          <p:nvPr/>
        </p:nvGrpSpPr>
        <p:grpSpPr>
          <a:xfrm>
            <a:off x="214200" y="1143000"/>
            <a:ext cx="8715600" cy="4071960"/>
            <a:chOff x="214200" y="1143000"/>
            <a:chExt cx="8715600" cy="4071960"/>
          </a:xfrm>
        </p:grpSpPr>
        <p:pic>
          <p:nvPicPr>
            <p:cNvPr id="606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1143000"/>
              <a:ext cx="7153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3" descr=""/>
            <p:cNvPicPr/>
            <p:nvPr/>
          </p:nvPicPr>
          <p:blipFill>
            <a:blip r:embed="rId2"/>
            <a:stretch/>
          </p:blipFill>
          <p:spPr>
            <a:xfrm>
              <a:off x="714240" y="2171520"/>
              <a:ext cx="821088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" descr=""/>
            <p:cNvPicPr/>
            <p:nvPr/>
          </p:nvPicPr>
          <p:blipFill>
            <a:blip r:embed="rId3"/>
            <a:stretch/>
          </p:blipFill>
          <p:spPr>
            <a:xfrm>
              <a:off x="747360" y="3390840"/>
              <a:ext cx="81824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5" descr=""/>
            <p:cNvPicPr/>
            <p:nvPr/>
          </p:nvPicPr>
          <p:blipFill>
            <a:blip r:embed="rId4"/>
            <a:stretch/>
          </p:blipFill>
          <p:spPr>
            <a:xfrm>
              <a:off x="665280" y="4672080"/>
              <a:ext cx="8220240" cy="5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TextBox 8"/>
          <p:cNvSpPr/>
          <p:nvPr/>
        </p:nvSpPr>
        <p:spPr>
          <a:xfrm>
            <a:off x="5072040" y="2058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6286680" y="20588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5072040" y="32734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"/>
          <p:cNvSpPr/>
          <p:nvPr/>
        </p:nvSpPr>
        <p:spPr>
          <a:xfrm>
            <a:off x="6286680" y="32734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5072040" y="4500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5857920" y="4500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4"/>
          <p:cNvSpPr/>
          <p:nvPr/>
        </p:nvSpPr>
        <p:spPr>
          <a:xfrm>
            <a:off x="6643800" y="4500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7429680" y="4500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7"/>
          <p:cNvSpPr/>
          <p:nvPr/>
        </p:nvSpPr>
        <p:spPr>
          <a:xfrm>
            <a:off x="5072040" y="51055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8"/>
          <p:cNvSpPr/>
          <p:nvPr/>
        </p:nvSpPr>
        <p:spPr>
          <a:xfrm>
            <a:off x="5857920" y="50943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81080" y="1143000"/>
            <a:ext cx="8786880" cy="1049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285920" y="26431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1285920" y="34164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2×2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1285920" y="420228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3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1285920" y="49165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2×2×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01520" y="1071720"/>
            <a:ext cx="8828280" cy="316368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"/>
          <p:cNvSpPr/>
          <p:nvPr/>
        </p:nvSpPr>
        <p:spPr>
          <a:xfrm>
            <a:off x="2500200" y="42861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×3÷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6"/>
          <p:cNvSpPr/>
          <p:nvPr/>
        </p:nvSpPr>
        <p:spPr>
          <a:xfrm>
            <a:off x="2143080" y="50007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支圆珠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79200" y="1143000"/>
            <a:ext cx="8929800" cy="3090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5"/>
          <p:cNvSpPr/>
          <p:nvPr/>
        </p:nvSpPr>
        <p:spPr>
          <a:xfrm>
            <a:off x="1428840" y="428616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6"/>
          <p:cNvSpPr/>
          <p:nvPr/>
        </p:nvSpPr>
        <p:spPr>
          <a:xfrm>
            <a:off x="1428840" y="49165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多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1428840" y="56307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合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123840" y="1101600"/>
            <a:ext cx="8786880" cy="36133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2357280" y="4786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×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6"/>
          <p:cNvSpPr/>
          <p:nvPr/>
        </p:nvSpPr>
        <p:spPr>
          <a:xfrm>
            <a:off x="1143000" y="55594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集热管够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42920" y="954000"/>
            <a:ext cx="8715240" cy="276084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"/>
          <p:cNvSpPr/>
          <p:nvPr/>
        </p:nvSpPr>
        <p:spPr>
          <a:xfrm>
            <a:off x="2214720" y="41432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2214720" y="47862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5×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2214720" y="55008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男孩喝得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90360" y="1120680"/>
            <a:ext cx="8929800" cy="1737000"/>
          </a:xfrm>
          <a:prstGeom prst="rect">
            <a:avLst/>
          </a:prstGeom>
          <a:ln w="0">
            <a:noFill/>
          </a:ln>
        </p:spPr>
      </p:pic>
      <p:sp>
        <p:nvSpPr>
          <p:cNvPr id="641" name="TextBox 5"/>
          <p:cNvSpPr/>
          <p:nvPr/>
        </p:nvSpPr>
        <p:spPr>
          <a:xfrm>
            <a:off x="4132440" y="1635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5643720" y="16430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7358040" y="16430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3071880" y="220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471492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"/>
          <p:cNvSpPr/>
          <p:nvPr/>
        </p:nvSpPr>
        <p:spPr>
          <a:xfrm>
            <a:off x="6429240" y="2187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1"/>
          <p:cNvSpPr/>
          <p:nvPr/>
        </p:nvSpPr>
        <p:spPr>
          <a:xfrm>
            <a:off x="8072280" y="220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7"/>
          <p:cNvGrpSpPr/>
          <p:nvPr/>
        </p:nvGrpSpPr>
        <p:grpSpPr>
          <a:xfrm>
            <a:off x="95400" y="1143000"/>
            <a:ext cx="8953200" cy="3643200"/>
            <a:chOff x="95400" y="1143000"/>
            <a:chExt cx="8953200" cy="3643200"/>
          </a:xfrm>
        </p:grpSpPr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95400" y="1143000"/>
              <a:ext cx="895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3" descr=""/>
            <p:cNvPicPr/>
            <p:nvPr/>
          </p:nvPicPr>
          <p:blipFill>
            <a:blip r:embed="rId2"/>
            <a:stretch/>
          </p:blipFill>
          <p:spPr>
            <a:xfrm>
              <a:off x="928800" y="2071440"/>
              <a:ext cx="572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" descr=""/>
            <p:cNvPicPr/>
            <p:nvPr/>
          </p:nvPicPr>
          <p:blipFill>
            <a:blip r:embed="rId3"/>
            <a:stretch/>
          </p:blipFill>
          <p:spPr>
            <a:xfrm>
              <a:off x="928800" y="4281480"/>
              <a:ext cx="805788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TextBox 8"/>
          <p:cNvSpPr/>
          <p:nvPr/>
        </p:nvSpPr>
        <p:spPr>
          <a:xfrm>
            <a:off x="2357280" y="2643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÷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"/>
          <p:cNvSpPr/>
          <p:nvPr/>
        </p:nvSpPr>
        <p:spPr>
          <a:xfrm>
            <a:off x="1785960" y="34164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学校平均每天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0"/>
          <p:cNvSpPr/>
          <p:nvPr/>
        </p:nvSpPr>
        <p:spPr>
          <a:xfrm>
            <a:off x="1928880" y="500076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1"/>
          <p:cNvSpPr/>
          <p:nvPr/>
        </p:nvSpPr>
        <p:spPr>
          <a:xfrm>
            <a:off x="1785960" y="577368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四季度学校用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6"/>
          <p:cNvGrpSpPr/>
          <p:nvPr/>
        </p:nvGrpSpPr>
        <p:grpSpPr>
          <a:xfrm>
            <a:off x="101520" y="1068480"/>
            <a:ext cx="8929800" cy="4655880"/>
            <a:chOff x="101520" y="1068480"/>
            <a:chExt cx="8929800" cy="4655880"/>
          </a:xfrm>
        </p:grpSpPr>
        <p:pic>
          <p:nvPicPr>
            <p:cNvPr id="659" name="Picture 2" descr=""/>
            <p:cNvPicPr/>
            <p:nvPr/>
          </p:nvPicPr>
          <p:blipFill>
            <a:blip r:embed="rId1"/>
            <a:stretch/>
          </p:blipFill>
          <p:spPr>
            <a:xfrm>
              <a:off x="101520" y="1068480"/>
              <a:ext cx="89298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3" descr=""/>
            <p:cNvPicPr/>
            <p:nvPr/>
          </p:nvPicPr>
          <p:blipFill>
            <a:blip r:embed="rId2"/>
            <a:stretch/>
          </p:blipFill>
          <p:spPr>
            <a:xfrm>
              <a:off x="714240" y="5358240"/>
              <a:ext cx="7858440" cy="36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TextBox 7"/>
          <p:cNvSpPr/>
          <p:nvPr/>
        </p:nvSpPr>
        <p:spPr>
          <a:xfrm>
            <a:off x="500040" y="4643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8"/>
          <p:cNvSpPr/>
          <p:nvPr/>
        </p:nvSpPr>
        <p:spPr>
          <a:xfrm>
            <a:off x="1143000" y="5786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68400" y="1087560"/>
            <a:ext cx="9001080" cy="2747880"/>
          </a:xfrm>
          <a:prstGeom prst="rect">
            <a:avLst/>
          </a:prstGeom>
          <a:ln w="0">
            <a:noFill/>
          </a:ln>
        </p:spPr>
      </p:pic>
      <p:sp>
        <p:nvSpPr>
          <p:cNvPr id="665" name="TextBox 5"/>
          <p:cNvSpPr/>
          <p:nvPr/>
        </p:nvSpPr>
        <p:spPr>
          <a:xfrm>
            <a:off x="2357280" y="392904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6"/>
          <p:cNvSpPr/>
          <p:nvPr/>
        </p:nvSpPr>
        <p:spPr>
          <a:xfrm>
            <a:off x="857160" y="45957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7"/>
          <p:cNvSpPr/>
          <p:nvPr/>
        </p:nvSpPr>
        <p:spPr>
          <a:xfrm>
            <a:off x="1000080" y="52624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高速公路收费站平均每小时通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500040" y="1065240"/>
            <a:ext cx="7929720" cy="5506920"/>
          </a:xfrm>
          <a:prstGeom prst="rect">
            <a:avLst/>
          </a:prstGeom>
          <a:ln w="0">
            <a:noFill/>
          </a:ln>
        </p:spPr>
      </p:pic>
      <p:sp>
        <p:nvSpPr>
          <p:cNvPr id="670" name="矩形 5"/>
          <p:cNvSpPr/>
          <p:nvPr/>
        </p:nvSpPr>
        <p:spPr>
          <a:xfrm>
            <a:off x="2357280" y="3247920"/>
            <a:ext cx="500400" cy="2928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6"/>
          <p:cNvSpPr/>
          <p:nvPr/>
        </p:nvSpPr>
        <p:spPr>
          <a:xfrm>
            <a:off x="2244600" y="28004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7"/>
          <p:cNvSpPr/>
          <p:nvPr/>
        </p:nvSpPr>
        <p:spPr>
          <a:xfrm>
            <a:off x="3508200" y="3846600"/>
            <a:ext cx="500400" cy="2316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3406680" y="33577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9"/>
          <p:cNvSpPr/>
          <p:nvPr/>
        </p:nvSpPr>
        <p:spPr>
          <a:xfrm>
            <a:off x="4707000" y="5572080"/>
            <a:ext cx="500040" cy="5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4643280" y="510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1"/>
          <p:cNvSpPr/>
          <p:nvPr/>
        </p:nvSpPr>
        <p:spPr>
          <a:xfrm>
            <a:off x="5854680" y="5000760"/>
            <a:ext cx="500040" cy="1177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5857920" y="4429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3"/>
          <p:cNvSpPr/>
          <p:nvPr/>
        </p:nvSpPr>
        <p:spPr>
          <a:xfrm>
            <a:off x="7020000" y="4429080"/>
            <a:ext cx="500040" cy="1733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4"/>
          <p:cNvSpPr/>
          <p:nvPr/>
        </p:nvSpPr>
        <p:spPr>
          <a:xfrm>
            <a:off x="6858000" y="39052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90360" y="1187280"/>
            <a:ext cx="8929800" cy="2586240"/>
          </a:xfrm>
          <a:prstGeom prst="rect">
            <a:avLst/>
          </a:prstGeom>
          <a:ln w="0">
            <a:noFill/>
          </a:ln>
        </p:spPr>
      </p:pic>
      <p:sp>
        <p:nvSpPr>
          <p:cNvPr id="682" name="TextBox 5"/>
          <p:cNvSpPr/>
          <p:nvPr/>
        </p:nvSpPr>
        <p:spPr>
          <a:xfrm>
            <a:off x="1571760" y="18572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6143760" y="18572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7"/>
          <p:cNvSpPr/>
          <p:nvPr/>
        </p:nvSpPr>
        <p:spPr>
          <a:xfrm>
            <a:off x="1714680" y="31431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786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57240" y="1092240"/>
            <a:ext cx="9001080" cy="2954160"/>
          </a:xfrm>
          <a:prstGeom prst="rect">
            <a:avLst/>
          </a:prstGeom>
          <a:ln w="0">
            <a:noFill/>
          </a:ln>
        </p:spPr>
      </p:pic>
      <p:sp>
        <p:nvSpPr>
          <p:cNvPr id="689" name="TextBox 5"/>
          <p:cNvSpPr/>
          <p:nvPr/>
        </p:nvSpPr>
        <p:spPr>
          <a:xfrm>
            <a:off x="6500880" y="2357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2643120" y="3333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7"/>
          <p:cNvSpPr/>
          <p:nvPr/>
        </p:nvSpPr>
        <p:spPr>
          <a:xfrm>
            <a:off x="2786040" y="2357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6500880" y="2833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4000680" y="2928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6500880" y="3333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54579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146160" y="1057320"/>
            <a:ext cx="8786880" cy="3841560"/>
          </a:xfrm>
          <a:prstGeom prst="rect">
            <a:avLst/>
          </a:prstGeom>
          <a:ln w="0">
            <a:noFill/>
          </a:ln>
        </p:spPr>
      </p:pic>
      <p:sp>
        <p:nvSpPr>
          <p:cNvPr id="532" name="TextBox 5"/>
          <p:cNvSpPr/>
          <p:nvPr/>
        </p:nvSpPr>
        <p:spPr>
          <a:xfrm>
            <a:off x="7858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264312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143680" y="49165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"/>
          <p:cNvSpPr/>
          <p:nvPr/>
        </p:nvSpPr>
        <p:spPr>
          <a:xfrm>
            <a:off x="6572160" y="49165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500040" y="1082520"/>
            <a:ext cx="8083440" cy="45626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5"/>
          <p:cNvSpPr/>
          <p:nvPr/>
        </p:nvSpPr>
        <p:spPr>
          <a:xfrm>
            <a:off x="1928880" y="57024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6357960" y="57592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400960" cy="40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2"/>
          <a:stretch/>
        </p:blipFill>
        <p:spPr>
          <a:xfrm>
            <a:off x="1500120" y="2722680"/>
            <a:ext cx="6929640" cy="42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"/>
          <p:cNvPicPr/>
          <p:nvPr/>
        </p:nvPicPr>
        <p:blipFill>
          <a:blip r:embed="rId3"/>
          <a:stretch/>
        </p:blipFill>
        <p:spPr>
          <a:xfrm>
            <a:off x="1486080" y="4440240"/>
            <a:ext cx="7300800" cy="4176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7"/>
          <p:cNvSpPr/>
          <p:nvPr/>
        </p:nvSpPr>
        <p:spPr>
          <a:xfrm>
            <a:off x="1143000" y="17146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3929040" y="17146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9"/>
          <p:cNvSpPr/>
          <p:nvPr/>
        </p:nvSpPr>
        <p:spPr>
          <a:xfrm>
            <a:off x="6858000" y="17146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1143000" y="32734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3929040" y="32734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2"/>
          <p:cNvSpPr/>
          <p:nvPr/>
        </p:nvSpPr>
        <p:spPr>
          <a:xfrm>
            <a:off x="6858000" y="32734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1143000" y="49165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3929040" y="49165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6858000" y="49165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429400" cy="1095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1000080" y="4005360"/>
            <a:ext cx="7724880" cy="49536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642960" y="2273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3643200" y="227340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6715080" y="2273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642960" y="4559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3643200" y="455940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1"/>
          <p:cNvSpPr/>
          <p:nvPr/>
        </p:nvSpPr>
        <p:spPr>
          <a:xfrm>
            <a:off x="6715080" y="4559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420040" cy="495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1071720" y="3929040"/>
            <a:ext cx="7886520" cy="447840"/>
          </a:xfrm>
          <a:prstGeom prst="rect">
            <a:avLst/>
          </a:prstGeom>
          <a:ln w="0">
            <a:noFill/>
          </a:ln>
        </p:spPr>
      </p:pic>
      <p:sp>
        <p:nvSpPr>
          <p:cNvPr id="565" name="TextBox 6"/>
          <p:cNvSpPr/>
          <p:nvPr/>
        </p:nvSpPr>
        <p:spPr>
          <a:xfrm>
            <a:off x="64296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0÷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642960" y="24289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564372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5÷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5643720" y="24289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642960" y="455940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1"/>
          <p:cNvSpPr/>
          <p:nvPr/>
        </p:nvSpPr>
        <p:spPr>
          <a:xfrm>
            <a:off x="642960" y="52736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2"/>
          <p:cNvSpPr/>
          <p:nvPr/>
        </p:nvSpPr>
        <p:spPr>
          <a:xfrm>
            <a:off x="5643720" y="455940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2÷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3"/>
          <p:cNvSpPr/>
          <p:nvPr/>
        </p:nvSpPr>
        <p:spPr>
          <a:xfrm>
            <a:off x="5643720" y="52736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90360" y="1082520"/>
            <a:ext cx="8929800" cy="33354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5"/>
          <p:cNvSpPr/>
          <p:nvPr/>
        </p:nvSpPr>
        <p:spPr>
          <a:xfrm>
            <a:off x="2286000" y="421488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1285920" y="478620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×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克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1285920" y="535788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÷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1285920" y="591660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天加工的鲜牛奶可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85840" y="1035000"/>
            <a:ext cx="8715240" cy="3036960"/>
          </a:xfrm>
          <a:prstGeom prst="rect">
            <a:avLst/>
          </a:prstGeom>
          <a:ln w="0">
            <a:noFill/>
          </a:ln>
        </p:spPr>
      </p:pic>
      <p:sp>
        <p:nvSpPr>
          <p:cNvPr id="581" name="TextBox 5"/>
          <p:cNvSpPr/>
          <p:nvPr/>
        </p:nvSpPr>
        <p:spPr>
          <a:xfrm>
            <a:off x="1500120" y="457200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一天可以节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粮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3:17:56Z</dcterms:created>
  <dc:creator/>
  <dc:description/>
  <cp:keywords/>
  <dc:language>en-US</dc:language>
  <cp:lastModifiedBy/>
  <dcterms:modified xsi:type="dcterms:W3CDTF">2016-12-02T16:33:55Z</dcterms:modified>
  <cp:revision>5</cp:revision>
  <dc:subject/>
  <dc:title/>
</cp:coreProperties>
</file>