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0E8E-DE06-40E8-9CBE-A4BB49A2CB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318-0B42-47B0-A8AA-4F2C0E8A34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2D12-FA55-47C8-BAC4-32CED281CF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AB4-F198-41AB-8B3C-D8DA0578E5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1064-CBEA-4C1E-80BD-625AF41298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E47E-CC42-4B43-9C73-E615C3D585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103F-E850-403E-A002-C08735849C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1D2D-4B4E-4C7D-AD08-05D75480AD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BB6-A143-4DD0-8567-2DF531155F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53CA-00FA-4823-AB0F-DDDD44FAB9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70A-DAE6-4324-A3AE-EF080F76BE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6B61-4717-4E88-ABEC-9D5F2911BA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7158-E879-40D4-ADD2-1426625DF8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94D4-3357-4EF8-8139-EB33F6FF5C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45DA-87B7-4789-B4A7-9D5D3279B8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468-4CDA-4109-8D77-055634AB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216-0317-4601-9FF3-A34484E8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F1421-7820-4AE8-9ECD-C94E4F5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8E03-D830-4276-B4FA-553D1EB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AE2CD-2121-4679-848E-B61CA3E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C3C54-98C6-4518-81BF-B443B3FA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6D56A-A092-42ED-8B6C-F22E112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0A74A-8C3C-4289-9A76-53A536D0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95921-988E-4014-853C-20E976FE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3DB39-1CB4-4EF7-8DF8-9288B4C4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FBA7E-303A-45D0-BA59-5D608E49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32234-D510-4ADE-8182-B472495C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457-3836-4888-BC5C-AEFEE80C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73ECE-0C56-4535-984B-F363C1B3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41634-4079-4623-B276-5410B013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2C727-E7D3-4750-BD3F-C918E733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ECD13-48CD-4B56-9D90-FC33CB4F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E96AA-0B0B-4E44-A6C4-ADDA6CC3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B5995-A0FF-4023-8775-72B7DA7F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59042-D846-4AA8-BB69-321CACD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78C33-7C99-4943-87C7-F4F457F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715BA-BF2F-4B80-8EDB-16A30C73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9F5F3-96F0-4ADE-88AD-0DA623E4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231-6A96-4F7F-9900-BF946F92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A6DE6-B879-44FA-B467-B7C9C9D9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0469F-2BA9-44AB-864E-E0801743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E9B0B-E668-4ED7-8260-8A8E5526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75BF4-8B3D-4D0C-A16D-A05D458A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FF675-280D-4BDB-B754-70806859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17217-4BAA-4850-8087-CDA6D7CE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BB742-F5BA-4BD7-A7BC-B2C71E12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BAA88-B93B-4FEA-B866-E3C04CE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A1292-E55C-4C37-9CB6-933D53E2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DB10-0661-49AE-8D95-0BA51BF1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F0FB-6C50-4E76-93CD-710595CB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08BBF-CA4C-4833-A4B3-F551AA3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03949-8B90-43CE-B358-3137CBFC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79812-E423-40AD-9CA9-35840BD8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437CF-D570-4AFC-A998-F3C913A2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50C00-58C0-431E-A4AB-EE7E4A2D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64C12-6C6F-4E0F-A7A0-19D320E1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8633E-D569-4443-A648-0AD0E887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6096A-23E8-4210-A6E3-4CDF6EFD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E17E0-6BCD-44D3-B745-1811FA1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91B94-5F4A-4E5D-B979-EB0CD324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32FB-1A4D-422F-8F5C-382E1475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51FCB-D5CA-49AA-92AF-58B075E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A70B6-72F2-47F2-B276-2B24E0D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DE6C2-B1B7-4861-A534-A9B4A097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51C9E-DF27-4DCF-825A-AEA029D6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84CCD-44CC-4D71-9309-290F69C6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9926-B1AF-42FA-8206-876F07F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23F6-5D36-4BDB-80F0-6BD3E58F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8AC-E407-4313-AE2C-0716D7C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0365-F325-419A-9D36-89B2D6D2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34AC-FF9A-42C4-8A79-99B1424E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5C8-ECDC-46C1-888E-A01324E7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ADB4-3614-4F6A-BF44-B22D429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98D7-2DB8-433F-9E9C-1143F0FC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E239-7A42-4942-867B-8D7E77EB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9481-AC32-458D-A11A-8ABA39A2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1D31-7BC5-42E4-981C-67979746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0056-C975-4575-8A60-A5D72646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1403-A465-4B14-856D-61B39B85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10B7-E7AD-466A-83C8-3710B81B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D0FE-87D0-4435-9101-B96B9FBB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41E7-9BDA-4534-A5E4-AB6C0C4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604-58B8-490E-A115-C14E29B1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6F5F1-6081-4D0C-BB0D-43D7837A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7F45-ED0F-47AE-B80E-054D75B7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56AC-360E-424D-B4B4-AE87C2D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0C6E-883F-44FD-9D66-B4730AF8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65B9-DBC6-41D4-9A08-3C4F450D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A446-194B-4D63-A4E7-8EA31056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9105-C725-4E1E-A6F6-874431F3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7507-70A5-4DC3-BAB6-77581260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7758-7689-4300-A976-951A6CB6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2A904-4655-4EC8-B66D-3C07D889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9CD-CE4C-4E1E-9588-BE6E1D3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CE36-FFF0-4614-ACA1-24C02F8F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D058B-658F-4EE9-90F5-AD47CC7A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315D-586D-40C5-8181-76EC3AB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F9B76-BD88-42AB-89A6-46F575B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7B3A-0211-432A-8C68-4863F06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DB4C-5A8B-4EB1-9F65-CBCD73F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67E4-BE18-4335-BD6B-01A6C26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8DAA-E592-4B65-8CD3-B734B20E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E3FB-A30E-4566-BA55-DEF55508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5C1C-85A3-4F00-A98E-6F3F0707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D57-3C4C-4148-B671-BF15D9D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0A193-2D1C-4D3F-9F7F-F1A7977F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B37AC-7E2F-4FC4-834C-2D69162B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137C-0BBC-4BF2-875B-FABAD90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9780-87C3-4D5D-9960-C907312F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58649-80A5-45D3-809C-473E71BF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FA18-DAC3-4BD6-BCD5-F0926C2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4F90-C902-4C89-BA86-0C7D03DA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931F1-62DB-4ED9-969E-28B85DD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66E9A-9A2D-46C2-B92B-5FFD4DA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365A3-4557-4043-AEE6-A71A7F1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F30-2DD0-4AC9-AB0B-962F26A5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AE6B-A3BD-4BEB-84E2-7233056B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6C27-2885-4ADE-A516-43E6FDDB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1DBFF-BF03-49C7-9216-6C5F8F3E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4ADD-FE1C-445F-AECE-E8F5C0E8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B268C-6AF5-4F92-A08B-5ECDC3B1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B9F1-5665-4F7E-A47A-8E48C3C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18142-FCB3-4CB3-838E-4701E5CF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F64D-DDA8-443A-B19D-BD369D58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B8C0-6576-4978-A19C-CD20F8D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E5810-E305-4707-A012-3CC44A5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F76-816E-46A8-92A5-872F5DD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38B53-34D7-4A95-AE56-7639C89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5DA0-151C-4DA1-B659-D290F729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1DC4D-E4E0-41E7-AA10-2D2EBA16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CFD6-FD15-49E3-A651-F69E0C38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EB68B-DE9F-429B-8CCB-7B88FCD8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1D15-A11A-410F-9631-F62BC9A3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825EA-15FB-45DF-8587-C0C1FB94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F8B8-3CFF-48F6-9A25-D500D90F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575F8-F894-4914-9027-5DEE8C95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A0DF-AE9F-4CB0-BE5B-88A7D16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539-B71E-4DC4-B4A6-DA5EAC42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EBEB-57E9-4E79-9F5A-B0396B65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760B-82B2-4C0D-AA84-ACCF66D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CAEA-8C2F-4DE1-9446-B0CAA998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A84F8-CAD1-4FBA-A0F4-EB0DAF58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F0982-0ED3-4C2B-8FCA-9D7B24FE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60E17-6418-40D7-B1C7-BF0E2AED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194F7-08AB-4E9F-9478-B7087847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A325D-CD5E-496D-99AA-840D3D7B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B09CA-4DDD-4B37-A791-F79853D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65D7D-95B5-4673-92BC-C42D1474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138-09E4-4965-A046-A88AF10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31622-F990-4435-AB47-885C52D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20AF8-FFC8-445C-931F-CEC7F61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02A5D-F5B6-4AE9-8123-3726460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C98B-0EFC-40A3-811F-DE4FD0B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21023-9CB1-4EED-9ED5-4E113CBC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F05B9-114C-4632-B76E-417DE15A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01915-C952-4108-BDD9-74B4E470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B324E-7879-44C6-9D35-A63FDB6B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36D02-0781-4132-A1F4-D6BDF292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3E3EA-9DC0-4302-844A-F78FF0F3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E52D-8C94-4A16-A9F5-B13780171A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66C9-D812-486F-BAF6-FA7D6DBD4E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EA3-F112-473D-916F-122AD3145C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F190-DAB8-41BF-A925-B0BA8A3AF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D9EE-4174-4598-80A5-C084355FCD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EDA2-815D-440B-84C6-3BB5F4105E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09C9-8DA8-4482-9D3C-CFA00EB0A9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663B-02CD-43FB-A847-B2BC6C0516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6E6A-B4D1-48B2-B6DB-52A546D266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749-D1EB-45DD-8C3A-190D2E5383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B859-B7D5-476D-82F1-25459EDDDF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254-E830-4C17-8335-56C26FC7D3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285840" y="262584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 索 规 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4"/>
          <p:cNvSpPr/>
          <p:nvPr/>
        </p:nvSpPr>
        <p:spPr>
          <a:xfrm>
            <a:off x="71280" y="220824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一数下面的图中各有几条射线、几个角，填在下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>
            <a:off x="1357200" y="3362400"/>
            <a:ext cx="6215040" cy="3138480"/>
          </a:xfrm>
          <a:prstGeom prst="rect">
            <a:avLst/>
          </a:prstGeom>
          <a:ln w="0">
            <a:noFill/>
          </a:ln>
        </p:spPr>
      </p:pic>
      <p:sp>
        <p:nvSpPr>
          <p:cNvPr id="598" name="TextBox 3"/>
          <p:cNvSpPr/>
          <p:nvPr/>
        </p:nvSpPr>
        <p:spPr>
          <a:xfrm>
            <a:off x="4214880" y="5357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4214880" y="5834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4929120" y="53578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"/>
          <p:cNvSpPr/>
          <p:nvPr/>
        </p:nvSpPr>
        <p:spPr>
          <a:xfrm>
            <a:off x="4929120" y="58341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5643720" y="5357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"/>
          <p:cNvSpPr/>
          <p:nvPr/>
        </p:nvSpPr>
        <p:spPr>
          <a:xfrm>
            <a:off x="5643720" y="5834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3"/>
          <p:cNvSpPr/>
          <p:nvPr/>
        </p:nvSpPr>
        <p:spPr>
          <a:xfrm>
            <a:off x="6357960" y="5357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6357960" y="583416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1143000" y="2143080"/>
            <a:ext cx="6858000" cy="19908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4"/>
          <p:cNvSpPr/>
          <p:nvPr/>
        </p:nvSpPr>
        <p:spPr>
          <a:xfrm>
            <a:off x="71280" y="71424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观察下面的统计表，你发现角的个数和射线的条数有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357120" y="457200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若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射线，那么对应的角的个数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÷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4"/>
          <p:cNvSpPr/>
          <p:nvPr/>
        </p:nvSpPr>
        <p:spPr>
          <a:xfrm>
            <a:off x="71280" y="98748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一数下面的图中各有几个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714240" y="2552760"/>
            <a:ext cx="7715520" cy="1752480"/>
          </a:xfrm>
          <a:prstGeom prst="rect">
            <a:avLst/>
          </a:prstGeom>
          <a:ln w="0">
            <a:noFill/>
          </a:ln>
        </p:spPr>
      </p:pic>
      <p:sp>
        <p:nvSpPr>
          <p:cNvPr id="613" name="TextBox 3"/>
          <p:cNvSpPr/>
          <p:nvPr/>
        </p:nvSpPr>
        <p:spPr>
          <a:xfrm>
            <a:off x="1122480" y="38577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3132000" y="3857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5151600" y="3857760"/>
            <a:ext cx="57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"/>
          <p:cNvSpPr/>
          <p:nvPr/>
        </p:nvSpPr>
        <p:spPr>
          <a:xfrm>
            <a:off x="7122960" y="385776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14"/>
          <p:cNvSpPr/>
          <p:nvPr/>
        </p:nvSpPr>
        <p:spPr>
          <a:xfrm>
            <a:off x="71280" y="987480"/>
            <a:ext cx="90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一数下面的图中各有几个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481040" y="2652840"/>
            <a:ext cx="6181920" cy="15523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3"/>
          <p:cNvSpPr/>
          <p:nvPr/>
        </p:nvSpPr>
        <p:spPr>
          <a:xfrm>
            <a:off x="1868400" y="37148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3"/>
          <p:cNvSpPr/>
          <p:nvPr/>
        </p:nvSpPr>
        <p:spPr>
          <a:xfrm>
            <a:off x="4195800" y="37148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"/>
          <p:cNvSpPr/>
          <p:nvPr/>
        </p:nvSpPr>
        <p:spPr>
          <a:xfrm>
            <a:off x="6373800" y="371484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6"/>
          <p:cNvGrpSpPr/>
          <p:nvPr/>
        </p:nvGrpSpPr>
        <p:grpSpPr>
          <a:xfrm>
            <a:off x="71280" y="987480"/>
            <a:ext cx="9001440" cy="581400"/>
            <a:chOff x="71280" y="987480"/>
            <a:chExt cx="9001440" cy="581400"/>
          </a:xfrm>
        </p:grpSpPr>
        <p:sp>
          <p:nvSpPr>
            <p:cNvPr id="625" name="Text Box 14"/>
            <p:cNvSpPr/>
            <p:nvPr/>
          </p:nvSpPr>
          <p:spPr>
            <a:xfrm>
              <a:off x="71280" y="987480"/>
              <a:ext cx="90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*.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含有   的正方形有（    ）个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6" name="Picture 2" descr=""/>
            <p:cNvPicPr/>
            <p:nvPr/>
          </p:nvPicPr>
          <p:blipFill>
            <a:blip r:embed="rId1"/>
            <a:stretch/>
          </p:blipFill>
          <p:spPr>
            <a:xfrm>
              <a:off x="1803960" y="1072080"/>
              <a:ext cx="561960" cy="49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7" name="Picture 3" descr=""/>
          <p:cNvPicPr/>
          <p:nvPr/>
        </p:nvPicPr>
        <p:blipFill>
          <a:blip r:embed="rId2"/>
          <a:stretch/>
        </p:blipFill>
        <p:spPr>
          <a:xfrm>
            <a:off x="2071800" y="2143080"/>
            <a:ext cx="2400120" cy="24289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3"/>
          <p:cNvSpPr/>
          <p:nvPr/>
        </p:nvSpPr>
        <p:spPr>
          <a:xfrm>
            <a:off x="5075280" y="10317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285840" y="260208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历数线段、交流数的方法、发现规律以及应用规律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能发现线段上的点数与线段条数之间的关系，了解数线段、数图形的一般规律和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总结数线段的规律、用规律进行推算的过程中，发展初步的归纳和推理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一数一共有多少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1357200" y="2276640"/>
            <a:ext cx="5133960" cy="8665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7" descr="QQ截图20141218113141.png"/>
          <p:cNvPicPr/>
          <p:nvPr/>
        </p:nvPicPr>
        <p:blipFill>
          <a:blip r:embed="rId3"/>
          <a:stretch/>
        </p:blipFill>
        <p:spPr>
          <a:xfrm>
            <a:off x="3643200" y="3857760"/>
            <a:ext cx="43722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一数一共有多少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2"/>
          <a:stretch/>
        </p:blipFill>
        <p:spPr>
          <a:xfrm>
            <a:off x="1357200" y="2276640"/>
            <a:ext cx="5133960" cy="866520"/>
          </a:xfrm>
          <a:prstGeom prst="rect">
            <a:avLst/>
          </a:prstGeom>
          <a:ln w="0">
            <a:noFill/>
          </a:ln>
        </p:spPr>
      </p:pic>
      <p:sp>
        <p:nvSpPr>
          <p:cNvPr id="536" name="任意多边形 7"/>
          <p:cNvSpPr/>
          <p:nvPr/>
        </p:nvSpPr>
        <p:spPr>
          <a:xfrm>
            <a:off x="1643040" y="2643120"/>
            <a:ext cx="1714680" cy="471600"/>
          </a:xfrm>
          <a:custGeom>
            <a:avLst/>
            <a:gdLst/>
            <a:ahLst/>
            <a:rect l="l" t="t" r="r" b="b"/>
            <a:pathLst>
              <a:path w="1670802" h="470814">
                <a:moveTo>
                  <a:pt x="0" y="77409"/>
                </a:moveTo>
                <a:cubicBezTo>
                  <a:pt x="42812" y="141628"/>
                  <a:pt x="10107" y="88677"/>
                  <a:pt x="63795" y="205000"/>
                </a:cubicBezTo>
                <a:cubicBezTo>
                  <a:pt x="70437" y="219391"/>
                  <a:pt x="79174" y="232814"/>
                  <a:pt x="85061" y="247530"/>
                </a:cubicBezTo>
                <a:cubicBezTo>
                  <a:pt x="93386" y="268342"/>
                  <a:pt x="99238" y="290060"/>
                  <a:pt x="106326" y="311325"/>
                </a:cubicBezTo>
                <a:cubicBezTo>
                  <a:pt x="114974" y="337269"/>
                  <a:pt x="117611" y="354509"/>
                  <a:pt x="138223" y="375121"/>
                </a:cubicBezTo>
                <a:cubicBezTo>
                  <a:pt x="163496" y="400394"/>
                  <a:pt x="202333" y="407124"/>
                  <a:pt x="233916" y="417651"/>
                </a:cubicBezTo>
                <a:cubicBezTo>
                  <a:pt x="269427" y="429488"/>
                  <a:pt x="268306" y="430019"/>
                  <a:pt x="308344" y="438916"/>
                </a:cubicBezTo>
                <a:cubicBezTo>
                  <a:pt x="325986" y="442836"/>
                  <a:pt x="343865" y="445628"/>
                  <a:pt x="361507" y="449548"/>
                </a:cubicBezTo>
                <a:cubicBezTo>
                  <a:pt x="456693" y="470700"/>
                  <a:pt x="342795" y="449974"/>
                  <a:pt x="467833" y="470814"/>
                </a:cubicBezTo>
                <a:lnTo>
                  <a:pt x="956930" y="460181"/>
                </a:lnTo>
                <a:cubicBezTo>
                  <a:pt x="989003" y="459015"/>
                  <a:pt x="1021152" y="455842"/>
                  <a:pt x="1052623" y="449548"/>
                </a:cubicBezTo>
                <a:cubicBezTo>
                  <a:pt x="1077155" y="444642"/>
                  <a:pt x="1187280" y="401119"/>
                  <a:pt x="1201479" y="396386"/>
                </a:cubicBezTo>
                <a:cubicBezTo>
                  <a:pt x="1284164" y="368824"/>
                  <a:pt x="1204776" y="410686"/>
                  <a:pt x="1318437" y="353855"/>
                </a:cubicBezTo>
                <a:cubicBezTo>
                  <a:pt x="1358033" y="334057"/>
                  <a:pt x="1346963" y="330085"/>
                  <a:pt x="1382233" y="300693"/>
                </a:cubicBezTo>
                <a:cubicBezTo>
                  <a:pt x="1409718" y="277789"/>
                  <a:pt x="1414055" y="279452"/>
                  <a:pt x="1446028" y="268795"/>
                </a:cubicBezTo>
                <a:cubicBezTo>
                  <a:pt x="1473475" y="250497"/>
                  <a:pt x="1524805" y="217981"/>
                  <a:pt x="1552354" y="194367"/>
                </a:cubicBezTo>
                <a:cubicBezTo>
                  <a:pt x="1563771" y="184581"/>
                  <a:pt x="1575511" y="174705"/>
                  <a:pt x="1584251" y="162469"/>
                </a:cubicBezTo>
                <a:cubicBezTo>
                  <a:pt x="1593464" y="149571"/>
                  <a:pt x="1597652" y="133701"/>
                  <a:pt x="1605516" y="119939"/>
                </a:cubicBezTo>
                <a:cubicBezTo>
                  <a:pt x="1611856" y="108844"/>
                  <a:pt x="1621066" y="99471"/>
                  <a:pt x="1626781" y="88041"/>
                </a:cubicBezTo>
                <a:cubicBezTo>
                  <a:pt x="1670802" y="0"/>
                  <a:pt x="1597736" y="115662"/>
                  <a:pt x="1658679" y="24246"/>
                </a:cubicBezTo>
                <a:lnTo>
                  <a:pt x="1669312" y="6677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2143080" y="3071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任意多边形 9"/>
          <p:cNvSpPr/>
          <p:nvPr/>
        </p:nvSpPr>
        <p:spPr>
          <a:xfrm>
            <a:off x="3338640" y="2690640"/>
            <a:ext cx="1233360" cy="351000"/>
          </a:xfrm>
          <a:custGeom>
            <a:avLst/>
            <a:gdLst/>
            <a:ahLst/>
            <a:rect l="l" t="t" r="r" b="b"/>
            <a:pathLst>
              <a:path w="1233377" h="350875">
                <a:moveTo>
                  <a:pt x="0" y="0"/>
                </a:moveTo>
                <a:cubicBezTo>
                  <a:pt x="21265" y="42530"/>
                  <a:pt x="41419" y="85635"/>
                  <a:pt x="63796" y="127591"/>
                </a:cubicBezTo>
                <a:cubicBezTo>
                  <a:pt x="69810" y="138866"/>
                  <a:pt x="74225" y="152716"/>
                  <a:pt x="85061" y="159489"/>
                </a:cubicBezTo>
                <a:cubicBezTo>
                  <a:pt x="104069" y="171369"/>
                  <a:pt x="130205" y="168320"/>
                  <a:pt x="148856" y="180754"/>
                </a:cubicBezTo>
                <a:cubicBezTo>
                  <a:pt x="159489" y="187842"/>
                  <a:pt x="169077" y="196829"/>
                  <a:pt x="180754" y="202019"/>
                </a:cubicBezTo>
                <a:cubicBezTo>
                  <a:pt x="201237" y="211123"/>
                  <a:pt x="244549" y="223284"/>
                  <a:pt x="244549" y="223284"/>
                </a:cubicBezTo>
                <a:cubicBezTo>
                  <a:pt x="251637" y="233917"/>
                  <a:pt x="254719" y="248842"/>
                  <a:pt x="265814" y="255182"/>
                </a:cubicBezTo>
                <a:cubicBezTo>
                  <a:pt x="281505" y="264148"/>
                  <a:pt x="301445" y="261431"/>
                  <a:pt x="318977" y="265814"/>
                </a:cubicBezTo>
                <a:cubicBezTo>
                  <a:pt x="329850" y="268532"/>
                  <a:pt x="340573" y="272032"/>
                  <a:pt x="350875" y="276447"/>
                </a:cubicBezTo>
                <a:cubicBezTo>
                  <a:pt x="365443" y="282691"/>
                  <a:pt x="379643" y="289848"/>
                  <a:pt x="393405" y="297712"/>
                </a:cubicBezTo>
                <a:cubicBezTo>
                  <a:pt x="404500" y="304052"/>
                  <a:pt x="413557" y="313943"/>
                  <a:pt x="425303" y="318977"/>
                </a:cubicBezTo>
                <a:cubicBezTo>
                  <a:pt x="438734" y="324733"/>
                  <a:pt x="453782" y="325595"/>
                  <a:pt x="467833" y="329610"/>
                </a:cubicBezTo>
                <a:cubicBezTo>
                  <a:pt x="542058" y="350817"/>
                  <a:pt x="447148" y="332730"/>
                  <a:pt x="574158" y="350875"/>
                </a:cubicBezTo>
                <a:lnTo>
                  <a:pt x="786810" y="340242"/>
                </a:lnTo>
                <a:cubicBezTo>
                  <a:pt x="843540" y="337090"/>
                  <a:pt x="900395" y="335264"/>
                  <a:pt x="956930" y="329610"/>
                </a:cubicBezTo>
                <a:cubicBezTo>
                  <a:pt x="976005" y="327703"/>
                  <a:pt x="1011926" y="314822"/>
                  <a:pt x="1031358" y="308344"/>
                </a:cubicBezTo>
                <a:cubicBezTo>
                  <a:pt x="1038447" y="301256"/>
                  <a:pt x="1044028" y="292237"/>
                  <a:pt x="1052624" y="287079"/>
                </a:cubicBezTo>
                <a:cubicBezTo>
                  <a:pt x="1062234" y="281313"/>
                  <a:pt x="1075770" y="283448"/>
                  <a:pt x="1084521" y="276447"/>
                </a:cubicBezTo>
                <a:cubicBezTo>
                  <a:pt x="1094500" y="268464"/>
                  <a:pt x="1096169" y="252964"/>
                  <a:pt x="1105786" y="244549"/>
                </a:cubicBezTo>
                <a:cubicBezTo>
                  <a:pt x="1125020" y="227719"/>
                  <a:pt x="1169582" y="202019"/>
                  <a:pt x="1169582" y="202019"/>
                </a:cubicBezTo>
                <a:cubicBezTo>
                  <a:pt x="1183759" y="180754"/>
                  <a:pt x="1209569" y="163654"/>
                  <a:pt x="1212112" y="138223"/>
                </a:cubicBezTo>
                <a:cubicBezTo>
                  <a:pt x="1223533" y="24012"/>
                  <a:pt x="1206814" y="63756"/>
                  <a:pt x="1233377" y="1063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3643200" y="29876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任意多边形 11"/>
          <p:cNvSpPr/>
          <p:nvPr/>
        </p:nvSpPr>
        <p:spPr>
          <a:xfrm>
            <a:off x="4592520" y="2700360"/>
            <a:ext cx="1627200" cy="272880"/>
          </a:xfrm>
          <a:custGeom>
            <a:avLst/>
            <a:gdLst/>
            <a:ahLst/>
            <a:rect l="l" t="t" r="r" b="b"/>
            <a:pathLst>
              <a:path w="1626782" h="272901">
                <a:moveTo>
                  <a:pt x="0" y="21265"/>
                </a:moveTo>
                <a:cubicBezTo>
                  <a:pt x="70981" y="92246"/>
                  <a:pt x="71909" y="96182"/>
                  <a:pt x="202019" y="180753"/>
                </a:cubicBezTo>
                <a:cubicBezTo>
                  <a:pt x="214271" y="188717"/>
                  <a:pt x="230498" y="187372"/>
                  <a:pt x="244549" y="191386"/>
                </a:cubicBezTo>
                <a:cubicBezTo>
                  <a:pt x="326002" y="214658"/>
                  <a:pt x="210593" y="193646"/>
                  <a:pt x="372140" y="212651"/>
                </a:cubicBezTo>
                <a:lnTo>
                  <a:pt x="457200" y="223283"/>
                </a:lnTo>
                <a:cubicBezTo>
                  <a:pt x="478542" y="226332"/>
                  <a:pt x="499626" y="231067"/>
                  <a:pt x="520995" y="233916"/>
                </a:cubicBezTo>
                <a:cubicBezTo>
                  <a:pt x="552807" y="238158"/>
                  <a:pt x="584790" y="241005"/>
                  <a:pt x="616688" y="244549"/>
                </a:cubicBezTo>
                <a:cubicBezTo>
                  <a:pt x="701749" y="272901"/>
                  <a:pt x="595423" y="244549"/>
                  <a:pt x="680484" y="244549"/>
                </a:cubicBezTo>
                <a:cubicBezTo>
                  <a:pt x="719631" y="244549"/>
                  <a:pt x="758456" y="251637"/>
                  <a:pt x="797442" y="255181"/>
                </a:cubicBezTo>
                <a:cubicBezTo>
                  <a:pt x="805042" y="255023"/>
                  <a:pt x="1239568" y="261239"/>
                  <a:pt x="1403498" y="233916"/>
                </a:cubicBezTo>
                <a:cubicBezTo>
                  <a:pt x="1414553" y="232073"/>
                  <a:pt x="1424763" y="226827"/>
                  <a:pt x="1435395" y="223283"/>
                </a:cubicBezTo>
                <a:cubicBezTo>
                  <a:pt x="1478198" y="180482"/>
                  <a:pt x="1430604" y="220780"/>
                  <a:pt x="1499191" y="191386"/>
                </a:cubicBezTo>
                <a:cubicBezTo>
                  <a:pt x="1510936" y="186352"/>
                  <a:pt x="1519993" y="176461"/>
                  <a:pt x="1531088" y="170121"/>
                </a:cubicBezTo>
                <a:cubicBezTo>
                  <a:pt x="1544850" y="162257"/>
                  <a:pt x="1559442" y="155944"/>
                  <a:pt x="1573619" y="148856"/>
                </a:cubicBezTo>
                <a:cubicBezTo>
                  <a:pt x="1593397" y="129077"/>
                  <a:pt x="1602737" y="122517"/>
                  <a:pt x="1616149" y="95693"/>
                </a:cubicBezTo>
                <a:cubicBezTo>
                  <a:pt x="1621161" y="85668"/>
                  <a:pt x="1623238" y="74428"/>
                  <a:pt x="1626782" y="63795"/>
                </a:cubicBezTo>
                <a:cubicBezTo>
                  <a:pt x="1614430" y="14388"/>
                  <a:pt x="1616149" y="35878"/>
                  <a:pt x="1616149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5072040" y="30002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任意多边形 13"/>
          <p:cNvSpPr/>
          <p:nvPr/>
        </p:nvSpPr>
        <p:spPr>
          <a:xfrm>
            <a:off x="1647720" y="1924200"/>
            <a:ext cx="2935440" cy="542880"/>
          </a:xfrm>
          <a:custGeom>
            <a:avLst/>
            <a:gdLst/>
            <a:ahLst/>
            <a:rect l="l" t="t" r="r" b="b"/>
            <a:pathLst>
              <a:path w="2935489" h="542260">
                <a:moveTo>
                  <a:pt x="903" y="542260"/>
                </a:moveTo>
                <a:cubicBezTo>
                  <a:pt x="4447" y="528083"/>
                  <a:pt x="0" y="508701"/>
                  <a:pt x="11535" y="499730"/>
                </a:cubicBezTo>
                <a:cubicBezTo>
                  <a:pt x="236544" y="324724"/>
                  <a:pt x="116330" y="422502"/>
                  <a:pt x="245451" y="382772"/>
                </a:cubicBezTo>
                <a:cubicBezTo>
                  <a:pt x="548409" y="289553"/>
                  <a:pt x="370673" y="314881"/>
                  <a:pt x="628223" y="297712"/>
                </a:cubicBezTo>
                <a:cubicBezTo>
                  <a:pt x="728410" y="237599"/>
                  <a:pt x="630428" y="290144"/>
                  <a:pt x="755814" y="244549"/>
                </a:cubicBezTo>
                <a:cubicBezTo>
                  <a:pt x="770710" y="239132"/>
                  <a:pt x="783860" y="229721"/>
                  <a:pt x="798344" y="223284"/>
                </a:cubicBezTo>
                <a:cubicBezTo>
                  <a:pt x="815785" y="215532"/>
                  <a:pt x="833400" y="208055"/>
                  <a:pt x="851507" y="202019"/>
                </a:cubicBezTo>
                <a:cubicBezTo>
                  <a:pt x="875985" y="193860"/>
                  <a:pt x="901457" y="188913"/>
                  <a:pt x="925935" y="180754"/>
                </a:cubicBezTo>
                <a:cubicBezTo>
                  <a:pt x="944042" y="174718"/>
                  <a:pt x="961124" y="165907"/>
                  <a:pt x="979098" y="159488"/>
                </a:cubicBezTo>
                <a:cubicBezTo>
                  <a:pt x="1010762" y="148179"/>
                  <a:pt x="1044718" y="142628"/>
                  <a:pt x="1074791" y="127591"/>
                </a:cubicBezTo>
                <a:cubicBezTo>
                  <a:pt x="1171909" y="79031"/>
                  <a:pt x="1104607" y="107784"/>
                  <a:pt x="1213014" y="74428"/>
                </a:cubicBezTo>
                <a:cubicBezTo>
                  <a:pt x="1234438" y="67836"/>
                  <a:pt x="1254699" y="56848"/>
                  <a:pt x="1276809" y="53163"/>
                </a:cubicBezTo>
                <a:cubicBezTo>
                  <a:pt x="1298074" y="49619"/>
                  <a:pt x="1319244" y="45443"/>
                  <a:pt x="1340605" y="42530"/>
                </a:cubicBezTo>
                <a:cubicBezTo>
                  <a:pt x="1397229" y="34808"/>
                  <a:pt x="1454687" y="32472"/>
                  <a:pt x="1510726" y="21265"/>
                </a:cubicBezTo>
                <a:cubicBezTo>
                  <a:pt x="1528447" y="17721"/>
                  <a:pt x="1545885" y="12199"/>
                  <a:pt x="1563889" y="10633"/>
                </a:cubicBezTo>
                <a:cubicBezTo>
                  <a:pt x="1627543" y="5098"/>
                  <a:pt x="1691480" y="3544"/>
                  <a:pt x="1755275" y="0"/>
                </a:cubicBezTo>
                <a:cubicBezTo>
                  <a:pt x="1872233" y="3544"/>
                  <a:pt x="1989449" y="2094"/>
                  <a:pt x="2106149" y="10633"/>
                </a:cubicBezTo>
                <a:cubicBezTo>
                  <a:pt x="2135297" y="12766"/>
                  <a:pt x="2162551" y="26167"/>
                  <a:pt x="2191209" y="31898"/>
                </a:cubicBezTo>
                <a:lnTo>
                  <a:pt x="2244372" y="42530"/>
                </a:lnTo>
                <a:cubicBezTo>
                  <a:pt x="2270813" y="60157"/>
                  <a:pt x="2287966" y="73497"/>
                  <a:pt x="2318800" y="85060"/>
                </a:cubicBezTo>
                <a:cubicBezTo>
                  <a:pt x="2332483" y="90191"/>
                  <a:pt x="2347279" y="91678"/>
                  <a:pt x="2361330" y="95693"/>
                </a:cubicBezTo>
                <a:cubicBezTo>
                  <a:pt x="2372107" y="98772"/>
                  <a:pt x="2382595" y="102782"/>
                  <a:pt x="2393228" y="106326"/>
                </a:cubicBezTo>
                <a:cubicBezTo>
                  <a:pt x="2407405" y="116958"/>
                  <a:pt x="2420731" y="128831"/>
                  <a:pt x="2435758" y="138223"/>
                </a:cubicBezTo>
                <a:cubicBezTo>
                  <a:pt x="2449199" y="146624"/>
                  <a:pt x="2465101" y="150696"/>
                  <a:pt x="2478289" y="159488"/>
                </a:cubicBezTo>
                <a:cubicBezTo>
                  <a:pt x="2486630" y="165049"/>
                  <a:pt x="2490588" y="176271"/>
                  <a:pt x="2499554" y="180754"/>
                </a:cubicBezTo>
                <a:cubicBezTo>
                  <a:pt x="2551205" y="206580"/>
                  <a:pt x="2562519" y="192313"/>
                  <a:pt x="2605879" y="223284"/>
                </a:cubicBezTo>
                <a:cubicBezTo>
                  <a:pt x="2618115" y="232024"/>
                  <a:pt x="2625266" y="246840"/>
                  <a:pt x="2637777" y="255181"/>
                </a:cubicBezTo>
                <a:cubicBezTo>
                  <a:pt x="2647103" y="261398"/>
                  <a:pt x="2659878" y="260371"/>
                  <a:pt x="2669675" y="265814"/>
                </a:cubicBezTo>
                <a:cubicBezTo>
                  <a:pt x="2692016" y="278226"/>
                  <a:pt x="2709224" y="300262"/>
                  <a:pt x="2733470" y="308344"/>
                </a:cubicBezTo>
                <a:cubicBezTo>
                  <a:pt x="2813654" y="335073"/>
                  <a:pt x="2714811" y="299016"/>
                  <a:pt x="2797265" y="340242"/>
                </a:cubicBezTo>
                <a:cubicBezTo>
                  <a:pt x="2807290" y="345254"/>
                  <a:pt x="2818530" y="347330"/>
                  <a:pt x="2829163" y="350874"/>
                </a:cubicBezTo>
                <a:cubicBezTo>
                  <a:pt x="2836251" y="357963"/>
                  <a:pt x="2844413" y="364120"/>
                  <a:pt x="2850428" y="372140"/>
                </a:cubicBezTo>
                <a:cubicBezTo>
                  <a:pt x="2865762" y="392586"/>
                  <a:pt x="2892958" y="435935"/>
                  <a:pt x="2892958" y="435935"/>
                </a:cubicBezTo>
                <a:cubicBezTo>
                  <a:pt x="2894943" y="443874"/>
                  <a:pt x="2907688" y="499471"/>
                  <a:pt x="2914223" y="510363"/>
                </a:cubicBezTo>
                <a:cubicBezTo>
                  <a:pt x="2919381" y="518959"/>
                  <a:pt x="2935489" y="531628"/>
                  <a:pt x="2935489" y="5316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2500200" y="157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任意多边形 15"/>
          <p:cNvSpPr/>
          <p:nvPr/>
        </p:nvSpPr>
        <p:spPr>
          <a:xfrm>
            <a:off x="3357720" y="2136600"/>
            <a:ext cx="2876400" cy="363600"/>
          </a:xfrm>
          <a:custGeom>
            <a:avLst/>
            <a:gdLst/>
            <a:ahLst/>
            <a:rect l="l" t="t" r="r" b="b"/>
            <a:pathLst>
              <a:path w="1661713" h="372140">
                <a:moveTo>
                  <a:pt x="0" y="329609"/>
                </a:moveTo>
                <a:cubicBezTo>
                  <a:pt x="246902" y="181471"/>
                  <a:pt x="63406" y="287729"/>
                  <a:pt x="691116" y="42530"/>
                </a:cubicBezTo>
                <a:cubicBezTo>
                  <a:pt x="704728" y="37213"/>
                  <a:pt x="719596" y="35913"/>
                  <a:pt x="733647" y="31898"/>
                </a:cubicBezTo>
                <a:cubicBezTo>
                  <a:pt x="744423" y="28819"/>
                  <a:pt x="754731" y="24214"/>
                  <a:pt x="765544" y="21265"/>
                </a:cubicBezTo>
                <a:cubicBezTo>
                  <a:pt x="793740" y="13575"/>
                  <a:pt x="850605" y="0"/>
                  <a:pt x="850605" y="0"/>
                </a:cubicBezTo>
                <a:lnTo>
                  <a:pt x="1329070" y="10633"/>
                </a:lnTo>
                <a:cubicBezTo>
                  <a:pt x="1347127" y="11355"/>
                  <a:pt x="1364382" y="18447"/>
                  <a:pt x="1382233" y="21265"/>
                </a:cubicBezTo>
                <a:cubicBezTo>
                  <a:pt x="1431742" y="29082"/>
                  <a:pt x="1531088" y="42530"/>
                  <a:pt x="1531088" y="42530"/>
                </a:cubicBezTo>
                <a:cubicBezTo>
                  <a:pt x="1581544" y="92986"/>
                  <a:pt x="1554598" y="78721"/>
                  <a:pt x="1605516" y="95693"/>
                </a:cubicBezTo>
                <a:cubicBezTo>
                  <a:pt x="1612604" y="106326"/>
                  <a:pt x="1618798" y="117612"/>
                  <a:pt x="1626781" y="127591"/>
                </a:cubicBezTo>
                <a:cubicBezTo>
                  <a:pt x="1633043" y="135419"/>
                  <a:pt x="1642889" y="140260"/>
                  <a:pt x="1648047" y="148856"/>
                </a:cubicBezTo>
                <a:cubicBezTo>
                  <a:pt x="1653813" y="158467"/>
                  <a:pt x="1658146" y="169559"/>
                  <a:pt x="1658679" y="180754"/>
                </a:cubicBezTo>
                <a:cubicBezTo>
                  <a:pt x="1661713" y="244477"/>
                  <a:pt x="1658679" y="308345"/>
                  <a:pt x="1658679" y="37214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4643280" y="157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17"/>
          <p:cNvSpPr/>
          <p:nvPr/>
        </p:nvSpPr>
        <p:spPr>
          <a:xfrm>
            <a:off x="1658880" y="2743200"/>
            <a:ext cx="4529160" cy="1116000"/>
          </a:xfrm>
          <a:custGeom>
            <a:avLst/>
            <a:gdLst/>
            <a:ahLst/>
            <a:rect l="l" t="t" r="r" b="b"/>
            <a:pathLst>
              <a:path w="4529470" h="1116419">
                <a:moveTo>
                  <a:pt x="0" y="0"/>
                </a:moveTo>
                <a:cubicBezTo>
                  <a:pt x="31898" y="81516"/>
                  <a:pt x="61211" y="164092"/>
                  <a:pt x="95693" y="244549"/>
                </a:cubicBezTo>
                <a:cubicBezTo>
                  <a:pt x="103834" y="263544"/>
                  <a:pt x="118349" y="279228"/>
                  <a:pt x="127591" y="297712"/>
                </a:cubicBezTo>
                <a:cubicBezTo>
                  <a:pt x="143202" y="328933"/>
                  <a:pt x="149991" y="364888"/>
                  <a:pt x="170121" y="393405"/>
                </a:cubicBezTo>
                <a:cubicBezTo>
                  <a:pt x="193245" y="426164"/>
                  <a:pt x="231122" y="446387"/>
                  <a:pt x="255181" y="478465"/>
                </a:cubicBezTo>
                <a:cubicBezTo>
                  <a:pt x="276446" y="506819"/>
                  <a:pt x="300742" y="533135"/>
                  <a:pt x="318977" y="563526"/>
                </a:cubicBezTo>
                <a:cubicBezTo>
                  <a:pt x="323430" y="570947"/>
                  <a:pt x="360447" y="634554"/>
                  <a:pt x="372140" y="648586"/>
                </a:cubicBezTo>
                <a:cubicBezTo>
                  <a:pt x="407439" y="690945"/>
                  <a:pt x="396314" y="670932"/>
                  <a:pt x="435935" y="701749"/>
                </a:cubicBezTo>
                <a:cubicBezTo>
                  <a:pt x="457785" y="718743"/>
                  <a:pt x="479390" y="736137"/>
                  <a:pt x="499730" y="754912"/>
                </a:cubicBezTo>
                <a:cubicBezTo>
                  <a:pt x="592824" y="840845"/>
                  <a:pt x="537442" y="817102"/>
                  <a:pt x="606056" y="839972"/>
                </a:cubicBezTo>
                <a:cubicBezTo>
                  <a:pt x="620233" y="854149"/>
                  <a:pt x="631585" y="871876"/>
                  <a:pt x="648586" y="882502"/>
                </a:cubicBezTo>
                <a:cubicBezTo>
                  <a:pt x="660978" y="890247"/>
                  <a:pt x="677433" y="888004"/>
                  <a:pt x="691116" y="893135"/>
                </a:cubicBezTo>
                <a:cubicBezTo>
                  <a:pt x="705957" y="898700"/>
                  <a:pt x="720275" y="905890"/>
                  <a:pt x="733647" y="914400"/>
                </a:cubicBezTo>
                <a:cubicBezTo>
                  <a:pt x="759369" y="930768"/>
                  <a:pt x="782109" y="951584"/>
                  <a:pt x="808074" y="967563"/>
                </a:cubicBezTo>
                <a:cubicBezTo>
                  <a:pt x="875421" y="1009007"/>
                  <a:pt x="879583" y="996200"/>
                  <a:pt x="956930" y="1031358"/>
                </a:cubicBezTo>
                <a:cubicBezTo>
                  <a:pt x="968563" y="1036646"/>
                  <a:pt x="976863" y="1048136"/>
                  <a:pt x="988828" y="1052623"/>
                </a:cubicBezTo>
                <a:cubicBezTo>
                  <a:pt x="1005749" y="1058969"/>
                  <a:pt x="1024399" y="1059117"/>
                  <a:pt x="1041991" y="1063256"/>
                </a:cubicBezTo>
                <a:cubicBezTo>
                  <a:pt x="1168934" y="1093125"/>
                  <a:pt x="1139442" y="1085106"/>
                  <a:pt x="1233377" y="1116419"/>
                </a:cubicBezTo>
                <a:lnTo>
                  <a:pt x="2424223" y="1105786"/>
                </a:lnTo>
                <a:cubicBezTo>
                  <a:pt x="2484571" y="1104850"/>
                  <a:pt x="2544701" y="1098244"/>
                  <a:pt x="2604977" y="1095153"/>
                </a:cubicBezTo>
                <a:lnTo>
                  <a:pt x="2838893" y="1084521"/>
                </a:lnTo>
                <a:cubicBezTo>
                  <a:pt x="2856614" y="1080977"/>
                  <a:pt x="2874414" y="1077808"/>
                  <a:pt x="2892056" y="1073888"/>
                </a:cubicBezTo>
                <a:cubicBezTo>
                  <a:pt x="2906321" y="1070718"/>
                  <a:pt x="2920120" y="1065323"/>
                  <a:pt x="2934586" y="1063256"/>
                </a:cubicBezTo>
                <a:cubicBezTo>
                  <a:pt x="2969847" y="1058219"/>
                  <a:pt x="3005470" y="1056167"/>
                  <a:pt x="3040912" y="1052623"/>
                </a:cubicBezTo>
                <a:cubicBezTo>
                  <a:pt x="3058633" y="1045535"/>
                  <a:pt x="3075599" y="1036148"/>
                  <a:pt x="3094074" y="1031358"/>
                </a:cubicBezTo>
                <a:cubicBezTo>
                  <a:pt x="3171476" y="1011291"/>
                  <a:pt x="3327991" y="978195"/>
                  <a:pt x="3327991" y="978195"/>
                </a:cubicBezTo>
                <a:cubicBezTo>
                  <a:pt x="3338623" y="971107"/>
                  <a:pt x="3347765" y="960971"/>
                  <a:pt x="3359888" y="956930"/>
                </a:cubicBezTo>
                <a:cubicBezTo>
                  <a:pt x="3380340" y="950113"/>
                  <a:pt x="3402604" y="950815"/>
                  <a:pt x="3423684" y="946298"/>
                </a:cubicBezTo>
                <a:cubicBezTo>
                  <a:pt x="3452261" y="940174"/>
                  <a:pt x="3480391" y="932121"/>
                  <a:pt x="3508744" y="925033"/>
                </a:cubicBezTo>
                <a:cubicBezTo>
                  <a:pt x="3551929" y="881846"/>
                  <a:pt x="3506925" y="920512"/>
                  <a:pt x="3593805" y="882502"/>
                </a:cubicBezTo>
                <a:cubicBezTo>
                  <a:pt x="3630108" y="866620"/>
                  <a:pt x="3700130" y="829340"/>
                  <a:pt x="3700130" y="829340"/>
                </a:cubicBezTo>
                <a:cubicBezTo>
                  <a:pt x="3741928" y="787540"/>
                  <a:pt x="3701414" y="821716"/>
                  <a:pt x="3785191" y="786809"/>
                </a:cubicBezTo>
                <a:cubicBezTo>
                  <a:pt x="3952885" y="716938"/>
                  <a:pt x="3747376" y="788782"/>
                  <a:pt x="3912781" y="733647"/>
                </a:cubicBezTo>
                <a:cubicBezTo>
                  <a:pt x="3923414" y="723014"/>
                  <a:pt x="3931928" y="709719"/>
                  <a:pt x="3944679" y="701749"/>
                </a:cubicBezTo>
                <a:cubicBezTo>
                  <a:pt x="3960864" y="691633"/>
                  <a:pt x="3980467" y="688382"/>
                  <a:pt x="3997842" y="680484"/>
                </a:cubicBezTo>
                <a:cubicBezTo>
                  <a:pt x="4019486" y="670646"/>
                  <a:pt x="4041250" y="660818"/>
                  <a:pt x="4061637" y="648586"/>
                </a:cubicBezTo>
                <a:cubicBezTo>
                  <a:pt x="4139094" y="602112"/>
                  <a:pt x="4067816" y="625776"/>
                  <a:pt x="4146698" y="606056"/>
                </a:cubicBezTo>
                <a:cubicBezTo>
                  <a:pt x="4217195" y="559057"/>
                  <a:pt x="4138860" y="614293"/>
                  <a:pt x="4210493" y="552893"/>
                </a:cubicBezTo>
                <a:cubicBezTo>
                  <a:pt x="4249142" y="519765"/>
                  <a:pt x="4251986" y="521513"/>
                  <a:pt x="4295554" y="499730"/>
                </a:cubicBezTo>
                <a:cubicBezTo>
                  <a:pt x="4311342" y="476048"/>
                  <a:pt x="4316442" y="463881"/>
                  <a:pt x="4338084" y="446567"/>
                </a:cubicBezTo>
                <a:cubicBezTo>
                  <a:pt x="4348062" y="438584"/>
                  <a:pt x="4359349" y="432390"/>
                  <a:pt x="4369981" y="425302"/>
                </a:cubicBezTo>
                <a:cubicBezTo>
                  <a:pt x="4378629" y="399360"/>
                  <a:pt x="4381269" y="382117"/>
                  <a:pt x="4401879" y="361507"/>
                </a:cubicBezTo>
                <a:cubicBezTo>
                  <a:pt x="4410915" y="352471"/>
                  <a:pt x="4423144" y="347330"/>
                  <a:pt x="4433777" y="340242"/>
                </a:cubicBezTo>
                <a:lnTo>
                  <a:pt x="4497572" y="148856"/>
                </a:lnTo>
                <a:lnTo>
                  <a:pt x="4508205" y="116958"/>
                </a:lnTo>
                <a:cubicBezTo>
                  <a:pt x="4511749" y="106325"/>
                  <a:pt x="4510912" y="92985"/>
                  <a:pt x="4518837" y="85060"/>
                </a:cubicBezTo>
                <a:lnTo>
                  <a:pt x="4529470" y="744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3500280" y="3857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643040" y="478620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共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3"/>
          <p:cNvSpPr/>
          <p:nvPr/>
        </p:nvSpPr>
        <p:spPr>
          <a:xfrm>
            <a:off x="74772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一数一共有多少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"/>
          <p:cNvPicPr/>
          <p:nvPr/>
        </p:nvPicPr>
        <p:blipFill>
          <a:blip r:embed="rId2"/>
          <a:stretch/>
        </p:blipFill>
        <p:spPr>
          <a:xfrm>
            <a:off x="1357200" y="2276640"/>
            <a:ext cx="5133960" cy="866520"/>
          </a:xfrm>
          <a:prstGeom prst="rect">
            <a:avLst/>
          </a:prstGeom>
          <a:ln w="0">
            <a:noFill/>
          </a:ln>
        </p:spPr>
      </p:pic>
      <p:sp>
        <p:nvSpPr>
          <p:cNvPr id="553" name="任意多边形 7"/>
          <p:cNvSpPr/>
          <p:nvPr/>
        </p:nvSpPr>
        <p:spPr>
          <a:xfrm>
            <a:off x="1643040" y="2643120"/>
            <a:ext cx="1714680" cy="471600"/>
          </a:xfrm>
          <a:custGeom>
            <a:avLst/>
            <a:gdLst/>
            <a:ahLst/>
            <a:rect l="l" t="t" r="r" b="b"/>
            <a:pathLst>
              <a:path w="1670802" h="470814">
                <a:moveTo>
                  <a:pt x="0" y="77409"/>
                </a:moveTo>
                <a:cubicBezTo>
                  <a:pt x="42812" y="141628"/>
                  <a:pt x="10107" y="88677"/>
                  <a:pt x="63795" y="205000"/>
                </a:cubicBezTo>
                <a:cubicBezTo>
                  <a:pt x="70437" y="219391"/>
                  <a:pt x="79174" y="232814"/>
                  <a:pt x="85061" y="247530"/>
                </a:cubicBezTo>
                <a:cubicBezTo>
                  <a:pt x="93386" y="268342"/>
                  <a:pt x="99238" y="290060"/>
                  <a:pt x="106326" y="311325"/>
                </a:cubicBezTo>
                <a:cubicBezTo>
                  <a:pt x="114974" y="337269"/>
                  <a:pt x="117611" y="354509"/>
                  <a:pt x="138223" y="375121"/>
                </a:cubicBezTo>
                <a:cubicBezTo>
                  <a:pt x="163496" y="400394"/>
                  <a:pt x="202333" y="407124"/>
                  <a:pt x="233916" y="417651"/>
                </a:cubicBezTo>
                <a:cubicBezTo>
                  <a:pt x="269427" y="429488"/>
                  <a:pt x="268306" y="430019"/>
                  <a:pt x="308344" y="438916"/>
                </a:cubicBezTo>
                <a:cubicBezTo>
                  <a:pt x="325986" y="442836"/>
                  <a:pt x="343865" y="445628"/>
                  <a:pt x="361507" y="449548"/>
                </a:cubicBezTo>
                <a:cubicBezTo>
                  <a:pt x="456693" y="470700"/>
                  <a:pt x="342795" y="449974"/>
                  <a:pt x="467833" y="470814"/>
                </a:cubicBezTo>
                <a:lnTo>
                  <a:pt x="956930" y="460181"/>
                </a:lnTo>
                <a:cubicBezTo>
                  <a:pt x="989003" y="459015"/>
                  <a:pt x="1021152" y="455842"/>
                  <a:pt x="1052623" y="449548"/>
                </a:cubicBezTo>
                <a:cubicBezTo>
                  <a:pt x="1077155" y="444642"/>
                  <a:pt x="1187280" y="401119"/>
                  <a:pt x="1201479" y="396386"/>
                </a:cubicBezTo>
                <a:cubicBezTo>
                  <a:pt x="1284164" y="368824"/>
                  <a:pt x="1204776" y="410686"/>
                  <a:pt x="1318437" y="353855"/>
                </a:cubicBezTo>
                <a:cubicBezTo>
                  <a:pt x="1358033" y="334057"/>
                  <a:pt x="1346963" y="330085"/>
                  <a:pt x="1382233" y="300693"/>
                </a:cubicBezTo>
                <a:cubicBezTo>
                  <a:pt x="1409718" y="277789"/>
                  <a:pt x="1414055" y="279452"/>
                  <a:pt x="1446028" y="268795"/>
                </a:cubicBezTo>
                <a:cubicBezTo>
                  <a:pt x="1473475" y="250497"/>
                  <a:pt x="1524805" y="217981"/>
                  <a:pt x="1552354" y="194367"/>
                </a:cubicBezTo>
                <a:cubicBezTo>
                  <a:pt x="1563771" y="184581"/>
                  <a:pt x="1575511" y="174705"/>
                  <a:pt x="1584251" y="162469"/>
                </a:cubicBezTo>
                <a:cubicBezTo>
                  <a:pt x="1593464" y="149571"/>
                  <a:pt x="1597652" y="133701"/>
                  <a:pt x="1605516" y="119939"/>
                </a:cubicBezTo>
                <a:cubicBezTo>
                  <a:pt x="1611856" y="108844"/>
                  <a:pt x="1621066" y="99471"/>
                  <a:pt x="1626781" y="88041"/>
                </a:cubicBezTo>
                <a:cubicBezTo>
                  <a:pt x="1670802" y="0"/>
                  <a:pt x="1597736" y="115662"/>
                  <a:pt x="1658679" y="24246"/>
                </a:cubicBezTo>
                <a:lnTo>
                  <a:pt x="1669312" y="6677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2143080" y="30718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9"/>
          <p:cNvSpPr/>
          <p:nvPr/>
        </p:nvSpPr>
        <p:spPr>
          <a:xfrm>
            <a:off x="1643040" y="2643120"/>
            <a:ext cx="2928960" cy="428760"/>
          </a:xfrm>
          <a:custGeom>
            <a:avLst/>
            <a:gdLst/>
            <a:ahLst/>
            <a:rect l="l" t="t" r="r" b="b"/>
            <a:pathLst>
              <a:path w="1233377" h="350875">
                <a:moveTo>
                  <a:pt x="0" y="0"/>
                </a:moveTo>
                <a:cubicBezTo>
                  <a:pt x="21265" y="42530"/>
                  <a:pt x="41419" y="85635"/>
                  <a:pt x="63796" y="127591"/>
                </a:cubicBezTo>
                <a:cubicBezTo>
                  <a:pt x="69810" y="138866"/>
                  <a:pt x="74225" y="152716"/>
                  <a:pt x="85061" y="159489"/>
                </a:cubicBezTo>
                <a:cubicBezTo>
                  <a:pt x="104069" y="171369"/>
                  <a:pt x="130205" y="168320"/>
                  <a:pt x="148856" y="180754"/>
                </a:cubicBezTo>
                <a:cubicBezTo>
                  <a:pt x="159489" y="187842"/>
                  <a:pt x="169077" y="196829"/>
                  <a:pt x="180754" y="202019"/>
                </a:cubicBezTo>
                <a:cubicBezTo>
                  <a:pt x="201237" y="211123"/>
                  <a:pt x="244549" y="223284"/>
                  <a:pt x="244549" y="223284"/>
                </a:cubicBezTo>
                <a:cubicBezTo>
                  <a:pt x="251637" y="233917"/>
                  <a:pt x="254719" y="248842"/>
                  <a:pt x="265814" y="255182"/>
                </a:cubicBezTo>
                <a:cubicBezTo>
                  <a:pt x="281505" y="264148"/>
                  <a:pt x="301445" y="261431"/>
                  <a:pt x="318977" y="265814"/>
                </a:cubicBezTo>
                <a:cubicBezTo>
                  <a:pt x="329850" y="268532"/>
                  <a:pt x="340573" y="272032"/>
                  <a:pt x="350875" y="276447"/>
                </a:cubicBezTo>
                <a:cubicBezTo>
                  <a:pt x="365443" y="282691"/>
                  <a:pt x="379643" y="289848"/>
                  <a:pt x="393405" y="297712"/>
                </a:cubicBezTo>
                <a:cubicBezTo>
                  <a:pt x="404500" y="304052"/>
                  <a:pt x="413557" y="313943"/>
                  <a:pt x="425303" y="318977"/>
                </a:cubicBezTo>
                <a:cubicBezTo>
                  <a:pt x="438734" y="324733"/>
                  <a:pt x="453782" y="325595"/>
                  <a:pt x="467833" y="329610"/>
                </a:cubicBezTo>
                <a:cubicBezTo>
                  <a:pt x="542058" y="350817"/>
                  <a:pt x="447148" y="332730"/>
                  <a:pt x="574158" y="350875"/>
                </a:cubicBezTo>
                <a:lnTo>
                  <a:pt x="786810" y="340242"/>
                </a:lnTo>
                <a:cubicBezTo>
                  <a:pt x="843540" y="337090"/>
                  <a:pt x="900395" y="335264"/>
                  <a:pt x="956930" y="329610"/>
                </a:cubicBezTo>
                <a:cubicBezTo>
                  <a:pt x="976005" y="327703"/>
                  <a:pt x="1011926" y="314822"/>
                  <a:pt x="1031358" y="308344"/>
                </a:cubicBezTo>
                <a:cubicBezTo>
                  <a:pt x="1038447" y="301256"/>
                  <a:pt x="1044028" y="292237"/>
                  <a:pt x="1052624" y="287079"/>
                </a:cubicBezTo>
                <a:cubicBezTo>
                  <a:pt x="1062234" y="281313"/>
                  <a:pt x="1075770" y="283448"/>
                  <a:pt x="1084521" y="276447"/>
                </a:cubicBezTo>
                <a:cubicBezTo>
                  <a:pt x="1094500" y="268464"/>
                  <a:pt x="1096169" y="252964"/>
                  <a:pt x="1105786" y="244549"/>
                </a:cubicBezTo>
                <a:cubicBezTo>
                  <a:pt x="1125020" y="227719"/>
                  <a:pt x="1169582" y="202019"/>
                  <a:pt x="1169582" y="202019"/>
                </a:cubicBezTo>
                <a:cubicBezTo>
                  <a:pt x="1183759" y="180754"/>
                  <a:pt x="1209569" y="163654"/>
                  <a:pt x="1212112" y="138223"/>
                </a:cubicBezTo>
                <a:cubicBezTo>
                  <a:pt x="1223533" y="24012"/>
                  <a:pt x="1206814" y="63756"/>
                  <a:pt x="1233377" y="1063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3143160" y="29876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1"/>
          <p:cNvSpPr/>
          <p:nvPr/>
        </p:nvSpPr>
        <p:spPr>
          <a:xfrm>
            <a:off x="4592520" y="2700360"/>
            <a:ext cx="1627200" cy="272880"/>
          </a:xfrm>
          <a:custGeom>
            <a:avLst/>
            <a:gdLst/>
            <a:ahLst/>
            <a:rect l="l" t="t" r="r" b="b"/>
            <a:pathLst>
              <a:path w="1626782" h="272901">
                <a:moveTo>
                  <a:pt x="0" y="21265"/>
                </a:moveTo>
                <a:cubicBezTo>
                  <a:pt x="70981" y="92246"/>
                  <a:pt x="71909" y="96182"/>
                  <a:pt x="202019" y="180753"/>
                </a:cubicBezTo>
                <a:cubicBezTo>
                  <a:pt x="214271" y="188717"/>
                  <a:pt x="230498" y="187372"/>
                  <a:pt x="244549" y="191386"/>
                </a:cubicBezTo>
                <a:cubicBezTo>
                  <a:pt x="326002" y="214658"/>
                  <a:pt x="210593" y="193646"/>
                  <a:pt x="372140" y="212651"/>
                </a:cubicBezTo>
                <a:lnTo>
                  <a:pt x="457200" y="223283"/>
                </a:lnTo>
                <a:cubicBezTo>
                  <a:pt x="478542" y="226332"/>
                  <a:pt x="499626" y="231067"/>
                  <a:pt x="520995" y="233916"/>
                </a:cubicBezTo>
                <a:cubicBezTo>
                  <a:pt x="552807" y="238158"/>
                  <a:pt x="584790" y="241005"/>
                  <a:pt x="616688" y="244549"/>
                </a:cubicBezTo>
                <a:cubicBezTo>
                  <a:pt x="701749" y="272901"/>
                  <a:pt x="595423" y="244549"/>
                  <a:pt x="680484" y="244549"/>
                </a:cubicBezTo>
                <a:cubicBezTo>
                  <a:pt x="719631" y="244549"/>
                  <a:pt x="758456" y="251637"/>
                  <a:pt x="797442" y="255181"/>
                </a:cubicBezTo>
                <a:cubicBezTo>
                  <a:pt x="805042" y="255023"/>
                  <a:pt x="1239568" y="261239"/>
                  <a:pt x="1403498" y="233916"/>
                </a:cubicBezTo>
                <a:cubicBezTo>
                  <a:pt x="1414553" y="232073"/>
                  <a:pt x="1424763" y="226827"/>
                  <a:pt x="1435395" y="223283"/>
                </a:cubicBezTo>
                <a:cubicBezTo>
                  <a:pt x="1478198" y="180482"/>
                  <a:pt x="1430604" y="220780"/>
                  <a:pt x="1499191" y="191386"/>
                </a:cubicBezTo>
                <a:cubicBezTo>
                  <a:pt x="1510936" y="186352"/>
                  <a:pt x="1519993" y="176461"/>
                  <a:pt x="1531088" y="170121"/>
                </a:cubicBezTo>
                <a:cubicBezTo>
                  <a:pt x="1544850" y="162257"/>
                  <a:pt x="1559442" y="155944"/>
                  <a:pt x="1573619" y="148856"/>
                </a:cubicBezTo>
                <a:cubicBezTo>
                  <a:pt x="1593397" y="129077"/>
                  <a:pt x="1602737" y="122517"/>
                  <a:pt x="1616149" y="95693"/>
                </a:cubicBezTo>
                <a:cubicBezTo>
                  <a:pt x="1621161" y="85668"/>
                  <a:pt x="1623238" y="74428"/>
                  <a:pt x="1626782" y="63795"/>
                </a:cubicBezTo>
                <a:cubicBezTo>
                  <a:pt x="1614430" y="14388"/>
                  <a:pt x="1616149" y="35878"/>
                  <a:pt x="1616149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5072040" y="30002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13"/>
          <p:cNvSpPr/>
          <p:nvPr/>
        </p:nvSpPr>
        <p:spPr>
          <a:xfrm>
            <a:off x="3357720" y="2143080"/>
            <a:ext cx="1214280" cy="428760"/>
          </a:xfrm>
          <a:custGeom>
            <a:avLst/>
            <a:gdLst/>
            <a:ahLst/>
            <a:rect l="l" t="t" r="r" b="b"/>
            <a:pathLst>
              <a:path w="2935489" h="542260">
                <a:moveTo>
                  <a:pt x="903" y="542260"/>
                </a:moveTo>
                <a:cubicBezTo>
                  <a:pt x="4447" y="528083"/>
                  <a:pt x="0" y="508701"/>
                  <a:pt x="11535" y="499730"/>
                </a:cubicBezTo>
                <a:cubicBezTo>
                  <a:pt x="236544" y="324724"/>
                  <a:pt x="116330" y="422502"/>
                  <a:pt x="245451" y="382772"/>
                </a:cubicBezTo>
                <a:cubicBezTo>
                  <a:pt x="548409" y="289553"/>
                  <a:pt x="370673" y="314881"/>
                  <a:pt x="628223" y="297712"/>
                </a:cubicBezTo>
                <a:cubicBezTo>
                  <a:pt x="728410" y="237599"/>
                  <a:pt x="630428" y="290144"/>
                  <a:pt x="755814" y="244549"/>
                </a:cubicBezTo>
                <a:cubicBezTo>
                  <a:pt x="770710" y="239132"/>
                  <a:pt x="783860" y="229721"/>
                  <a:pt x="798344" y="223284"/>
                </a:cubicBezTo>
                <a:cubicBezTo>
                  <a:pt x="815785" y="215532"/>
                  <a:pt x="833400" y="208055"/>
                  <a:pt x="851507" y="202019"/>
                </a:cubicBezTo>
                <a:cubicBezTo>
                  <a:pt x="875985" y="193860"/>
                  <a:pt x="901457" y="188913"/>
                  <a:pt x="925935" y="180754"/>
                </a:cubicBezTo>
                <a:cubicBezTo>
                  <a:pt x="944042" y="174718"/>
                  <a:pt x="961124" y="165907"/>
                  <a:pt x="979098" y="159488"/>
                </a:cubicBezTo>
                <a:cubicBezTo>
                  <a:pt x="1010762" y="148179"/>
                  <a:pt x="1044718" y="142628"/>
                  <a:pt x="1074791" y="127591"/>
                </a:cubicBezTo>
                <a:cubicBezTo>
                  <a:pt x="1171909" y="79031"/>
                  <a:pt x="1104607" y="107784"/>
                  <a:pt x="1213014" y="74428"/>
                </a:cubicBezTo>
                <a:cubicBezTo>
                  <a:pt x="1234438" y="67836"/>
                  <a:pt x="1254699" y="56848"/>
                  <a:pt x="1276809" y="53163"/>
                </a:cubicBezTo>
                <a:cubicBezTo>
                  <a:pt x="1298074" y="49619"/>
                  <a:pt x="1319244" y="45443"/>
                  <a:pt x="1340605" y="42530"/>
                </a:cubicBezTo>
                <a:cubicBezTo>
                  <a:pt x="1397229" y="34808"/>
                  <a:pt x="1454687" y="32472"/>
                  <a:pt x="1510726" y="21265"/>
                </a:cubicBezTo>
                <a:cubicBezTo>
                  <a:pt x="1528447" y="17721"/>
                  <a:pt x="1545885" y="12199"/>
                  <a:pt x="1563889" y="10633"/>
                </a:cubicBezTo>
                <a:cubicBezTo>
                  <a:pt x="1627543" y="5098"/>
                  <a:pt x="1691480" y="3544"/>
                  <a:pt x="1755275" y="0"/>
                </a:cubicBezTo>
                <a:cubicBezTo>
                  <a:pt x="1872233" y="3544"/>
                  <a:pt x="1989449" y="2094"/>
                  <a:pt x="2106149" y="10633"/>
                </a:cubicBezTo>
                <a:cubicBezTo>
                  <a:pt x="2135297" y="12766"/>
                  <a:pt x="2162551" y="26167"/>
                  <a:pt x="2191209" y="31898"/>
                </a:cubicBezTo>
                <a:lnTo>
                  <a:pt x="2244372" y="42530"/>
                </a:lnTo>
                <a:cubicBezTo>
                  <a:pt x="2270813" y="60157"/>
                  <a:pt x="2287966" y="73497"/>
                  <a:pt x="2318800" y="85060"/>
                </a:cubicBezTo>
                <a:cubicBezTo>
                  <a:pt x="2332483" y="90191"/>
                  <a:pt x="2347279" y="91678"/>
                  <a:pt x="2361330" y="95693"/>
                </a:cubicBezTo>
                <a:cubicBezTo>
                  <a:pt x="2372107" y="98772"/>
                  <a:pt x="2382595" y="102782"/>
                  <a:pt x="2393228" y="106326"/>
                </a:cubicBezTo>
                <a:cubicBezTo>
                  <a:pt x="2407405" y="116958"/>
                  <a:pt x="2420731" y="128831"/>
                  <a:pt x="2435758" y="138223"/>
                </a:cubicBezTo>
                <a:cubicBezTo>
                  <a:pt x="2449199" y="146624"/>
                  <a:pt x="2465101" y="150696"/>
                  <a:pt x="2478289" y="159488"/>
                </a:cubicBezTo>
                <a:cubicBezTo>
                  <a:pt x="2486630" y="165049"/>
                  <a:pt x="2490588" y="176271"/>
                  <a:pt x="2499554" y="180754"/>
                </a:cubicBezTo>
                <a:cubicBezTo>
                  <a:pt x="2551205" y="206580"/>
                  <a:pt x="2562519" y="192313"/>
                  <a:pt x="2605879" y="223284"/>
                </a:cubicBezTo>
                <a:cubicBezTo>
                  <a:pt x="2618115" y="232024"/>
                  <a:pt x="2625266" y="246840"/>
                  <a:pt x="2637777" y="255181"/>
                </a:cubicBezTo>
                <a:cubicBezTo>
                  <a:pt x="2647103" y="261398"/>
                  <a:pt x="2659878" y="260371"/>
                  <a:pt x="2669675" y="265814"/>
                </a:cubicBezTo>
                <a:cubicBezTo>
                  <a:pt x="2692016" y="278226"/>
                  <a:pt x="2709224" y="300262"/>
                  <a:pt x="2733470" y="308344"/>
                </a:cubicBezTo>
                <a:cubicBezTo>
                  <a:pt x="2813654" y="335073"/>
                  <a:pt x="2714811" y="299016"/>
                  <a:pt x="2797265" y="340242"/>
                </a:cubicBezTo>
                <a:cubicBezTo>
                  <a:pt x="2807290" y="345254"/>
                  <a:pt x="2818530" y="347330"/>
                  <a:pt x="2829163" y="350874"/>
                </a:cubicBezTo>
                <a:cubicBezTo>
                  <a:pt x="2836251" y="357963"/>
                  <a:pt x="2844413" y="364120"/>
                  <a:pt x="2850428" y="372140"/>
                </a:cubicBezTo>
                <a:cubicBezTo>
                  <a:pt x="2865762" y="392586"/>
                  <a:pt x="2892958" y="435935"/>
                  <a:pt x="2892958" y="435935"/>
                </a:cubicBezTo>
                <a:cubicBezTo>
                  <a:pt x="2894943" y="443874"/>
                  <a:pt x="2907688" y="499471"/>
                  <a:pt x="2914223" y="510363"/>
                </a:cubicBezTo>
                <a:cubicBezTo>
                  <a:pt x="2919381" y="518959"/>
                  <a:pt x="2935489" y="531628"/>
                  <a:pt x="2935489" y="5316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3714840" y="15717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15"/>
          <p:cNvSpPr/>
          <p:nvPr/>
        </p:nvSpPr>
        <p:spPr>
          <a:xfrm>
            <a:off x="3357720" y="2136600"/>
            <a:ext cx="2876400" cy="363600"/>
          </a:xfrm>
          <a:custGeom>
            <a:avLst/>
            <a:gdLst/>
            <a:ahLst/>
            <a:rect l="l" t="t" r="r" b="b"/>
            <a:pathLst>
              <a:path w="1661713" h="372140">
                <a:moveTo>
                  <a:pt x="0" y="329609"/>
                </a:moveTo>
                <a:cubicBezTo>
                  <a:pt x="246902" y="181471"/>
                  <a:pt x="63406" y="287729"/>
                  <a:pt x="691116" y="42530"/>
                </a:cubicBezTo>
                <a:cubicBezTo>
                  <a:pt x="704728" y="37213"/>
                  <a:pt x="719596" y="35913"/>
                  <a:pt x="733647" y="31898"/>
                </a:cubicBezTo>
                <a:cubicBezTo>
                  <a:pt x="744423" y="28819"/>
                  <a:pt x="754731" y="24214"/>
                  <a:pt x="765544" y="21265"/>
                </a:cubicBezTo>
                <a:cubicBezTo>
                  <a:pt x="793740" y="13575"/>
                  <a:pt x="850605" y="0"/>
                  <a:pt x="850605" y="0"/>
                </a:cubicBezTo>
                <a:lnTo>
                  <a:pt x="1329070" y="10633"/>
                </a:lnTo>
                <a:cubicBezTo>
                  <a:pt x="1347127" y="11355"/>
                  <a:pt x="1364382" y="18447"/>
                  <a:pt x="1382233" y="21265"/>
                </a:cubicBezTo>
                <a:cubicBezTo>
                  <a:pt x="1431742" y="29082"/>
                  <a:pt x="1531088" y="42530"/>
                  <a:pt x="1531088" y="42530"/>
                </a:cubicBezTo>
                <a:cubicBezTo>
                  <a:pt x="1581544" y="92986"/>
                  <a:pt x="1554598" y="78721"/>
                  <a:pt x="1605516" y="95693"/>
                </a:cubicBezTo>
                <a:cubicBezTo>
                  <a:pt x="1612604" y="106326"/>
                  <a:pt x="1618798" y="117612"/>
                  <a:pt x="1626781" y="127591"/>
                </a:cubicBezTo>
                <a:cubicBezTo>
                  <a:pt x="1633043" y="135419"/>
                  <a:pt x="1642889" y="140260"/>
                  <a:pt x="1648047" y="148856"/>
                </a:cubicBezTo>
                <a:cubicBezTo>
                  <a:pt x="1653813" y="158467"/>
                  <a:pt x="1658146" y="169559"/>
                  <a:pt x="1658679" y="180754"/>
                </a:cubicBezTo>
                <a:cubicBezTo>
                  <a:pt x="1661713" y="244477"/>
                  <a:pt x="1658679" y="308345"/>
                  <a:pt x="1658679" y="37214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"/>
          <p:cNvSpPr/>
          <p:nvPr/>
        </p:nvSpPr>
        <p:spPr>
          <a:xfrm>
            <a:off x="4929120" y="1571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17"/>
          <p:cNvSpPr/>
          <p:nvPr/>
        </p:nvSpPr>
        <p:spPr>
          <a:xfrm>
            <a:off x="1658880" y="2743200"/>
            <a:ext cx="4529160" cy="1116000"/>
          </a:xfrm>
          <a:custGeom>
            <a:avLst/>
            <a:gdLst/>
            <a:ahLst/>
            <a:rect l="l" t="t" r="r" b="b"/>
            <a:pathLst>
              <a:path w="4529470" h="1116419">
                <a:moveTo>
                  <a:pt x="0" y="0"/>
                </a:moveTo>
                <a:cubicBezTo>
                  <a:pt x="31898" y="81516"/>
                  <a:pt x="61211" y="164092"/>
                  <a:pt x="95693" y="244549"/>
                </a:cubicBezTo>
                <a:cubicBezTo>
                  <a:pt x="103834" y="263544"/>
                  <a:pt x="118349" y="279228"/>
                  <a:pt x="127591" y="297712"/>
                </a:cubicBezTo>
                <a:cubicBezTo>
                  <a:pt x="143202" y="328933"/>
                  <a:pt x="149991" y="364888"/>
                  <a:pt x="170121" y="393405"/>
                </a:cubicBezTo>
                <a:cubicBezTo>
                  <a:pt x="193245" y="426164"/>
                  <a:pt x="231122" y="446387"/>
                  <a:pt x="255181" y="478465"/>
                </a:cubicBezTo>
                <a:cubicBezTo>
                  <a:pt x="276446" y="506819"/>
                  <a:pt x="300742" y="533135"/>
                  <a:pt x="318977" y="563526"/>
                </a:cubicBezTo>
                <a:cubicBezTo>
                  <a:pt x="323430" y="570947"/>
                  <a:pt x="360447" y="634554"/>
                  <a:pt x="372140" y="648586"/>
                </a:cubicBezTo>
                <a:cubicBezTo>
                  <a:pt x="407439" y="690945"/>
                  <a:pt x="396314" y="670932"/>
                  <a:pt x="435935" y="701749"/>
                </a:cubicBezTo>
                <a:cubicBezTo>
                  <a:pt x="457785" y="718743"/>
                  <a:pt x="479390" y="736137"/>
                  <a:pt x="499730" y="754912"/>
                </a:cubicBezTo>
                <a:cubicBezTo>
                  <a:pt x="592824" y="840845"/>
                  <a:pt x="537442" y="817102"/>
                  <a:pt x="606056" y="839972"/>
                </a:cubicBezTo>
                <a:cubicBezTo>
                  <a:pt x="620233" y="854149"/>
                  <a:pt x="631585" y="871876"/>
                  <a:pt x="648586" y="882502"/>
                </a:cubicBezTo>
                <a:cubicBezTo>
                  <a:pt x="660978" y="890247"/>
                  <a:pt x="677433" y="888004"/>
                  <a:pt x="691116" y="893135"/>
                </a:cubicBezTo>
                <a:cubicBezTo>
                  <a:pt x="705957" y="898700"/>
                  <a:pt x="720275" y="905890"/>
                  <a:pt x="733647" y="914400"/>
                </a:cubicBezTo>
                <a:cubicBezTo>
                  <a:pt x="759369" y="930768"/>
                  <a:pt x="782109" y="951584"/>
                  <a:pt x="808074" y="967563"/>
                </a:cubicBezTo>
                <a:cubicBezTo>
                  <a:pt x="875421" y="1009007"/>
                  <a:pt x="879583" y="996200"/>
                  <a:pt x="956930" y="1031358"/>
                </a:cubicBezTo>
                <a:cubicBezTo>
                  <a:pt x="968563" y="1036646"/>
                  <a:pt x="976863" y="1048136"/>
                  <a:pt x="988828" y="1052623"/>
                </a:cubicBezTo>
                <a:cubicBezTo>
                  <a:pt x="1005749" y="1058969"/>
                  <a:pt x="1024399" y="1059117"/>
                  <a:pt x="1041991" y="1063256"/>
                </a:cubicBezTo>
                <a:cubicBezTo>
                  <a:pt x="1168934" y="1093125"/>
                  <a:pt x="1139442" y="1085106"/>
                  <a:pt x="1233377" y="1116419"/>
                </a:cubicBezTo>
                <a:lnTo>
                  <a:pt x="2424223" y="1105786"/>
                </a:lnTo>
                <a:cubicBezTo>
                  <a:pt x="2484571" y="1104850"/>
                  <a:pt x="2544701" y="1098244"/>
                  <a:pt x="2604977" y="1095153"/>
                </a:cubicBezTo>
                <a:lnTo>
                  <a:pt x="2838893" y="1084521"/>
                </a:lnTo>
                <a:cubicBezTo>
                  <a:pt x="2856614" y="1080977"/>
                  <a:pt x="2874414" y="1077808"/>
                  <a:pt x="2892056" y="1073888"/>
                </a:cubicBezTo>
                <a:cubicBezTo>
                  <a:pt x="2906321" y="1070718"/>
                  <a:pt x="2920120" y="1065323"/>
                  <a:pt x="2934586" y="1063256"/>
                </a:cubicBezTo>
                <a:cubicBezTo>
                  <a:pt x="2969847" y="1058219"/>
                  <a:pt x="3005470" y="1056167"/>
                  <a:pt x="3040912" y="1052623"/>
                </a:cubicBezTo>
                <a:cubicBezTo>
                  <a:pt x="3058633" y="1045535"/>
                  <a:pt x="3075599" y="1036148"/>
                  <a:pt x="3094074" y="1031358"/>
                </a:cubicBezTo>
                <a:cubicBezTo>
                  <a:pt x="3171476" y="1011291"/>
                  <a:pt x="3327991" y="978195"/>
                  <a:pt x="3327991" y="978195"/>
                </a:cubicBezTo>
                <a:cubicBezTo>
                  <a:pt x="3338623" y="971107"/>
                  <a:pt x="3347765" y="960971"/>
                  <a:pt x="3359888" y="956930"/>
                </a:cubicBezTo>
                <a:cubicBezTo>
                  <a:pt x="3380340" y="950113"/>
                  <a:pt x="3402604" y="950815"/>
                  <a:pt x="3423684" y="946298"/>
                </a:cubicBezTo>
                <a:cubicBezTo>
                  <a:pt x="3452261" y="940174"/>
                  <a:pt x="3480391" y="932121"/>
                  <a:pt x="3508744" y="925033"/>
                </a:cubicBezTo>
                <a:cubicBezTo>
                  <a:pt x="3551929" y="881846"/>
                  <a:pt x="3506925" y="920512"/>
                  <a:pt x="3593805" y="882502"/>
                </a:cubicBezTo>
                <a:cubicBezTo>
                  <a:pt x="3630108" y="866620"/>
                  <a:pt x="3700130" y="829340"/>
                  <a:pt x="3700130" y="829340"/>
                </a:cubicBezTo>
                <a:cubicBezTo>
                  <a:pt x="3741928" y="787540"/>
                  <a:pt x="3701414" y="821716"/>
                  <a:pt x="3785191" y="786809"/>
                </a:cubicBezTo>
                <a:cubicBezTo>
                  <a:pt x="3952885" y="716938"/>
                  <a:pt x="3747376" y="788782"/>
                  <a:pt x="3912781" y="733647"/>
                </a:cubicBezTo>
                <a:cubicBezTo>
                  <a:pt x="3923414" y="723014"/>
                  <a:pt x="3931928" y="709719"/>
                  <a:pt x="3944679" y="701749"/>
                </a:cubicBezTo>
                <a:cubicBezTo>
                  <a:pt x="3960864" y="691633"/>
                  <a:pt x="3980467" y="688382"/>
                  <a:pt x="3997842" y="680484"/>
                </a:cubicBezTo>
                <a:cubicBezTo>
                  <a:pt x="4019486" y="670646"/>
                  <a:pt x="4041250" y="660818"/>
                  <a:pt x="4061637" y="648586"/>
                </a:cubicBezTo>
                <a:cubicBezTo>
                  <a:pt x="4139094" y="602112"/>
                  <a:pt x="4067816" y="625776"/>
                  <a:pt x="4146698" y="606056"/>
                </a:cubicBezTo>
                <a:cubicBezTo>
                  <a:pt x="4217195" y="559057"/>
                  <a:pt x="4138860" y="614293"/>
                  <a:pt x="4210493" y="552893"/>
                </a:cubicBezTo>
                <a:cubicBezTo>
                  <a:pt x="4249142" y="519765"/>
                  <a:pt x="4251986" y="521513"/>
                  <a:pt x="4295554" y="499730"/>
                </a:cubicBezTo>
                <a:cubicBezTo>
                  <a:pt x="4311342" y="476048"/>
                  <a:pt x="4316442" y="463881"/>
                  <a:pt x="4338084" y="446567"/>
                </a:cubicBezTo>
                <a:cubicBezTo>
                  <a:pt x="4348062" y="438584"/>
                  <a:pt x="4359349" y="432390"/>
                  <a:pt x="4369981" y="425302"/>
                </a:cubicBezTo>
                <a:cubicBezTo>
                  <a:pt x="4378629" y="399360"/>
                  <a:pt x="4381269" y="382117"/>
                  <a:pt x="4401879" y="361507"/>
                </a:cubicBezTo>
                <a:cubicBezTo>
                  <a:pt x="4410915" y="352471"/>
                  <a:pt x="4423144" y="347330"/>
                  <a:pt x="4433777" y="340242"/>
                </a:cubicBezTo>
                <a:lnTo>
                  <a:pt x="4497572" y="148856"/>
                </a:lnTo>
                <a:lnTo>
                  <a:pt x="4508205" y="116958"/>
                </a:lnTo>
                <a:cubicBezTo>
                  <a:pt x="4511749" y="106325"/>
                  <a:pt x="4510912" y="92985"/>
                  <a:pt x="4518837" y="85060"/>
                </a:cubicBezTo>
                <a:lnTo>
                  <a:pt x="4529470" y="744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"/>
          <p:cNvSpPr/>
          <p:nvPr/>
        </p:nvSpPr>
        <p:spPr>
          <a:xfrm>
            <a:off x="3500280" y="38577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1643040" y="478620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一共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642960" y="714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一数，照样子完成下表。你发现了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429240" cy="47149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3"/>
          <p:cNvSpPr/>
          <p:nvPr/>
        </p:nvSpPr>
        <p:spPr>
          <a:xfrm>
            <a:off x="6429240" y="30002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3"/>
          <p:cNvSpPr/>
          <p:nvPr/>
        </p:nvSpPr>
        <p:spPr>
          <a:xfrm>
            <a:off x="5857920" y="39290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3"/>
          <p:cNvSpPr/>
          <p:nvPr/>
        </p:nvSpPr>
        <p:spPr>
          <a:xfrm>
            <a:off x="5715000" y="583416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28840" y="928800"/>
            <a:ext cx="5929200" cy="40021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357120" y="485784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线段上的点的个数与线段条数的关系是线段上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点，线段便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÷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3"/>
          <p:cNvSpPr/>
          <p:nvPr/>
        </p:nvSpPr>
        <p:spPr>
          <a:xfrm>
            <a:off x="642960" y="714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发现的规律判断：如果线段上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点，一共有几条线段？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357120" y="19224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线段上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点，根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(n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÷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可以得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2000160" y="26431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1571760" y="334476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×5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571760" y="40006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"/>
          <p:cNvSpPr/>
          <p:nvPr/>
        </p:nvSpPr>
        <p:spPr>
          <a:xfrm>
            <a:off x="1571760" y="470232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000080" y="54291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线段上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点，一共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"/>
          <p:cNvSpPr/>
          <p:nvPr/>
        </p:nvSpPr>
        <p:spPr>
          <a:xfrm>
            <a:off x="642960" y="714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发现的规律判断：如果线段上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点，一共有几条线段？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点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7" descr="绿枫叶1.png"/>
          <p:cNvPicPr/>
          <p:nvPr/>
        </p:nvPicPr>
        <p:blipFill>
          <a:blip r:embed="rId1"/>
          <a:stretch/>
        </p:blipFill>
        <p:spPr>
          <a:xfrm>
            <a:off x="92160" y="801720"/>
            <a:ext cx="663480" cy="720720"/>
          </a:xfrm>
          <a:prstGeom prst="rect">
            <a:avLst/>
          </a:prstGeom>
          <a:ln w="0">
            <a:noFill/>
          </a:ln>
        </p:spPr>
      </p:pic>
      <p:sp>
        <p:nvSpPr>
          <p:cNvPr id="588" name="TextBox 3"/>
          <p:cNvSpPr/>
          <p:nvPr/>
        </p:nvSpPr>
        <p:spPr>
          <a:xfrm>
            <a:off x="357120" y="19224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线段上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点，根据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(n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÷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可以得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2000160" y="26431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3"/>
          <p:cNvSpPr/>
          <p:nvPr/>
        </p:nvSpPr>
        <p:spPr>
          <a:xfrm>
            <a:off x="1571760" y="334476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×9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3"/>
          <p:cNvSpPr/>
          <p:nvPr/>
        </p:nvSpPr>
        <p:spPr>
          <a:xfrm>
            <a:off x="1571760" y="40006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1571760" y="470232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3"/>
          <p:cNvSpPr/>
          <p:nvPr/>
        </p:nvSpPr>
        <p:spPr>
          <a:xfrm>
            <a:off x="1000080" y="542916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线段上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点，一共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8T05:23:31Z</dcterms:created>
  <dc:creator/>
  <dc:description/>
  <cp:keywords/>
  <dc:language>en-US</dc:language>
  <cp:lastModifiedBy/>
  <dcterms:modified xsi:type="dcterms:W3CDTF">2016-12-02T16:31:41Z</dcterms:modified>
  <cp:revision>5</cp:revision>
  <dc:subject/>
  <dc:title/>
</cp:coreProperties>
</file>