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B24-FC5C-4D30-9F97-396E829109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547-D9AC-44A2-BF63-82AA9D5ABE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D29-5A6D-49CA-BA73-934DA8EDCF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1A4-4149-4CD4-8837-338A136AFF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4435-EDEA-4189-BB2E-CDAE8DAFE5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DC7-6572-4D68-A6ED-F0B182E9A0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F19D-773C-4D14-9F7D-E018C0DC80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F51-9338-49CD-BCB0-5C53A54D92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E23-F1FE-4CC9-AB47-ECF2E46E67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B8AF-BD73-4447-8731-90094EBEC2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A306-C49F-4344-BE30-C76D1B4C97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C09-586D-45B1-9251-B2F062491B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BCB-A535-4EF6-891E-7B43CEF89D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142-465F-44C8-9A55-0C2EB2DF04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CD9-5290-4255-A638-193C5BA660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9DA-7B6C-40E7-AD10-3E6BD0F3C6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0A2C-2AE0-4EFA-97EF-7FA3A6D05E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4227-F0E9-4A42-914B-62207FE369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CDA-041F-4363-B8EB-CFE1A1CF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E86-99EB-4B1C-80AF-DAE9FC2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075-2B3D-45D4-BF80-58A741C8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01E-A5FC-4955-A19E-CE37B9C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D42-13CF-4E5C-BD46-DEB4A5FD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3ED-E642-422B-B502-A0A6A48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0B9-748D-49BD-9A9B-CF2333FF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9B0-ECE0-4D41-93BD-8965520E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47A-E9C1-4273-8A95-9E5D126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38C-A43B-4B2E-808E-4691E21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038-7CBC-47A6-A74B-4DDAD0A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3DF-0D1D-4520-99CE-ACFD678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3B20-25E4-40FF-89D7-B60DC10C53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2625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 树 问 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53"/>
          <p:cNvGrpSpPr/>
          <p:nvPr/>
        </p:nvGrpSpPr>
        <p:grpSpPr>
          <a:xfrm>
            <a:off x="1500120" y="785880"/>
            <a:ext cx="5643720" cy="3740040"/>
            <a:chOff x="1500120" y="785880"/>
            <a:chExt cx="5643720" cy="3740040"/>
          </a:xfrm>
        </p:grpSpPr>
        <p:pic>
          <p:nvPicPr>
            <p:cNvPr id="256" name="Picture 2" descr=""/>
            <p:cNvPicPr/>
            <p:nvPr/>
          </p:nvPicPr>
          <p:blipFill>
            <a:blip r:embed="rId1"/>
            <a:stretch/>
          </p:blipFill>
          <p:spPr>
            <a:xfrm>
              <a:off x="1526760" y="785880"/>
              <a:ext cx="561708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" descr=""/>
            <p:cNvPicPr/>
            <p:nvPr/>
          </p:nvPicPr>
          <p:blipFill>
            <a:blip r:embed="rId2"/>
            <a:stretch/>
          </p:blipFill>
          <p:spPr>
            <a:xfrm>
              <a:off x="1650960" y="2071440"/>
              <a:ext cx="5492520" cy="12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3"/>
            <a:stretch/>
          </p:blipFill>
          <p:spPr>
            <a:xfrm>
              <a:off x="1500120" y="3357360"/>
              <a:ext cx="5643720" cy="11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extBox 5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55"/>
          <p:cNvGrpSpPr/>
          <p:nvPr/>
        </p:nvGrpSpPr>
        <p:grpSpPr>
          <a:xfrm>
            <a:off x="500040" y="4071960"/>
            <a:ext cx="8572680" cy="2010600"/>
            <a:chOff x="500040" y="4071960"/>
            <a:chExt cx="8572680" cy="2010600"/>
          </a:xfrm>
        </p:grpSpPr>
        <p:pic>
          <p:nvPicPr>
            <p:cNvPr id="261" name="图片 56" descr="抠图、议一议.png"/>
            <p:cNvPicPr/>
            <p:nvPr/>
          </p:nvPicPr>
          <p:blipFill>
            <a:blip r:embed="rId4"/>
            <a:stretch/>
          </p:blipFill>
          <p:spPr>
            <a:xfrm>
              <a:off x="500040" y="4071960"/>
              <a:ext cx="2428920" cy="14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3"/>
            <p:cNvSpPr/>
            <p:nvPr/>
          </p:nvSpPr>
          <p:spPr>
            <a:xfrm>
              <a:off x="857160" y="5501160"/>
              <a:ext cx="821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上面三种种树方式，种树棵树和间隔数各有什么关系？用式子怎么表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428760" y="857160"/>
            <a:ext cx="8572320" cy="2010600"/>
            <a:chOff x="428760" y="857160"/>
            <a:chExt cx="8572320" cy="2010600"/>
          </a:xfrm>
        </p:grpSpPr>
        <p:pic>
          <p:nvPicPr>
            <p:cNvPr id="265" name="图片 5" descr="抠图、议一议.png"/>
            <p:cNvPicPr/>
            <p:nvPr/>
          </p:nvPicPr>
          <p:blipFill>
            <a:blip r:embed="rId1"/>
            <a:stretch/>
          </p:blipFill>
          <p:spPr>
            <a:xfrm>
              <a:off x="428760" y="857160"/>
              <a:ext cx="2428920" cy="14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3"/>
            <p:cNvSpPr/>
            <p:nvPr/>
          </p:nvSpPr>
          <p:spPr>
            <a:xfrm>
              <a:off x="785880" y="228636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上面三种种树方式，种树棵树和间隔数各有什么关系？用式子怎么表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6"/>
          <p:cNvSpPr/>
          <p:nvPr/>
        </p:nvSpPr>
        <p:spPr>
          <a:xfrm>
            <a:off x="500040" y="350316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种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树＝距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500040" y="428904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只一头种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树＝距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500040" y="50749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不种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树＝距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－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74772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在长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小路同一侧植树，每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种一棵，两端各种一棵。一共需要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7" descr="绿枫叶1.png"/>
          <p:cNvPicPr/>
          <p:nvPr/>
        </p:nvPicPr>
        <p:blipFill>
          <a:blip r:embed="rId1"/>
          <a:stretch/>
        </p:blipFill>
        <p:spPr>
          <a:xfrm>
            <a:off x="92160" y="809640"/>
            <a:ext cx="663480" cy="704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6"/>
          <p:cNvSpPr/>
          <p:nvPr/>
        </p:nvSpPr>
        <p:spPr>
          <a:xfrm>
            <a:off x="1000080" y="250308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端都种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树＝距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2433600" y="321768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÷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2428920" y="393192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1143000" y="46461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需要准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4772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在长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小路同一侧植树，每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种一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7" descr="绿枫叶1.png"/>
          <p:cNvPicPr/>
          <p:nvPr/>
        </p:nvPicPr>
        <p:blipFill>
          <a:blip r:embed="rId1"/>
          <a:stretch/>
        </p:blipFill>
        <p:spPr>
          <a:xfrm>
            <a:off x="92160" y="809640"/>
            <a:ext cx="663480" cy="70488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6"/>
          <p:cNvGrpSpPr/>
          <p:nvPr/>
        </p:nvGrpSpPr>
        <p:grpSpPr>
          <a:xfrm>
            <a:off x="285840" y="1851120"/>
            <a:ext cx="8572320" cy="2010960"/>
            <a:chOff x="285840" y="1851120"/>
            <a:chExt cx="8572320" cy="2010960"/>
          </a:xfrm>
        </p:grpSpPr>
        <p:pic>
          <p:nvPicPr>
            <p:cNvPr id="281" name="图片 7" descr="抠图、议一议.png"/>
            <p:cNvPicPr/>
            <p:nvPr/>
          </p:nvPicPr>
          <p:blipFill>
            <a:blip r:embed="rId2"/>
            <a:stretch/>
          </p:blipFill>
          <p:spPr>
            <a:xfrm>
              <a:off x="285840" y="1851120"/>
              <a:ext cx="242892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3"/>
            <p:cNvSpPr/>
            <p:nvPr/>
          </p:nvSpPr>
          <p:spPr>
            <a:xfrm>
              <a:off x="642960" y="328068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如果这条路的两侧都植树，该怎样计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6"/>
          <p:cNvSpPr/>
          <p:nvPr/>
        </p:nvSpPr>
        <p:spPr>
          <a:xfrm>
            <a:off x="1143000" y="40035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树＝（距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2219400" y="471780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÷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2428920" y="54878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×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85840" y="614592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如果这条路的两侧都植树，需要准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4"/>
          <p:cNvSpPr/>
          <p:nvPr/>
        </p:nvSpPr>
        <p:spPr>
          <a:xfrm>
            <a:off x="71280" y="22082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小区要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小路两边种树，每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种一棵，两头都不种。一共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1785960" y="364608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÷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1143000" y="450360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需要准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4"/>
          <p:cNvSpPr/>
          <p:nvPr/>
        </p:nvSpPr>
        <p:spPr>
          <a:xfrm>
            <a:off x="71280" y="7142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室前面均匀地摆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盆鲜花，两端都摆（如下图）。每两盆鲜花之间相隔几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20600" y="2133720"/>
            <a:ext cx="8929800" cy="17240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6"/>
          <p:cNvSpPr/>
          <p:nvPr/>
        </p:nvSpPr>
        <p:spPr>
          <a:xfrm>
            <a:off x="2076480" y="441612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7"/>
          <p:cNvSpPr/>
          <p:nvPr/>
        </p:nvSpPr>
        <p:spPr>
          <a:xfrm>
            <a:off x="1500120" y="540684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两盆鲜花之间相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4"/>
          <p:cNvSpPr/>
          <p:nvPr/>
        </p:nvSpPr>
        <p:spPr>
          <a:xfrm>
            <a:off x="71280" y="714240"/>
            <a:ext cx="900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丽丽家到学校之间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电线杆，每两根电线杆之间的距离都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丽丽家到学校有多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01520" y="2071800"/>
            <a:ext cx="8929800" cy="1530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6"/>
          <p:cNvSpPr/>
          <p:nvPr/>
        </p:nvSpPr>
        <p:spPr>
          <a:xfrm>
            <a:off x="1933560" y="428904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1928880" y="5279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丽丽家到学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4"/>
          <p:cNvSpPr/>
          <p:nvPr/>
        </p:nvSpPr>
        <p:spPr>
          <a:xfrm>
            <a:off x="71280" y="7142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强家住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，小强从一楼到二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台阶，每两层之间的台阶数相同。小强回家一共要上多少个台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1280" y="37148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丽和小强住在同一个单元，小丽每天从楼上下来要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台阶。小丽家住在几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1933560" y="234432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643040" y="30589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强回家一共要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台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1933560" y="498780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÷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2000160" y="5702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丽家住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50920" y="308304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事例，经历分析问题、解答问题、总结解答植树问题一般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解间隔数的含义，知道解答植树问题的一般方法，能解答类似的简单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用植树问题的思路和方法解答其他问题的过程中，获得成功的体验，感受数学与生活的密切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QQ截图20141218095354.png"/>
          <p:cNvPicPr/>
          <p:nvPr/>
        </p:nvPicPr>
        <p:blipFill>
          <a:blip r:embed="rId2"/>
          <a:stretch/>
        </p:blipFill>
        <p:spPr>
          <a:xfrm>
            <a:off x="285840" y="1571760"/>
            <a:ext cx="4929120" cy="1763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7"/>
          <p:cNvGrpSpPr/>
          <p:nvPr/>
        </p:nvGrpSpPr>
        <p:grpSpPr>
          <a:xfrm>
            <a:off x="857160" y="3571920"/>
            <a:ext cx="6500880" cy="2211120"/>
            <a:chOff x="857160" y="3571920"/>
            <a:chExt cx="6500880" cy="2211120"/>
          </a:xfrm>
        </p:grpSpPr>
        <p:pic>
          <p:nvPicPr>
            <p:cNvPr id="59" name="图片 35" descr="抠图、议一议.png"/>
            <p:cNvPicPr/>
            <p:nvPr/>
          </p:nvPicPr>
          <p:blipFill>
            <a:blip r:embed="rId3"/>
            <a:stretch/>
          </p:blipFill>
          <p:spPr>
            <a:xfrm>
              <a:off x="857160" y="3571920"/>
              <a:ext cx="2428920" cy="14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3"/>
            <p:cNvSpPr/>
            <p:nvPr/>
          </p:nvSpPr>
          <p:spPr>
            <a:xfrm>
              <a:off x="1571400" y="5201640"/>
              <a:ext cx="57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说一说都有哪些种树方式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13"/>
          <p:cNvSpPr/>
          <p:nvPr/>
        </p:nvSpPr>
        <p:spPr>
          <a:xfrm>
            <a:off x="550800" y="330048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4" descr="QQ截图20141218095823.png"/>
          <p:cNvPicPr/>
          <p:nvPr/>
        </p:nvPicPr>
        <p:blipFill>
          <a:blip r:embed="rId2"/>
          <a:stretch/>
        </p:blipFill>
        <p:spPr>
          <a:xfrm>
            <a:off x="254160" y="228600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6" descr="QQ截图20141218095823.png"/>
          <p:cNvPicPr/>
          <p:nvPr/>
        </p:nvPicPr>
        <p:blipFill>
          <a:blip r:embed="rId3"/>
          <a:stretch/>
        </p:blipFill>
        <p:spPr>
          <a:xfrm>
            <a:off x="828036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" descr="QQ截图20141218095823.png"/>
          <p:cNvPicPr/>
          <p:nvPr/>
        </p:nvPicPr>
        <p:blipFill>
          <a:blip r:embed="rId4"/>
          <a:stretch/>
        </p:blipFill>
        <p:spPr>
          <a:xfrm>
            <a:off x="125892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8" descr="QQ截图20141218095823.png"/>
          <p:cNvPicPr/>
          <p:nvPr/>
        </p:nvPicPr>
        <p:blipFill>
          <a:blip r:embed="rId5"/>
          <a:stretch/>
        </p:blipFill>
        <p:spPr>
          <a:xfrm>
            <a:off x="229536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9" descr="QQ截图20141218095823.png"/>
          <p:cNvPicPr/>
          <p:nvPr/>
        </p:nvPicPr>
        <p:blipFill>
          <a:blip r:embed="rId6"/>
          <a:stretch/>
        </p:blipFill>
        <p:spPr>
          <a:xfrm>
            <a:off x="3300480" y="231624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0" descr="QQ截图20141218095823.png"/>
          <p:cNvPicPr/>
          <p:nvPr/>
        </p:nvPicPr>
        <p:blipFill>
          <a:blip r:embed="rId7"/>
          <a:stretch/>
        </p:blipFill>
        <p:spPr>
          <a:xfrm>
            <a:off x="426888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1" descr="QQ截图20141218095823.png"/>
          <p:cNvPicPr/>
          <p:nvPr/>
        </p:nvPicPr>
        <p:blipFill>
          <a:blip r:embed="rId8"/>
          <a:stretch/>
        </p:blipFill>
        <p:spPr>
          <a:xfrm>
            <a:off x="5275440" y="2316240"/>
            <a:ext cx="58068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2" descr="QQ截图20141218095823.png"/>
          <p:cNvPicPr/>
          <p:nvPr/>
        </p:nvPicPr>
        <p:blipFill>
          <a:blip r:embed="rId9"/>
          <a:stretch/>
        </p:blipFill>
        <p:spPr>
          <a:xfrm>
            <a:off x="6310440" y="231624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3" descr="QQ截图20141218095823.png"/>
          <p:cNvPicPr/>
          <p:nvPr/>
        </p:nvPicPr>
        <p:blipFill>
          <a:blip r:embed="rId10"/>
          <a:stretch/>
        </p:blipFill>
        <p:spPr>
          <a:xfrm>
            <a:off x="7316640" y="2297160"/>
            <a:ext cx="581040" cy="1009440"/>
          </a:xfrm>
          <a:prstGeom prst="rect">
            <a:avLst/>
          </a:prstGeom>
          <a:ln w="0">
            <a:noFill/>
          </a:ln>
        </p:spPr>
      </p:pic>
      <p:sp>
        <p:nvSpPr>
          <p:cNvPr id="74" name="左大括号 29"/>
          <p:cNvSpPr/>
          <p:nvPr/>
        </p:nvSpPr>
        <p:spPr>
          <a:xfrm flipH="1" flipV="1" rot="5400000">
            <a:off x="928800" y="2988360"/>
            <a:ext cx="285480" cy="1000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72540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左大括号 31"/>
          <p:cNvSpPr/>
          <p:nvPr/>
        </p:nvSpPr>
        <p:spPr>
          <a:xfrm flipH="1" flipV="1" rot="5400000">
            <a:off x="1938960" y="2988360"/>
            <a:ext cx="285480" cy="10004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440"/>
              <a:gd name="textAreaBottom" fmla="*/ 993240 h 100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73664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左大括号 33"/>
          <p:cNvSpPr/>
          <p:nvPr/>
        </p:nvSpPr>
        <p:spPr>
          <a:xfrm flipH="1" flipV="1" rot="5400000">
            <a:off x="2967120" y="2988360"/>
            <a:ext cx="285480" cy="1000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76372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左大括号 35"/>
          <p:cNvSpPr/>
          <p:nvPr/>
        </p:nvSpPr>
        <p:spPr>
          <a:xfrm flipH="1" flipV="1" rot="5400000">
            <a:off x="3976560" y="3003480"/>
            <a:ext cx="285480" cy="9702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0200"/>
              <a:gd name="textAreaBottom" fmla="*/ 963000 h 97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30"/>
                </a:cubicBezTo>
                <a:lnTo>
                  <a:pt x="10800" y="10270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30"/>
                </a:cubicBezTo>
                <a:lnTo>
                  <a:pt x="10800" y="21070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78936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左大括号 37"/>
          <p:cNvSpPr/>
          <p:nvPr/>
        </p:nvSpPr>
        <p:spPr>
          <a:xfrm flipH="1" flipV="1" rot="5400000">
            <a:off x="4956840" y="3016080"/>
            <a:ext cx="285480" cy="9446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44640"/>
              <a:gd name="textAreaBottom" fmla="*/ 937440 h 9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78296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左大括号 39"/>
          <p:cNvSpPr/>
          <p:nvPr/>
        </p:nvSpPr>
        <p:spPr>
          <a:xfrm flipH="1" flipV="1" rot="5400000">
            <a:off x="5983200" y="2971800"/>
            <a:ext cx="285480" cy="10335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33560"/>
              <a:gd name="textAreaBottom" fmla="*/ 1026360 h 10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76432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左大括号 41"/>
          <p:cNvSpPr/>
          <p:nvPr/>
        </p:nvSpPr>
        <p:spPr>
          <a:xfrm flipH="1" flipV="1" rot="5400000">
            <a:off x="7011000" y="2999520"/>
            <a:ext cx="285480" cy="978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1984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左大括号 43"/>
          <p:cNvSpPr/>
          <p:nvPr/>
        </p:nvSpPr>
        <p:spPr>
          <a:xfrm flipH="1" flipV="1" rot="5400000">
            <a:off x="8008920" y="2999520"/>
            <a:ext cx="285480" cy="9777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7760"/>
              <a:gd name="textAreaBottom" fmla="*/ 97056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781668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933480" y="5217840"/>
            <a:ext cx="73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头都种树，种树的棵树比间隔数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种树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大括号 48"/>
          <p:cNvSpPr/>
          <p:nvPr/>
        </p:nvSpPr>
        <p:spPr>
          <a:xfrm flipH="1" flipV="1" rot="5400000">
            <a:off x="4238280" y="-381600"/>
            <a:ext cx="714240" cy="8072280"/>
          </a:xfrm>
          <a:custGeom>
            <a:avLst/>
            <a:gdLst>
              <a:gd name="textAreaLeft" fmla="*/ 456840 w 714240"/>
              <a:gd name="textAreaRight" fmla="*/ 714960 w 714240"/>
              <a:gd name="textAreaTop" fmla="*/ 18360 h 8072280"/>
              <a:gd name="textAreaBottom" fmla="*/ 8053920 h 807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59"/>
                </a:cubicBezTo>
                <a:lnTo>
                  <a:pt x="10800" y="10641"/>
                </a:lnTo>
                <a:cubicBezTo>
                  <a:pt x="10800" y="10721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59"/>
                </a:cubicBezTo>
                <a:lnTo>
                  <a:pt x="10800" y="21441"/>
                </a:lnTo>
                <a:cubicBezTo>
                  <a:pt x="10800" y="2152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14880" y="3929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42960" y="4357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头都种树，种树棵树和间隔数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直接连接符 6"/>
          <p:cNvSpPr/>
          <p:nvPr/>
        </p:nvSpPr>
        <p:spPr>
          <a:xfrm>
            <a:off x="550800" y="330048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QQ截图20141218095823.png"/>
          <p:cNvPicPr/>
          <p:nvPr/>
        </p:nvPicPr>
        <p:blipFill>
          <a:blip r:embed="rId2"/>
          <a:stretch/>
        </p:blipFill>
        <p:spPr>
          <a:xfrm>
            <a:off x="254160" y="228600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QQ截图20141218095823.png"/>
          <p:cNvPicPr/>
          <p:nvPr/>
        </p:nvPicPr>
        <p:blipFill>
          <a:blip r:embed="rId3"/>
          <a:stretch/>
        </p:blipFill>
        <p:spPr>
          <a:xfrm>
            <a:off x="828036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9" descr="QQ截图20141218095823.png"/>
          <p:cNvPicPr/>
          <p:nvPr/>
        </p:nvPicPr>
        <p:blipFill>
          <a:blip r:embed="rId4"/>
          <a:stretch/>
        </p:blipFill>
        <p:spPr>
          <a:xfrm>
            <a:off x="125892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QQ截图20141218095823.png"/>
          <p:cNvPicPr/>
          <p:nvPr/>
        </p:nvPicPr>
        <p:blipFill>
          <a:blip r:embed="rId5"/>
          <a:stretch/>
        </p:blipFill>
        <p:spPr>
          <a:xfrm>
            <a:off x="229536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QQ截图20141218095823.png"/>
          <p:cNvPicPr/>
          <p:nvPr/>
        </p:nvPicPr>
        <p:blipFill>
          <a:blip r:embed="rId6"/>
          <a:stretch/>
        </p:blipFill>
        <p:spPr>
          <a:xfrm>
            <a:off x="3300480" y="231624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QQ截图20141218095823.png"/>
          <p:cNvPicPr/>
          <p:nvPr/>
        </p:nvPicPr>
        <p:blipFill>
          <a:blip r:embed="rId7"/>
          <a:stretch/>
        </p:blipFill>
        <p:spPr>
          <a:xfrm>
            <a:off x="4268880" y="230040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QQ截图20141218095823.png"/>
          <p:cNvPicPr/>
          <p:nvPr/>
        </p:nvPicPr>
        <p:blipFill>
          <a:blip r:embed="rId8"/>
          <a:stretch/>
        </p:blipFill>
        <p:spPr>
          <a:xfrm>
            <a:off x="5275440" y="2316240"/>
            <a:ext cx="580680" cy="1009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4" descr="QQ截图20141218095823.png"/>
          <p:cNvPicPr/>
          <p:nvPr/>
        </p:nvPicPr>
        <p:blipFill>
          <a:blip r:embed="rId9"/>
          <a:stretch/>
        </p:blipFill>
        <p:spPr>
          <a:xfrm>
            <a:off x="6310440" y="231624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5" descr="QQ截图20141218095823.png"/>
          <p:cNvPicPr/>
          <p:nvPr/>
        </p:nvPicPr>
        <p:blipFill>
          <a:blip r:embed="rId10"/>
          <a:stretch/>
        </p:blipFill>
        <p:spPr>
          <a:xfrm>
            <a:off x="7316640" y="2297160"/>
            <a:ext cx="581040" cy="1009440"/>
          </a:xfrm>
          <a:prstGeom prst="rect">
            <a:avLst/>
          </a:prstGeom>
          <a:ln w="0">
            <a:noFill/>
          </a:ln>
        </p:spPr>
      </p:pic>
      <p:sp>
        <p:nvSpPr>
          <p:cNvPr id="108" name="左大括号 16"/>
          <p:cNvSpPr/>
          <p:nvPr/>
        </p:nvSpPr>
        <p:spPr>
          <a:xfrm flipH="1" flipV="1" rot="5400000">
            <a:off x="928800" y="2988360"/>
            <a:ext cx="285480" cy="1000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2540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8"/>
          <p:cNvSpPr/>
          <p:nvPr/>
        </p:nvSpPr>
        <p:spPr>
          <a:xfrm flipH="1" flipV="1" rot="5400000">
            <a:off x="1938960" y="2988360"/>
            <a:ext cx="285480" cy="10004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440"/>
              <a:gd name="textAreaBottom" fmla="*/ 993240 h 100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73664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号 20"/>
          <p:cNvSpPr/>
          <p:nvPr/>
        </p:nvSpPr>
        <p:spPr>
          <a:xfrm flipH="1" flipV="1" rot="5400000">
            <a:off x="2967120" y="2988360"/>
            <a:ext cx="285480" cy="1000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76372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左大括号 22"/>
          <p:cNvSpPr/>
          <p:nvPr/>
        </p:nvSpPr>
        <p:spPr>
          <a:xfrm flipH="1" flipV="1" rot="5400000">
            <a:off x="3976560" y="3003480"/>
            <a:ext cx="285480" cy="9702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0200"/>
              <a:gd name="textAreaBottom" fmla="*/ 963000 h 97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30"/>
                </a:cubicBezTo>
                <a:lnTo>
                  <a:pt x="10800" y="10270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30"/>
                </a:cubicBezTo>
                <a:lnTo>
                  <a:pt x="10800" y="21070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78936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左大括号 24"/>
          <p:cNvSpPr/>
          <p:nvPr/>
        </p:nvSpPr>
        <p:spPr>
          <a:xfrm flipH="1" flipV="1" rot="5400000">
            <a:off x="4956840" y="3016080"/>
            <a:ext cx="285480" cy="9446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44640"/>
              <a:gd name="textAreaBottom" fmla="*/ 937440 h 9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478296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左大括号 26"/>
          <p:cNvSpPr/>
          <p:nvPr/>
        </p:nvSpPr>
        <p:spPr>
          <a:xfrm flipH="1" flipV="1" rot="5400000">
            <a:off x="5983200" y="2971800"/>
            <a:ext cx="285480" cy="10335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033560"/>
              <a:gd name="textAreaBottom" fmla="*/ 1026360 h 10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76432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左大括号 28"/>
          <p:cNvSpPr/>
          <p:nvPr/>
        </p:nvSpPr>
        <p:spPr>
          <a:xfrm flipH="1" flipV="1" rot="5400000">
            <a:off x="7011000" y="2999520"/>
            <a:ext cx="285480" cy="978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819840" y="3548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左大括号 30"/>
          <p:cNvSpPr/>
          <p:nvPr/>
        </p:nvSpPr>
        <p:spPr>
          <a:xfrm flipH="1" flipV="1" rot="5400000">
            <a:off x="8008920" y="2999520"/>
            <a:ext cx="285480" cy="9777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977760"/>
              <a:gd name="textAreaBottom" fmla="*/ 97056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81668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433600" y="428904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428920" y="5003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…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种树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571760" y="571788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两头都种树，需要准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头不种，另一头种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"/>
          <p:cNvSpPr/>
          <p:nvPr/>
        </p:nvSpPr>
        <p:spPr>
          <a:xfrm>
            <a:off x="511200" y="378936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3" descr="QQ截图20141218095823.png"/>
          <p:cNvPicPr/>
          <p:nvPr/>
        </p:nvPicPr>
        <p:blipFill>
          <a:blip r:embed="rId2"/>
          <a:stretch/>
        </p:blipFill>
        <p:spPr>
          <a:xfrm>
            <a:off x="824220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4" descr="QQ截图20141218095823.png"/>
          <p:cNvPicPr/>
          <p:nvPr/>
        </p:nvPicPr>
        <p:blipFill>
          <a:blip r:embed="rId3"/>
          <a:stretch/>
        </p:blipFill>
        <p:spPr>
          <a:xfrm>
            <a:off x="121932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5" descr="QQ截图20141218095823.png"/>
          <p:cNvPicPr/>
          <p:nvPr/>
        </p:nvPicPr>
        <p:blipFill>
          <a:blip r:embed="rId4"/>
          <a:stretch/>
        </p:blipFill>
        <p:spPr>
          <a:xfrm>
            <a:off x="225576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6" descr="QQ截图20141218095823.png"/>
          <p:cNvPicPr/>
          <p:nvPr/>
        </p:nvPicPr>
        <p:blipFill>
          <a:blip r:embed="rId5"/>
          <a:stretch/>
        </p:blipFill>
        <p:spPr>
          <a:xfrm>
            <a:off x="326232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7" descr="QQ截图20141218095823.png"/>
          <p:cNvPicPr/>
          <p:nvPr/>
        </p:nvPicPr>
        <p:blipFill>
          <a:blip r:embed="rId6"/>
          <a:stretch/>
        </p:blipFill>
        <p:spPr>
          <a:xfrm>
            <a:off x="4229280" y="2789280"/>
            <a:ext cx="580680" cy="10094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8" descr="QQ截图20141218095823.png"/>
          <p:cNvPicPr/>
          <p:nvPr/>
        </p:nvPicPr>
        <p:blipFill>
          <a:blip r:embed="rId7"/>
          <a:stretch/>
        </p:blipFill>
        <p:spPr>
          <a:xfrm>
            <a:off x="523548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9" descr="QQ截图20141218095823.png"/>
          <p:cNvPicPr/>
          <p:nvPr/>
        </p:nvPicPr>
        <p:blipFill>
          <a:blip r:embed="rId8"/>
          <a:stretch/>
        </p:blipFill>
        <p:spPr>
          <a:xfrm>
            <a:off x="627228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0" descr="QQ截图20141218095823.png"/>
          <p:cNvPicPr/>
          <p:nvPr/>
        </p:nvPicPr>
        <p:blipFill>
          <a:blip r:embed="rId9"/>
          <a:stretch/>
        </p:blipFill>
        <p:spPr>
          <a:xfrm>
            <a:off x="7277040" y="2786040"/>
            <a:ext cx="581040" cy="1009800"/>
          </a:xfrm>
          <a:prstGeom prst="rect">
            <a:avLst/>
          </a:prstGeom>
          <a:ln w="0">
            <a:noFill/>
          </a:ln>
        </p:spPr>
      </p:pic>
      <p:sp>
        <p:nvSpPr>
          <p:cNvPr id="141" name="左大括号 21"/>
          <p:cNvSpPr/>
          <p:nvPr/>
        </p:nvSpPr>
        <p:spPr>
          <a:xfrm flipH="1" flipV="1" rot="5400000">
            <a:off x="88884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68580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23"/>
          <p:cNvSpPr/>
          <p:nvPr/>
        </p:nvSpPr>
        <p:spPr>
          <a:xfrm flipH="1" flipV="1" rot="5400000">
            <a:off x="190008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69704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左大括号 25"/>
          <p:cNvSpPr/>
          <p:nvPr/>
        </p:nvSpPr>
        <p:spPr>
          <a:xfrm flipH="1" flipV="1" rot="5400000">
            <a:off x="292716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72412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大括号 27"/>
          <p:cNvSpPr/>
          <p:nvPr/>
        </p:nvSpPr>
        <p:spPr>
          <a:xfrm flipH="1" flipV="1" rot="5400000">
            <a:off x="3937320" y="3492360"/>
            <a:ext cx="285840" cy="971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1640"/>
              <a:gd name="textAreaBottom" fmla="*/ 964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75120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左大括号 29"/>
          <p:cNvSpPr/>
          <p:nvPr/>
        </p:nvSpPr>
        <p:spPr>
          <a:xfrm flipH="1" flipV="1" rot="5400000">
            <a:off x="4916880" y="3506760"/>
            <a:ext cx="285840" cy="9428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42840"/>
              <a:gd name="textAreaBottom" fmla="*/ 935640 h 9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743360" y="40384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大括号 31"/>
          <p:cNvSpPr/>
          <p:nvPr/>
        </p:nvSpPr>
        <p:spPr>
          <a:xfrm flipH="1" flipV="1" rot="5400000">
            <a:off x="5944320" y="3461760"/>
            <a:ext cx="285840" cy="10332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33200"/>
              <a:gd name="textAreaBottom" fmla="*/ 1026000 h 10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724360" y="40384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左大括号 33"/>
          <p:cNvSpPr/>
          <p:nvPr/>
        </p:nvSpPr>
        <p:spPr>
          <a:xfrm flipH="1" flipV="1" rot="5400000">
            <a:off x="6971040" y="348912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78024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左大括号 35"/>
          <p:cNvSpPr/>
          <p:nvPr/>
        </p:nvSpPr>
        <p:spPr>
          <a:xfrm flipH="1" flipV="1" rot="5400000">
            <a:off x="7967880" y="348912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77708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39"/>
          <p:cNvSpPr/>
          <p:nvPr/>
        </p:nvSpPr>
        <p:spPr>
          <a:xfrm flipH="1" flipV="1" rot="5400000">
            <a:off x="4199400" y="106200"/>
            <a:ext cx="714600" cy="8072640"/>
          </a:xfrm>
          <a:custGeom>
            <a:avLst/>
            <a:gdLst>
              <a:gd name="textAreaLeft" fmla="*/ 456120 w 714600"/>
              <a:gd name="textAreaRight" fmla="*/ 714600 w 714600"/>
              <a:gd name="textAreaTop" fmla="*/ 18360 h 8072640"/>
              <a:gd name="textAreaBottom" fmla="*/ 8054280 h 807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59"/>
                </a:cubicBezTo>
                <a:lnTo>
                  <a:pt x="10800" y="10641"/>
                </a:lnTo>
                <a:cubicBezTo>
                  <a:pt x="10800" y="10721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59"/>
                </a:cubicBezTo>
                <a:lnTo>
                  <a:pt x="10800" y="21441"/>
                </a:lnTo>
                <a:cubicBezTo>
                  <a:pt x="10800" y="2152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175280" y="44179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500040" y="46432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头不种，另一头种树，植树棵树个间隔数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1357200" y="578916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头不种，种树的棵树和间隔数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头不种，另一头种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0"/>
          <p:cNvSpPr/>
          <p:nvPr/>
        </p:nvSpPr>
        <p:spPr>
          <a:xfrm>
            <a:off x="511200" y="378936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1" descr="QQ截图20141218095823.png"/>
          <p:cNvPicPr/>
          <p:nvPr/>
        </p:nvPicPr>
        <p:blipFill>
          <a:blip r:embed="rId2"/>
          <a:stretch/>
        </p:blipFill>
        <p:spPr>
          <a:xfrm>
            <a:off x="824220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QQ截图20141218095823.png"/>
          <p:cNvPicPr/>
          <p:nvPr/>
        </p:nvPicPr>
        <p:blipFill>
          <a:blip r:embed="rId3"/>
          <a:stretch/>
        </p:blipFill>
        <p:spPr>
          <a:xfrm>
            <a:off x="121932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3" descr="QQ截图20141218095823.png"/>
          <p:cNvPicPr/>
          <p:nvPr/>
        </p:nvPicPr>
        <p:blipFill>
          <a:blip r:embed="rId4"/>
          <a:stretch/>
        </p:blipFill>
        <p:spPr>
          <a:xfrm>
            <a:off x="2255760" y="2789280"/>
            <a:ext cx="581040" cy="10094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4" descr="QQ截图20141218095823.png"/>
          <p:cNvPicPr/>
          <p:nvPr/>
        </p:nvPicPr>
        <p:blipFill>
          <a:blip r:embed="rId5"/>
          <a:stretch/>
        </p:blipFill>
        <p:spPr>
          <a:xfrm>
            <a:off x="326232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5" descr="QQ截图20141218095823.png"/>
          <p:cNvPicPr/>
          <p:nvPr/>
        </p:nvPicPr>
        <p:blipFill>
          <a:blip r:embed="rId6"/>
          <a:stretch/>
        </p:blipFill>
        <p:spPr>
          <a:xfrm>
            <a:off x="4229280" y="2789280"/>
            <a:ext cx="580680" cy="1009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6" descr="QQ截图20141218095823.png"/>
          <p:cNvPicPr/>
          <p:nvPr/>
        </p:nvPicPr>
        <p:blipFill>
          <a:blip r:embed="rId7"/>
          <a:stretch/>
        </p:blipFill>
        <p:spPr>
          <a:xfrm>
            <a:off x="523548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7" descr="QQ截图20141218095823.png"/>
          <p:cNvPicPr/>
          <p:nvPr/>
        </p:nvPicPr>
        <p:blipFill>
          <a:blip r:embed="rId8"/>
          <a:stretch/>
        </p:blipFill>
        <p:spPr>
          <a:xfrm>
            <a:off x="6272280" y="28051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8" descr="QQ截图20141218095823.png"/>
          <p:cNvPicPr/>
          <p:nvPr/>
        </p:nvPicPr>
        <p:blipFill>
          <a:blip r:embed="rId9"/>
          <a:stretch/>
        </p:blipFill>
        <p:spPr>
          <a:xfrm>
            <a:off x="7277040" y="2786040"/>
            <a:ext cx="581040" cy="1009800"/>
          </a:xfrm>
          <a:prstGeom prst="rect">
            <a:avLst/>
          </a:prstGeom>
          <a:ln w="0">
            <a:noFill/>
          </a:ln>
        </p:spPr>
      </p:pic>
      <p:sp>
        <p:nvSpPr>
          <p:cNvPr id="174" name="左大括号 19"/>
          <p:cNvSpPr/>
          <p:nvPr/>
        </p:nvSpPr>
        <p:spPr>
          <a:xfrm flipH="1" flipV="1" rot="5400000">
            <a:off x="88884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68580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大括号 21"/>
          <p:cNvSpPr/>
          <p:nvPr/>
        </p:nvSpPr>
        <p:spPr>
          <a:xfrm flipH="1" flipV="1" rot="5400000">
            <a:off x="190008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69704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左大括号 23"/>
          <p:cNvSpPr/>
          <p:nvPr/>
        </p:nvSpPr>
        <p:spPr>
          <a:xfrm flipH="1" flipV="1" rot="5400000">
            <a:off x="2927160" y="347832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72412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左大括号 25"/>
          <p:cNvSpPr/>
          <p:nvPr/>
        </p:nvSpPr>
        <p:spPr>
          <a:xfrm flipH="1" flipV="1" rot="5400000">
            <a:off x="3937320" y="3492360"/>
            <a:ext cx="285840" cy="971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1640"/>
              <a:gd name="textAreaBottom" fmla="*/ 964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375120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左大括号 27"/>
          <p:cNvSpPr/>
          <p:nvPr/>
        </p:nvSpPr>
        <p:spPr>
          <a:xfrm flipH="1" flipV="1" rot="5400000">
            <a:off x="4916880" y="3506760"/>
            <a:ext cx="285840" cy="9428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42840"/>
              <a:gd name="textAreaBottom" fmla="*/ 935640 h 9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4743360" y="40384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左大括号 29"/>
          <p:cNvSpPr/>
          <p:nvPr/>
        </p:nvSpPr>
        <p:spPr>
          <a:xfrm flipH="1" flipV="1" rot="5400000">
            <a:off x="5944320" y="3461760"/>
            <a:ext cx="285840" cy="10332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33200"/>
              <a:gd name="textAreaBottom" fmla="*/ 1026000 h 10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5724360" y="40384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左大括号 31"/>
          <p:cNvSpPr/>
          <p:nvPr/>
        </p:nvSpPr>
        <p:spPr>
          <a:xfrm flipH="1" flipV="1" rot="5400000">
            <a:off x="6971040" y="348912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678024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左大括号 33"/>
          <p:cNvSpPr/>
          <p:nvPr/>
        </p:nvSpPr>
        <p:spPr>
          <a:xfrm flipH="1" flipV="1" rot="5400000">
            <a:off x="7967880" y="348912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777080" y="4038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2790720" y="491616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642960" y="563040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头不种，另一头种，需要准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不种树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7"/>
          <p:cNvSpPr/>
          <p:nvPr/>
        </p:nvSpPr>
        <p:spPr>
          <a:xfrm>
            <a:off x="511200" y="336060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9" descr="QQ截图20141218095823.png"/>
          <p:cNvPicPr/>
          <p:nvPr/>
        </p:nvPicPr>
        <p:blipFill>
          <a:blip r:embed="rId2"/>
          <a:stretch/>
        </p:blipFill>
        <p:spPr>
          <a:xfrm>
            <a:off x="1219320" y="23605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" descr="QQ截图20141218095823.png"/>
          <p:cNvPicPr/>
          <p:nvPr/>
        </p:nvPicPr>
        <p:blipFill>
          <a:blip r:embed="rId3"/>
          <a:stretch/>
        </p:blipFill>
        <p:spPr>
          <a:xfrm>
            <a:off x="2255760" y="23605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1" descr="QQ截图20141218095823.png"/>
          <p:cNvPicPr/>
          <p:nvPr/>
        </p:nvPicPr>
        <p:blipFill>
          <a:blip r:embed="rId4"/>
          <a:stretch/>
        </p:blipFill>
        <p:spPr>
          <a:xfrm>
            <a:off x="326232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2" descr="QQ截图20141218095823.png"/>
          <p:cNvPicPr/>
          <p:nvPr/>
        </p:nvPicPr>
        <p:blipFill>
          <a:blip r:embed="rId5"/>
          <a:stretch/>
        </p:blipFill>
        <p:spPr>
          <a:xfrm>
            <a:off x="4229280" y="2360520"/>
            <a:ext cx="580680" cy="10098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3" descr="QQ截图20141218095823.png"/>
          <p:cNvPicPr/>
          <p:nvPr/>
        </p:nvPicPr>
        <p:blipFill>
          <a:blip r:embed="rId6"/>
          <a:stretch/>
        </p:blipFill>
        <p:spPr>
          <a:xfrm>
            <a:off x="523548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4" descr="QQ截图20141218095823.png"/>
          <p:cNvPicPr/>
          <p:nvPr/>
        </p:nvPicPr>
        <p:blipFill>
          <a:blip r:embed="rId7"/>
          <a:stretch/>
        </p:blipFill>
        <p:spPr>
          <a:xfrm>
            <a:off x="627228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5" descr="QQ截图20141218095823.png"/>
          <p:cNvPicPr/>
          <p:nvPr/>
        </p:nvPicPr>
        <p:blipFill>
          <a:blip r:embed="rId8"/>
          <a:stretch/>
        </p:blipFill>
        <p:spPr>
          <a:xfrm>
            <a:off x="7277040" y="2357280"/>
            <a:ext cx="581040" cy="1009800"/>
          </a:xfrm>
          <a:prstGeom prst="rect">
            <a:avLst/>
          </a:prstGeom>
          <a:ln w="0">
            <a:noFill/>
          </a:ln>
        </p:spPr>
      </p:pic>
      <p:sp>
        <p:nvSpPr>
          <p:cNvPr id="204" name="左大括号 16"/>
          <p:cNvSpPr/>
          <p:nvPr/>
        </p:nvSpPr>
        <p:spPr>
          <a:xfrm flipH="1" flipV="1" rot="5400000">
            <a:off x="88884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68580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左大括号 18"/>
          <p:cNvSpPr/>
          <p:nvPr/>
        </p:nvSpPr>
        <p:spPr>
          <a:xfrm flipH="1" flipV="1" rot="5400000">
            <a:off x="190008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69704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左大括号 20"/>
          <p:cNvSpPr/>
          <p:nvPr/>
        </p:nvSpPr>
        <p:spPr>
          <a:xfrm flipH="1" flipV="1" rot="5400000">
            <a:off x="292716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272412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左大括号 22"/>
          <p:cNvSpPr/>
          <p:nvPr/>
        </p:nvSpPr>
        <p:spPr>
          <a:xfrm flipH="1" flipV="1" rot="5400000">
            <a:off x="3937320" y="3063600"/>
            <a:ext cx="285840" cy="971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1640"/>
              <a:gd name="textAreaBottom" fmla="*/ 964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75120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左大括号 24"/>
          <p:cNvSpPr/>
          <p:nvPr/>
        </p:nvSpPr>
        <p:spPr>
          <a:xfrm flipH="1" flipV="1" rot="5400000">
            <a:off x="4916880" y="3078000"/>
            <a:ext cx="285840" cy="9428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42840"/>
              <a:gd name="textAreaBottom" fmla="*/ 935640 h 9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743360" y="3610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左大括号 26"/>
          <p:cNvSpPr/>
          <p:nvPr/>
        </p:nvSpPr>
        <p:spPr>
          <a:xfrm flipH="1" flipV="1" rot="5400000">
            <a:off x="5944320" y="3033000"/>
            <a:ext cx="285840" cy="10332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33200"/>
              <a:gd name="textAreaBottom" fmla="*/ 1026000 h 10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5724360" y="3610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左大括号 28"/>
          <p:cNvSpPr/>
          <p:nvPr/>
        </p:nvSpPr>
        <p:spPr>
          <a:xfrm flipH="1" flipV="1" rot="5400000">
            <a:off x="6971040" y="306036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78024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左大括号 30"/>
          <p:cNvSpPr/>
          <p:nvPr/>
        </p:nvSpPr>
        <p:spPr>
          <a:xfrm flipH="1" flipV="1" rot="5400000">
            <a:off x="7967880" y="306036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777708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左大括号 32"/>
          <p:cNvSpPr/>
          <p:nvPr/>
        </p:nvSpPr>
        <p:spPr>
          <a:xfrm flipH="1" flipV="1" rot="5400000">
            <a:off x="4199760" y="-321480"/>
            <a:ext cx="714240" cy="8072640"/>
          </a:xfrm>
          <a:custGeom>
            <a:avLst/>
            <a:gdLst>
              <a:gd name="textAreaLeft" fmla="*/ 456840 w 714240"/>
              <a:gd name="textAreaRight" fmla="*/ 714960 w 714240"/>
              <a:gd name="textAreaTop" fmla="*/ 18360 h 8072640"/>
              <a:gd name="textAreaBottom" fmla="*/ 8054280 h 807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59"/>
                </a:cubicBezTo>
                <a:lnTo>
                  <a:pt x="10800" y="10641"/>
                </a:lnTo>
                <a:cubicBezTo>
                  <a:pt x="10800" y="10721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59"/>
                </a:cubicBezTo>
                <a:lnTo>
                  <a:pt x="10800" y="21441"/>
                </a:lnTo>
                <a:cubicBezTo>
                  <a:pt x="10800" y="2152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175280" y="39895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00040" y="42148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头都不种树，植树棵树个间隔数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1071720" y="51465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头都不种，种树的棵树比间隔数少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教学楼前种一排玉兰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357120" y="15588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头都不种树，需要准备多少棵树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"/>
          <p:cNvSpPr/>
          <p:nvPr/>
        </p:nvSpPr>
        <p:spPr>
          <a:xfrm>
            <a:off x="511200" y="3360600"/>
            <a:ext cx="80773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8" descr="QQ截图20141218095823.png"/>
          <p:cNvPicPr/>
          <p:nvPr/>
        </p:nvPicPr>
        <p:blipFill>
          <a:blip r:embed="rId2"/>
          <a:stretch/>
        </p:blipFill>
        <p:spPr>
          <a:xfrm>
            <a:off x="1219320" y="23605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9" descr="QQ截图20141218095823.png"/>
          <p:cNvPicPr/>
          <p:nvPr/>
        </p:nvPicPr>
        <p:blipFill>
          <a:blip r:embed="rId3"/>
          <a:stretch/>
        </p:blipFill>
        <p:spPr>
          <a:xfrm>
            <a:off x="2255760" y="236052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0" descr="QQ截图20141218095823.png"/>
          <p:cNvPicPr/>
          <p:nvPr/>
        </p:nvPicPr>
        <p:blipFill>
          <a:blip r:embed="rId4"/>
          <a:stretch/>
        </p:blipFill>
        <p:spPr>
          <a:xfrm>
            <a:off x="326232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1" descr="QQ截图20141218095823.png"/>
          <p:cNvPicPr/>
          <p:nvPr/>
        </p:nvPicPr>
        <p:blipFill>
          <a:blip r:embed="rId5"/>
          <a:stretch/>
        </p:blipFill>
        <p:spPr>
          <a:xfrm>
            <a:off x="4229280" y="2360520"/>
            <a:ext cx="580680" cy="10098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QQ截图20141218095823.png"/>
          <p:cNvPicPr/>
          <p:nvPr/>
        </p:nvPicPr>
        <p:blipFill>
          <a:blip r:embed="rId6"/>
          <a:stretch/>
        </p:blipFill>
        <p:spPr>
          <a:xfrm>
            <a:off x="523548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" descr="QQ截图20141218095823.png"/>
          <p:cNvPicPr/>
          <p:nvPr/>
        </p:nvPicPr>
        <p:blipFill>
          <a:blip r:embed="rId7"/>
          <a:stretch/>
        </p:blipFill>
        <p:spPr>
          <a:xfrm>
            <a:off x="6272280" y="2376360"/>
            <a:ext cx="581040" cy="10098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QQ截图20141218095823.png"/>
          <p:cNvPicPr/>
          <p:nvPr/>
        </p:nvPicPr>
        <p:blipFill>
          <a:blip r:embed="rId8"/>
          <a:stretch/>
        </p:blipFill>
        <p:spPr>
          <a:xfrm>
            <a:off x="7277040" y="2357280"/>
            <a:ext cx="5810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左大括号 15"/>
          <p:cNvSpPr/>
          <p:nvPr/>
        </p:nvSpPr>
        <p:spPr>
          <a:xfrm flipH="1" flipV="1" rot="5400000">
            <a:off x="88884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68580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左大括号 17"/>
          <p:cNvSpPr/>
          <p:nvPr/>
        </p:nvSpPr>
        <p:spPr>
          <a:xfrm flipH="1" flipV="1" rot="5400000">
            <a:off x="190008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169704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左大括号 19"/>
          <p:cNvSpPr/>
          <p:nvPr/>
        </p:nvSpPr>
        <p:spPr>
          <a:xfrm flipH="1" flipV="1" rot="5400000">
            <a:off x="2927160" y="30495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72412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左大括号 21"/>
          <p:cNvSpPr/>
          <p:nvPr/>
        </p:nvSpPr>
        <p:spPr>
          <a:xfrm flipH="1" flipV="1" rot="5400000">
            <a:off x="3937320" y="3063600"/>
            <a:ext cx="285840" cy="971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1640"/>
              <a:gd name="textAreaBottom" fmla="*/ 964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375120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左大括号 23"/>
          <p:cNvSpPr/>
          <p:nvPr/>
        </p:nvSpPr>
        <p:spPr>
          <a:xfrm flipH="1" flipV="1" rot="5400000">
            <a:off x="4916880" y="3078000"/>
            <a:ext cx="285840" cy="9428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42840"/>
              <a:gd name="textAreaBottom" fmla="*/ 935640 h 9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743360" y="3610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左大括号 25"/>
          <p:cNvSpPr/>
          <p:nvPr/>
        </p:nvSpPr>
        <p:spPr>
          <a:xfrm flipH="1" flipV="1" rot="5400000">
            <a:off x="5944320" y="3033000"/>
            <a:ext cx="285840" cy="10332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33200"/>
              <a:gd name="textAreaBottom" fmla="*/ 1026000 h 10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8"/>
                </a:cubicBezTo>
                <a:lnTo>
                  <a:pt x="10800" y="10302"/>
                </a:lnTo>
                <a:cubicBezTo>
                  <a:pt x="10800" y="10551"/>
                  <a:pt x="5400" y="10800"/>
                  <a:pt x="0" y="10800"/>
                </a:cubicBezTo>
                <a:cubicBezTo>
                  <a:pt x="5400" y="10800"/>
                  <a:pt x="10800" y="11049"/>
                  <a:pt x="10800" y="11298"/>
                </a:cubicBezTo>
                <a:lnTo>
                  <a:pt x="10800" y="21102"/>
                </a:lnTo>
                <a:cubicBezTo>
                  <a:pt x="10800" y="213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5724360" y="3610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27"/>
          <p:cNvSpPr/>
          <p:nvPr/>
        </p:nvSpPr>
        <p:spPr>
          <a:xfrm flipH="1" flipV="1" rot="5400000">
            <a:off x="6971040" y="306036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678024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左大括号 29"/>
          <p:cNvSpPr/>
          <p:nvPr/>
        </p:nvSpPr>
        <p:spPr>
          <a:xfrm flipH="1" flipV="1" rot="5400000">
            <a:off x="7967880" y="3060360"/>
            <a:ext cx="285840" cy="978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78120"/>
              <a:gd name="textAreaBottom" fmla="*/ 97092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777080" y="36100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2433600" y="428904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隔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2428920" y="5003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棵）…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285920" y="571788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两头都不种树，需要准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3:20:17Z</dcterms:created>
  <dc:creator/>
  <dc:description/>
  <cp:keywords/>
  <dc:language>en-US</dc:language>
  <cp:lastModifiedBy/>
  <dcterms:modified xsi:type="dcterms:W3CDTF">2016-12-02T16:34:50Z</dcterms:modified>
  <cp:revision>5</cp:revision>
  <dc:subject/>
  <dc:title/>
</cp:coreProperties>
</file>