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36F1-AF34-4F06-AB32-B74FEA0116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CC69-89D9-43F3-9DB4-D53AA37CE882}" type="slidenum">
              <a:rPr b="0" lang="en-US" sz="1200" spc="-1" strike="noStrike">
                <a:solidFill>
                  <a:srgbClr val="66006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E2D3-5BE9-4E3D-9CB0-51EA40F1EF0F}" type="slidenum">
              <a:rPr b="0" lang="en-US" sz="1200" spc="-1" strike="noStrike">
                <a:solidFill>
                  <a:srgbClr val="66006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F364-02ED-48A8-A0C1-F2F94F35069B}" type="slidenum">
              <a:rPr b="0" lang="en-US" sz="1200" spc="-1" strike="noStrike">
                <a:solidFill>
                  <a:srgbClr val="66006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0E8F-E6EF-4551-A2EC-4DD067DC7A4E}" type="slidenum">
              <a:rPr b="0" lang="en-US" sz="1200" spc="-1" strike="noStrike">
                <a:solidFill>
                  <a:srgbClr val="66006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CD9D-91F9-4F0A-A193-F1CEEAA8B496}" type="slidenum">
              <a:rPr b="0" lang="en-US" sz="1200" spc="-1" strike="noStrike">
                <a:solidFill>
                  <a:srgbClr val="66006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30A8-9997-41D0-A289-81CD69025D8E}" type="slidenum">
              <a:rPr b="0" lang="en-US" sz="1200" spc="-1" strike="noStrike">
                <a:solidFill>
                  <a:srgbClr val="66006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8783-A32F-4DF3-B298-66516F42938E}" type="slidenum">
              <a:rPr b="0" lang="en-US" sz="1200" spc="-1" strike="noStrike">
                <a:solidFill>
                  <a:srgbClr val="66006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7EC3-4D41-4BE2-9138-35FB6E03A437}" type="slidenum">
              <a:rPr b="0" lang="en-US" sz="1200" spc="-1" strike="noStrike">
                <a:solidFill>
                  <a:srgbClr val="66006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3C41-8510-448F-9F53-506802DFD817}" type="slidenum">
              <a:rPr b="0" lang="en-US" sz="1200" spc="-1" strike="noStrike">
                <a:solidFill>
                  <a:srgbClr val="66006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C4D4-78FF-4306-9438-8AFE5F936214}" type="slidenum">
              <a:rPr b="0" lang="en-US" sz="1200" spc="-1" strike="noStrike">
                <a:solidFill>
                  <a:srgbClr val="66006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135D-D215-490F-A280-E38C76C5A6A6}" type="slidenum">
              <a:rPr b="0" lang="en-US" sz="1200" spc="-1" strike="noStrike">
                <a:solidFill>
                  <a:srgbClr val="66006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B887-DA6A-40EB-A648-75B9AE46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F3D4-FE4A-4634-940E-76593686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F9FBD-9039-4E80-8BC5-B63A26EE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C9CDB-059C-4233-AE3C-60FCDF7F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FA7DB-2FC9-4C96-997F-7AE51CFF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B142D-701B-45A3-8D8A-79C7EDF8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E9954-1F0E-4F67-830F-8313EF48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394A0-D5E7-4BC6-872D-777E9032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ED12C-394F-4456-8901-EB5C998E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4EE14-CF5B-41CB-87C3-CDE0B7D1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E792A-8AE9-438A-903B-6B0D84CC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66B26-0C7D-493A-91A4-49E63151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7891-62AF-4A44-A317-94A7E856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1A3B6-9F18-470E-8B17-FF6480AF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68D69-8E1C-4950-BAAE-9D118F02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5C01B-A770-474E-8285-4084509B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B4114-8968-40DA-9D61-E0F05F71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39FD2-6BED-4FD3-9BB6-1A38A38A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2AEC0-102D-4E08-A1F4-0F9E66D6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A1CAF-0812-4A39-9B98-D731A126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8C129-ACF7-47BF-A4A2-9A5D0A52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49BFC-2E11-4323-8B1E-BC301A32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D30FF-EEC4-4054-A925-50C039AD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5665-6621-4C72-A577-1F47A786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DC6BA-B6B6-48BD-A9AE-3A0BF154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AFC66-135D-4A99-B2D8-B0041AAA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96469-7A87-4360-86F4-18F9811E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EDA94-721A-4CB2-8864-723C3501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160B0-A518-4C49-AC5C-60032A4B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0469A-EEA4-4F2F-B70E-5B3F2C94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B51CE-FACA-4405-89D7-50AE9C6E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45433-94FB-4985-A750-AB3C3053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1B745-09D2-43AD-8A0C-8566896F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3C669-87A1-4724-A44B-3BCAA488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7F34-3AB6-46B2-AF93-FE8356BA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52664-F0EC-4AB1-884F-E6E9BAEC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69FE6-0E6D-4E7C-828E-9E08D491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3FF2D-771B-4F69-A66E-97B6CBCC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9DFC7-AAA0-45BD-9EE1-CDE32C2C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952A4-6556-4556-92DA-AE839549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85A2B-91A1-45C9-86EE-77256000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866CE-56AB-46AE-8355-ABEF41F1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E4ED8-DDAD-41AC-9039-D960877E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13C16-50A5-4263-8ED0-9DF99785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F0BF3-2DF3-4B5B-B431-D3373E5B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D36C-14FC-4E47-AE82-4C8B9E14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5FEA2-3643-49C4-957B-9D90C9DE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F739C-A581-4E0D-B93F-66B6EB45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5CEE6-5D58-4940-A56F-5A14A11F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12D48-EC26-4FB4-AB16-6BA03467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F2610-D42E-4BD6-A29B-7BF94B36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6580-18D3-4038-A472-BD014235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67F5-CACE-4906-BB87-6855A942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2818-4D54-4BEF-924F-F95D9D19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1432-93FC-4B2A-B2DA-D614D248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FED3-9B02-40BA-B7D7-3B3F0F7A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8605-4536-4762-B890-83C4D00E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6B9A-3CF3-405D-A8C8-5E4AF7F8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3204-FD82-4676-9C6A-8DCB9054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8DEE-2489-423E-93AA-29C09826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CBEA-6AAE-4D00-AA8E-3BE8267C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F5E2-5F5C-4944-9687-718F321D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DEEF5-5A9E-438A-8BCF-49A7B021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3DA2E-4CF9-41D3-B0B0-E1997BBA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9BA26-A219-4BDA-BB86-CA13AE19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8D6C5-7CE8-442E-B3D4-558D4C66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C13EB-855D-4418-AAC3-6A467EB0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40E6-ECCE-4362-B8CC-5C13CA1F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FE1AE-4414-4341-948B-6485FDB5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209D0-6CA8-458F-8DB8-4CB69661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F5BDB-8043-4B47-83BF-D09AA93C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5F683-1825-4937-B3C2-C4A8A51D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7EF42-A91A-4BCA-B960-620B5C1F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A548D-6482-40CD-8CC8-BB575091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F9A21-8F67-4895-B8B1-19EAFD3A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05FF6-CD6B-430C-A4FF-5E83BE26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BF0D0-45D1-4F82-A04B-FFB28AC8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189DB-D435-475F-90AC-898BD406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8EDA-1187-458F-9934-71A5ECFD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83115-FFD8-4AC8-BA3D-9330364C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351FE-DFDB-4243-9E30-4726D987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0C272-9DDD-4705-95A5-2EDD823B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7C558-4C6A-4DA6-8B8A-234332DC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F13A5-5746-4C9C-A6DE-A566475B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1245E-94E0-49B4-8422-ED34A4D0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8014B-872B-4D64-9BA8-2E03DCDD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85C00-7549-4F01-A6BA-C8C47F42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5AFD1-F7AD-44A7-84A1-4A77EE09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0B139-572E-4B5F-ACBD-4B653263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7A4-FEBC-4478-B01F-C4F4EB25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70FE3-89D2-48AB-85EC-3B73AE33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DC9D4-B55F-4316-9433-AA6D0D1E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C808A-D13F-40E4-8787-280C138B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9091C-129B-433D-B114-1F8C036C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80A92-5FE6-4205-A5F4-5429238D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16251-3633-42C6-A901-1CA2E899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1747C-5A6F-4834-9FD3-F8750130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3C8E5-12CB-4158-9B8B-2F67859F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1D76B-AD65-4BBF-A4FF-62D28A3C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47FFD-F1D1-4D26-9EFB-D2A3D8AC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F857-507D-4DD9-AB84-D559ED27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10F87-7B14-4DB3-86FA-04D23AE1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FA5D7-7553-48F6-9E9D-88586ED3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6EAAC-8CE4-46CC-B097-8B6A941A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FC4DC-04D9-40AD-926E-3C540FED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76BEF-28BE-4ABA-9205-9627D6C8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863B5-071F-4E28-9C8D-C5BDE643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8038D-6131-47AB-A6D9-4521078F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5C46B-4934-4B82-B005-F4B7B9D0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97D1B-31CB-4304-8711-B0BAD21E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F4829-00B4-4DB5-8ACF-281547F1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0D3-0AA1-4370-99D1-7BFDE977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DFA3E-837E-41F5-9C59-BCDB7E5B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E546D-C9AA-45F0-9AD0-8D65FF06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A3D09-C0C8-4053-A13B-54288332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7504D-DF85-4F15-8412-0F8A359F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C984B-B680-4571-8336-287BA108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B147B-5E59-4780-9EED-1EA896DD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CB797-B458-4759-9652-AAF85796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09071-4E27-4FEF-9750-B83A0DB5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EB46E-3323-4CCE-9233-3C8204BA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EF160-080E-48A0-B4F9-8E3464DB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F485-EF58-4B55-9811-67797D97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93059-D55A-42DB-8932-E8BAB6C6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AC9FC-0C35-4963-9AFF-D5A246CF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3846D-ED65-45EF-B35F-172A83B4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6BF84-24E0-4898-8BE6-95C54EE9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085DB-F681-424F-848F-AFC1A395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F5B8A-EA95-4745-8C79-CCAEC172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F0D2A-A1B6-4F05-BB8A-0397BB77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04B15-CA2B-4A45-8EB4-A98BEB96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5713A-44F3-4573-8FEB-DF503640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DC8C8-D9E8-408B-A6DD-38DD23AC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0D41-978D-4FF9-81B2-D9578052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35DB5-1F05-4635-BAB4-C2AF2750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49C75-76FB-4127-A1A4-CE52800F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87857-3407-4281-AF04-4671086D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AB6F3-99CB-4B4B-807A-0E6D033F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A47B2-3088-4E49-9254-EB11A001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1A87B-932B-4B08-B84A-1B7C7B51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2E764-A359-4651-96E2-86188450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21653-7DB8-471A-B8BB-0C1AAFB9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F3191-C8CB-4894-B9CF-CBA82502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80529-B5AB-4055-B240-F6FDBBA1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1BD7-FA95-4236-9F64-BF294DA08356}" type="slidenum">
              <a:rPr b="0" lang="en-US" sz="1400" spc="-1" strike="noStrike">
                <a:solidFill>
                  <a:srgbClr val="000000"/>
                </a:solidFill>
                <a:latin typeface="Impact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7" descr="官方logo"/>
          <p:cNvPicPr/>
          <p:nvPr/>
        </p:nvPicPr>
        <p:blipFill>
          <a:blip r:embed="rId3"/>
          <a:stretch/>
        </p:blipFill>
        <p:spPr>
          <a:xfrm>
            <a:off x="0" y="5802480"/>
            <a:ext cx="2195640" cy="1055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中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2" descr="中绿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中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EA9F-87DD-4DD1-BF20-3EB6197592CC}" type="slidenum">
              <a:rPr b="0" lang="en-US" sz="1400" spc="-1" strike="noStrike">
                <a:solidFill>
                  <a:srgbClr val="000000"/>
                </a:solidFill>
                <a:latin typeface="Impact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9" descr="中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E7C1-F3AB-4FE7-A43B-59C86EABF639}" type="slidenum">
              <a:rPr b="0" lang="en-US" sz="1400" spc="-1" strike="noStrike">
                <a:solidFill>
                  <a:srgbClr val="000000"/>
                </a:solidFill>
                <a:latin typeface="Impact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9" descr="中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6E75-A88E-46A1-8440-87E18142D6A2}" type="slidenum">
              <a:rPr b="0" lang="en-US" sz="1400" spc="-1" strike="noStrike">
                <a:solidFill>
                  <a:srgbClr val="660066"/>
                </a:solidFill>
                <a:latin typeface="Impact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中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682A-A5EA-4B94-95F4-82363638231A}" type="slidenum">
              <a:rPr b="0" lang="en-US" sz="1400" spc="-1" strike="noStrike">
                <a:solidFill>
                  <a:srgbClr val="000000"/>
                </a:solidFill>
                <a:latin typeface="Impact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中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7B35-FFFF-4922-8072-F8FB58648020}" type="slidenum">
              <a:rPr b="0" lang="en-US" sz="1400" spc="-1" strike="noStrike">
                <a:solidFill>
                  <a:srgbClr val="000000"/>
                </a:solidFill>
                <a:latin typeface="Impact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中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A0C7-2889-49A3-8F57-3FB966303B39}" type="slidenum">
              <a:rPr b="0" lang="en-US" sz="1400" spc="-1" strike="noStrike">
                <a:solidFill>
                  <a:srgbClr val="000000"/>
                </a:solidFill>
                <a:latin typeface="Impact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中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C756-2264-4CF2-BE9B-72A4157CA210}" type="slidenum">
              <a:rPr b="0" lang="en-US" sz="1400" spc="-1" strike="noStrike">
                <a:solidFill>
                  <a:srgbClr val="000000"/>
                </a:solidFill>
                <a:latin typeface="Impact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中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0136-F290-4027-86B5-E29CFD0FEBFF}" type="slidenum">
              <a:rPr b="0" lang="en-US" sz="1400" spc="-1" strike="noStrike">
                <a:solidFill>
                  <a:srgbClr val="000000"/>
                </a:solidFill>
                <a:latin typeface="Impact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中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4B12-E510-4521-ABD9-AB5ACAA54928}" type="slidenum">
              <a:rPr b="0" lang="en-US" sz="1400" spc="-1" strike="noStrike">
                <a:solidFill>
                  <a:srgbClr val="000000"/>
                </a:solidFill>
                <a:latin typeface="Impact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中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EB03-3CDE-4757-A255-038A3506057E}" type="slidenum">
              <a:rPr b="0" lang="en-US" sz="1400" spc="-1" strike="noStrike">
                <a:solidFill>
                  <a:srgbClr val="000000"/>
                </a:solidFill>
                <a:latin typeface="Impact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中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F49E-8F66-4346-9E1E-48C31F6E2B19}" type="slidenum">
              <a:rPr b="0" lang="en-US" sz="1400" spc="-1" strike="noStrike">
                <a:solidFill>
                  <a:srgbClr val="000000"/>
                </a:solidFill>
                <a:latin typeface="Impact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WordArt 3"/>
          <p:cNvSpPr txBox="1"/>
          <p:nvPr/>
        </p:nvSpPr>
        <p:spPr>
          <a:xfrm>
            <a:off x="1428840" y="1143000"/>
            <a:ext cx="61722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华文楷体"/>
              </a:rPr>
              <a:t>升和毫升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页脚占位符 2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428760" y="1219320"/>
            <a:ext cx="82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桶油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升，用去了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500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毫升，还剩下多少毫升？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2038320" y="3143160"/>
            <a:ext cx="546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5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升 </a:t>
            </a: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= 5000 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毫 升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1380960" y="4143240"/>
            <a:ext cx="68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5000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－</a:t>
            </a: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3500  = 1500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毫升）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1357200" y="5214960"/>
            <a:ext cx="59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还剩下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00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毫升。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页脚占位符 2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428760" y="1219320"/>
            <a:ext cx="82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瓶洗衣液有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750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毫升，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瓶洗衣液有多少升？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928800" y="3078000"/>
            <a:ext cx="75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750 × 4  =  3000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毫升）＝</a:t>
            </a: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升）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1576440" y="42991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瓶洗衣液有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升。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页脚占位符 2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40" name="Text Box 1026"/>
          <p:cNvSpPr/>
          <p:nvPr/>
        </p:nvSpPr>
        <p:spPr>
          <a:xfrm>
            <a:off x="428760" y="1219320"/>
            <a:ext cx="721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测 量 液 体 的 单 位 有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41" name="Text Box 1027"/>
          <p:cNvSpPr/>
          <p:nvPr/>
        </p:nvSpPr>
        <p:spPr>
          <a:xfrm>
            <a:off x="1314360" y="27306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升 </a:t>
            </a:r>
            <a:r>
              <a:rPr b="1" lang="en-US" sz="4400" spc="-1" strike="noStrike">
                <a:solidFill>
                  <a:srgbClr val="ff3300"/>
                </a:solidFill>
                <a:latin typeface="华文楷体"/>
                <a:ea typeface="华文楷体"/>
              </a:rPr>
              <a:t>( L )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   毫 升</a:t>
            </a:r>
            <a:r>
              <a:rPr b="1" lang="zh-CN" sz="4400" spc="-1" strike="noStrike">
                <a:solidFill>
                  <a:srgbClr val="ff3300"/>
                </a:solidFill>
                <a:latin typeface="华文楷体"/>
                <a:ea typeface="华文楷体"/>
              </a:rPr>
              <a:t>（</a:t>
            </a:r>
            <a:r>
              <a:rPr b="1" lang="en-US" sz="4400" spc="-1" strike="noStrike">
                <a:solidFill>
                  <a:srgbClr val="ff3300"/>
                </a:solidFill>
                <a:latin typeface="华文楷体"/>
                <a:ea typeface="华文楷体"/>
              </a:rPr>
              <a:t>mL)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42" name="Text Box 1029"/>
          <p:cNvSpPr/>
          <p:nvPr/>
        </p:nvSpPr>
        <p:spPr>
          <a:xfrm>
            <a:off x="2000160" y="4214880"/>
            <a:ext cx="46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升   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=  </a:t>
            </a:r>
            <a:r>
              <a:rPr b="1" lang="en-US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00 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毫 升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页脚占位符 2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544" name="Picture 3" descr="020411b"/>
          <p:cNvPicPr/>
          <p:nvPr/>
        </p:nvPicPr>
        <p:blipFill>
          <a:blip r:embed="rId1"/>
          <a:stretch/>
        </p:blipFill>
        <p:spPr>
          <a:xfrm>
            <a:off x="785880" y="1890720"/>
            <a:ext cx="1904760" cy="26668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酒3"/>
          <p:cNvPicPr/>
          <p:nvPr/>
        </p:nvPicPr>
        <p:blipFill>
          <a:blip r:embed="rId2"/>
          <a:stretch/>
        </p:blipFill>
        <p:spPr>
          <a:xfrm>
            <a:off x="3929040" y="1857240"/>
            <a:ext cx="1343160" cy="2676600"/>
          </a:xfrm>
          <a:prstGeom prst="rect">
            <a:avLst/>
          </a:prstGeom>
          <a:ln w="0">
            <a:noFill/>
          </a:ln>
        </p:spPr>
      </p:pic>
      <p:pic>
        <p:nvPicPr>
          <p:cNvPr id="546" name="Object 7" descr=""/>
          <p:cNvPicPr/>
          <p:nvPr/>
        </p:nvPicPr>
        <p:blipFill>
          <a:blip r:embed="rId3"/>
          <a:stretch/>
        </p:blipFill>
        <p:spPr>
          <a:xfrm>
            <a:off x="6291360" y="1857240"/>
            <a:ext cx="2209680" cy="266724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8"/>
          <p:cNvSpPr/>
          <p:nvPr/>
        </p:nvSpPr>
        <p:spPr>
          <a:xfrm>
            <a:off x="1143000" y="465624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330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271440" y="5354640"/>
            <a:ext cx="28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升，毫升）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4162320" y="4643280"/>
            <a:ext cx="11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650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3071880" y="53593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升，毫升）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7286760" y="458640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52" name="Text Box 20"/>
          <p:cNvSpPr/>
          <p:nvPr/>
        </p:nvSpPr>
        <p:spPr>
          <a:xfrm>
            <a:off x="6076800" y="5359320"/>
            <a:ext cx="29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升，毫升）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53" name="Text Box 21"/>
          <p:cNvSpPr/>
          <p:nvPr/>
        </p:nvSpPr>
        <p:spPr>
          <a:xfrm>
            <a:off x="571680" y="107316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选择合适的单位。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54" name="Text Box 22"/>
          <p:cNvSpPr/>
          <p:nvPr/>
        </p:nvSpPr>
        <p:spPr>
          <a:xfrm>
            <a:off x="1486080" y="5388120"/>
            <a:ext cx="144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</a:t>
            </a:r>
            <a:r>
              <a:rPr b="1" lang="en-US" sz="4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55" name="Text Box 24"/>
          <p:cNvSpPr/>
          <p:nvPr/>
        </p:nvSpPr>
        <p:spPr>
          <a:xfrm>
            <a:off x="4286160" y="5572080"/>
            <a:ext cx="14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</a:t>
            </a:r>
            <a:r>
              <a:rPr b="1" lang="en-US" sz="4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1" lang="en-US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6643800" y="5462640"/>
            <a:ext cx="146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页脚占位符 2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558" name="Picture 3" descr=""/>
          <p:cNvPicPr/>
          <p:nvPr/>
        </p:nvPicPr>
        <p:blipFill>
          <a:blip r:embed="rId1"/>
          <a:stretch/>
        </p:blipFill>
        <p:spPr>
          <a:xfrm>
            <a:off x="928800" y="1000080"/>
            <a:ext cx="4500360" cy="2529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" descr=""/>
          <p:cNvPicPr/>
          <p:nvPr/>
        </p:nvPicPr>
        <p:blipFill>
          <a:blip r:embed="rId2"/>
          <a:stretch/>
        </p:blipFill>
        <p:spPr>
          <a:xfrm>
            <a:off x="3286080" y="3441600"/>
            <a:ext cx="5000760" cy="2987640"/>
          </a:xfrm>
          <a:prstGeom prst="rect">
            <a:avLst/>
          </a:prstGeom>
          <a:ln w="0">
            <a:noFill/>
          </a:ln>
        </p:spPr>
      </p:pic>
      <p:sp>
        <p:nvSpPr>
          <p:cNvPr id="560" name="TextBox 4"/>
          <p:cNvSpPr/>
          <p:nvPr/>
        </p:nvSpPr>
        <p:spPr>
          <a:xfrm>
            <a:off x="1428840" y="279252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升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61" name="TextBox 5"/>
          <p:cNvSpPr/>
          <p:nvPr/>
        </p:nvSpPr>
        <p:spPr>
          <a:xfrm>
            <a:off x="4000680" y="2792520"/>
            <a:ext cx="14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毫升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62" name="TextBox 6"/>
          <p:cNvSpPr/>
          <p:nvPr/>
        </p:nvSpPr>
        <p:spPr>
          <a:xfrm>
            <a:off x="3857760" y="57927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升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63" name="TextBox 7"/>
          <p:cNvSpPr/>
          <p:nvPr/>
        </p:nvSpPr>
        <p:spPr>
          <a:xfrm>
            <a:off x="7000920" y="571500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毫升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页脚占位符 2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565" name="Group 2"/>
          <p:cNvGrpSpPr/>
          <p:nvPr/>
        </p:nvGrpSpPr>
        <p:grpSpPr>
          <a:xfrm>
            <a:off x="538200" y="1916280"/>
            <a:ext cx="8534520" cy="4010400"/>
            <a:chOff x="538200" y="1916280"/>
            <a:chExt cx="8534520" cy="4010400"/>
          </a:xfrm>
        </p:grpSpPr>
        <p:sp>
          <p:nvSpPr>
            <p:cNvPr id="566" name="Text Box 4"/>
            <p:cNvSpPr/>
            <p:nvPr/>
          </p:nvSpPr>
          <p:spPr>
            <a:xfrm>
              <a:off x="538200" y="1916280"/>
              <a:ext cx="830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一桶食油的容量是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毫升。       （        ） </a:t>
              </a:r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67" name="Text Box 5"/>
            <p:cNvSpPr/>
            <p:nvPr/>
          </p:nvSpPr>
          <p:spPr>
            <a:xfrm>
              <a:off x="538200" y="3059280"/>
              <a:ext cx="853452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一杯开水的容量是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50ml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。       （        ）</a:t>
              </a:r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68" name="Text Box 6"/>
            <p:cNvSpPr/>
            <p:nvPr/>
          </p:nvSpPr>
          <p:spPr>
            <a:xfrm>
              <a:off x="538200" y="4202280"/>
              <a:ext cx="815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一罐可乐的容量是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25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升。       （        ） </a:t>
              </a:r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69" name="Text Box 7"/>
            <p:cNvSpPr/>
            <p:nvPr/>
          </p:nvSpPr>
          <p:spPr>
            <a:xfrm>
              <a:off x="538200" y="5345280"/>
              <a:ext cx="853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一瓶矿泉水的容量是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500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毫升   （        ）    </a:t>
              </a:r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570" name="Text Box 3"/>
          <p:cNvSpPr/>
          <p:nvPr/>
        </p:nvSpPr>
        <p:spPr>
          <a:xfrm>
            <a:off x="857160" y="1006560"/>
            <a:ext cx="46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判断题。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71" name="TextBox 23"/>
          <p:cNvSpPr/>
          <p:nvPr/>
        </p:nvSpPr>
        <p:spPr>
          <a:xfrm>
            <a:off x="7286760" y="1785960"/>
            <a:ext cx="100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×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72" name="TextBox 24"/>
          <p:cNvSpPr/>
          <p:nvPr/>
        </p:nvSpPr>
        <p:spPr>
          <a:xfrm>
            <a:off x="7286760" y="2884320"/>
            <a:ext cx="100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√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73" name="TextBox 25"/>
          <p:cNvSpPr/>
          <p:nvPr/>
        </p:nvSpPr>
        <p:spPr>
          <a:xfrm>
            <a:off x="7286760" y="4071960"/>
            <a:ext cx="100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×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74" name="TextBox 26"/>
          <p:cNvSpPr/>
          <p:nvPr/>
        </p:nvSpPr>
        <p:spPr>
          <a:xfrm>
            <a:off x="7286760" y="5170320"/>
            <a:ext cx="100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√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页脚占位符 2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357120" y="2208240"/>
            <a:ext cx="82868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一瓶大瓶可乐的容量是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）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一瓶牛奶的容量是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50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）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一瓶眼药水的容量是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）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一桶饮用水的容量是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）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一瓶洗发水的容量是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0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） 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7072200" y="223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升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6786720" y="30639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毫 升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6786720" y="38498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毫 升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7000920" y="4707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升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6853320" y="54928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毫 升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399960" y="122076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选择：在（  ）内填入升或毫升。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页脚占位符 2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84" name="Text Box 2"/>
          <p:cNvSpPr/>
          <p:nvPr/>
        </p:nvSpPr>
        <p:spPr>
          <a:xfrm>
            <a:off x="671400" y="934920"/>
            <a:ext cx="304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、填空。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2644920" y="1706400"/>
            <a:ext cx="56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升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     ）毫升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2449440" y="2544840"/>
            <a:ext cx="569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升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     ）毫升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87" name="Text Box 9"/>
          <p:cNvSpPr/>
          <p:nvPr/>
        </p:nvSpPr>
        <p:spPr>
          <a:xfrm>
            <a:off x="1612800" y="3357720"/>
            <a:ext cx="560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0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毫升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     ）升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88" name="Text Box 10"/>
          <p:cNvSpPr/>
          <p:nvPr/>
        </p:nvSpPr>
        <p:spPr>
          <a:xfrm>
            <a:off x="1214280" y="428292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升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0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毫升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    ）毫升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89" name="Text Box 11"/>
          <p:cNvSpPr/>
          <p:nvPr/>
        </p:nvSpPr>
        <p:spPr>
          <a:xfrm>
            <a:off x="1525680" y="5143680"/>
            <a:ext cx="66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升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毫升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   ）毫升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90" name="Text Box 12"/>
          <p:cNvSpPr/>
          <p:nvPr/>
        </p:nvSpPr>
        <p:spPr>
          <a:xfrm>
            <a:off x="1139760" y="600084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升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5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毫升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   ）毫升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4505400" y="1701720"/>
            <a:ext cx="10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8000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92" name="Text Box 20"/>
          <p:cNvSpPr/>
          <p:nvPr/>
        </p:nvSpPr>
        <p:spPr>
          <a:xfrm>
            <a:off x="4905360" y="3416400"/>
            <a:ext cx="6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9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93" name="Text Box 21"/>
          <p:cNvSpPr/>
          <p:nvPr/>
        </p:nvSpPr>
        <p:spPr>
          <a:xfrm>
            <a:off x="4672080" y="4286160"/>
            <a:ext cx="107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600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94" name="Text Box 22"/>
          <p:cNvSpPr/>
          <p:nvPr/>
        </p:nvSpPr>
        <p:spPr>
          <a:xfrm>
            <a:off x="4672080" y="5130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55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95" name="Text Box 23"/>
          <p:cNvSpPr/>
          <p:nvPr/>
        </p:nvSpPr>
        <p:spPr>
          <a:xfrm>
            <a:off x="4605480" y="6059520"/>
            <a:ext cx="13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2350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96" name="Text Box 24"/>
          <p:cNvSpPr/>
          <p:nvPr/>
        </p:nvSpPr>
        <p:spPr>
          <a:xfrm>
            <a:off x="4500720" y="2558880"/>
            <a:ext cx="131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2000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页脚占位符 2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98" name="Text Box 2"/>
          <p:cNvSpPr/>
          <p:nvPr/>
        </p:nvSpPr>
        <p:spPr>
          <a:xfrm>
            <a:off x="571680" y="1077840"/>
            <a:ext cx="30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五、填一填。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599" name="Picture 2" descr=""/>
          <p:cNvPicPr/>
          <p:nvPr/>
        </p:nvPicPr>
        <p:blipFill>
          <a:blip r:embed="rId1"/>
          <a:stretch/>
        </p:blipFill>
        <p:spPr>
          <a:xfrm>
            <a:off x="357120" y="1822320"/>
            <a:ext cx="850104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页脚占位符 2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380880" y="1017720"/>
            <a:ext cx="483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六、应用题 。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324000" y="207180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西湖小学有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献血，每人 献血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0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毫升，一共献血多少毫升？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1576440" y="385776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0 × 8  =  1600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毫升）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1576440" y="500076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一共献血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600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毫升。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0T08:54:01Z</dcterms:created>
  <dc:creator/>
  <dc:description>http://cai.7cxk.net 中小学课件站</dc:description>
  <cp:keywords>http:/cai.7cxk.net 中小学课件站</cp:keywords>
  <dc:language>en-US</dc:language>
  <cp:lastModifiedBy/>
  <dcterms:modified xsi:type="dcterms:W3CDTF">2016-12-12T01:15:35Z</dcterms:modified>
  <cp:revision>6</cp:revision>
  <dc:subject/>
  <dc:title/>
</cp:coreProperties>
</file>