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C20E-56E3-4C29-B56F-8146FBBE19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AEE4-AE67-45F3-853A-837F9C9EFA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07E1-33E1-4714-9BD8-B31848B8A6A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3BD2-3925-4745-B940-796A2D1AB0C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2E19-D055-47F3-8386-165965712B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1183-B74B-41F3-A5B2-6F7F27B7907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CB04-7CB9-44EC-A640-8FC255AC723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BDD6-CC68-48D4-802D-EA1319D831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952C-C95F-4D94-80D4-C5C45DBEB12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2F38-A7B6-4CB7-8ABB-7B22C824B5E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6A58-C460-47A3-A041-3FEF90670DA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97D6-6A95-48A9-8030-0DB3F4DDF4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789A-4A2A-4EB4-835D-5D47F9B57F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216C-6053-4ABE-9231-FE7F085B6ED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3664-9828-4A92-B31C-051FD6490D7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200B-AFCE-4824-9985-53DF9B7C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7B0-B145-480F-A1A5-39617056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33B5D-5693-4B19-B310-4A4E1E9E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D876B-E895-426A-A572-79708715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45ECA-9C51-45CE-952A-084F8C37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8F236-45D3-40B8-BDCC-56029CF7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245615-B7FE-4D58-8485-D853F63C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B94A1-4736-4A03-BE66-C22E2AA4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DF57E-C2B4-4BC0-B5E7-AA3B5310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0C539-8347-4903-B4CC-649C95FA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2FF5A0-5B4F-4E9A-847A-E934E68F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EDECAC-66C3-44DD-A8CB-1D724CAD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2CD-3BC6-4497-A981-ED04ADB5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FE1D9-8421-4C48-83E0-C3D659F0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F4F3F3-E734-4606-8D1C-7B1FE76A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96A46-3873-4700-A0E3-5DADC2E4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12C6E-F24E-4130-BBA2-86F2D4A5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F37F06-8BD8-45FC-AFDE-9D0CBCF4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F799F8-EFDF-4B24-9579-4D437A7B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50DEC-92E3-486A-8872-5B088946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A661C-7EFF-4692-BD2A-8AFCDE8D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72556-3D96-4C35-86A0-21D6C35C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2F2B4-6766-4BCD-AB95-724FAD9C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CDBA-482E-43B8-A5FC-0DBD6068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25042-640F-4E59-A31C-BDFB9D14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D425C-1A00-494C-8839-22D8A745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E2623-CA4F-413E-A188-156B9C97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15FAD-8EC8-4B3B-94DA-8CF6164C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8F6DA-2443-43E9-9EEA-C148EF716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47D72-CFB8-42E8-BE1E-9C4F4E5A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4D754-14C7-43E5-90E6-FD17AC3D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4B7D5-103E-4952-9C6C-D8A1D85C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86763-3793-412B-BE7F-6A5E9DD0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47CD4-1155-47FE-BF75-CC41A802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5043-EB21-443D-B980-B48368DB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4F7B5A-4F07-4390-A423-86C438D4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10056A-C6DC-4356-A935-7B7A1F2E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1B4ED3-08C7-4F08-B92E-D148EEA79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0C75C-1304-40D0-A919-367BDFE1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9D17AC-03A3-45EB-BA1A-BC933DEE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86B77-4891-46F7-8F39-4BB6D7BF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FCBAD-1107-49C3-81A0-482BD586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56589F-B72E-4F7E-98D3-4C983726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2C17F-F86C-4568-80E3-E55706A0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E524A-1C5A-4326-8F5B-38F79B54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5428-084F-432C-8210-E3350B74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3CD15-CC16-4C70-B998-D9C5D68A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B5221-0E8E-4E3F-9BE0-013D2BD3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82DBD-5497-4F5F-8BCA-C1653DC9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497A9-F54A-4A7C-9B7B-5D127775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D1C41E-C45B-4D09-BF0C-37C4D07E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88041-CF51-4A05-8F60-4F73BD37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B3BD-DE9F-47B0-A3A5-91652695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5A5D-C346-4E68-96F8-3ABAD963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F9BEC-3F85-4B88-8CE6-97704540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7C2B-85A4-49F6-9463-995FE626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20E-8225-4275-9FF7-1B109933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3C5D-61E5-4E8E-9761-EBEFC4D5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7DEB-61C8-4D21-99C3-3E9F027B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69BD-9D44-416D-A62C-CDD8735C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BA62-F3FB-49BB-A014-4C530FA71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C9B3-6667-4833-AD39-CA8A881E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FC5F-542C-4F64-8839-1C8D471F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F2863-97B6-433A-A99D-911A57DE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812BD-8753-4F58-8BD8-6EEC1DA3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94F8-1B10-4B2C-8934-826B4574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E0D9-8018-4BDA-A8DE-5E14BFA3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A8B-3D1D-4F00-B51E-17745BA5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F5481-1951-42C7-AE2B-CE8129CB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4844-1310-41D7-9F7C-1D97741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20042-4B05-4AD5-951B-45852EC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8BCB3-C001-4C88-BBC2-54DCE66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DBC25-34FB-4A3D-98A8-A0282B91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580C-3B15-460E-8F0F-19619C6E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3178-34F9-4A5A-9723-420DF248C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241C-53C0-4E10-BDC3-F0BEA742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7B43-E1E9-4E3C-90DA-221B53AD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FCB1B-6AA1-42AF-BFD4-C73C16A0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39B3-D8DE-4222-9482-DD5C447D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AB480-EEB2-48DE-9813-E3FB863D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B98B0-81AA-4639-9639-A27845FF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5A750-AAA2-4E88-A107-5E6F9327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691C8-902E-4B11-A9D2-02A8392B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49038-DE26-4460-8E1E-EF916B53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84A3D-351B-4A96-963C-B8D0E6FA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B022-2BF1-4CCC-91BB-2FE97D58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8B93-5FD6-428C-B44D-C75F3B9F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4E5CC-C803-464F-B892-529A4FD7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26960-B8AA-40E2-895B-64AA5291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3A4-64C0-40CD-868F-EB47CD74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D2772-BB26-4594-9D3A-06C15F7C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C0414-CDD4-4C59-8527-9CD53C05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9BF7-9402-4C41-8EF0-65C92ED0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D9097-B170-42D4-A38F-A7D6BD70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17123-A26E-49B9-9F41-FA0E303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4980E-BE34-4DB8-B359-C6FFAB4E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DC227-5657-4A6D-8226-6258A210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1959C-E67A-4D32-8BC5-26B700C6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4E7C6-6BC4-4CFE-BEB7-2E75C437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1BC9F-C93A-4850-A220-65541988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A904-03E0-44D9-AA6C-99867C2F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8F11-5718-43CF-A473-BCA5AA1D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49350-FCC0-4D9B-A9DE-601422C7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68914-8F69-450A-A272-83FAC85EE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0E95E-BAC9-4053-9420-00F70DC9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8D8DB-D2F2-407F-A1BB-81689EEF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1B624-B7CC-4780-85F8-0A7B107D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926F5-F905-4EDD-8D77-7429EB38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4D1EE-9CBA-4255-883C-FB42902D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3CB81-C7C8-46C5-9CA9-E40FB03A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23AB9-20FC-45D2-84D8-FB08A7AA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024-DC73-4EF0-B210-CB419A01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06677-DCB5-40AB-906E-E8ED0BA1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AB457-6FF7-4E3D-B166-0E547F35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26BF6-AC82-4395-BBF2-3FA92838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D119E-F3CE-4236-86FC-1760CF07F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1974E-9753-4FFF-AF2F-876A8A79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54E57-03F0-4683-9214-AC4C9189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B951F-3191-42AA-AC09-592A6FEE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7C805-3E09-4304-B696-0C8C6913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DA5F4-756C-449F-96EF-9BBA3EF5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76AFE-D4C9-4A24-8408-C90C1144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7EB3-FA72-4C53-89DF-023A89D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707F7-EEE4-49C4-8840-AECEEAA5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FD060-8C3A-4B7F-901A-EC4E2175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11F8D-1DCF-4E53-B80F-F47EBAE7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AFEB-2500-4801-923F-35AAC9E2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752BA-6BBC-48E6-909F-14CBD3631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1482-AC05-4F77-9F7B-FE57EDC0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9A267-3A5A-4D14-BF3F-AC31C3F0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D1995-0E90-43BD-AEBA-90F430FE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8A45B-04FB-45B7-8BA4-5D6D3F1E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25CFB-C00F-4B84-8653-B3E0CDDE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454-683C-4A19-BBE6-4EBA5E7A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0E02D-497C-46B7-982A-4350121F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5E0D4-421E-4F20-9246-059F075E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01E39-24E1-4717-A3D9-B4FED57A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FDFEA-8D4F-4F40-844D-45503806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7CF1C-5567-45CE-A883-872D96D0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BA283-53BC-4F34-B8E0-D4D158CE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71253-1A96-4537-8A3A-B8A60E09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88D97-54BB-436D-AC92-FAA0F996B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0017CF-1F36-41D0-839D-329A10F8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EAD4C-59F8-48AE-9AE3-17C61BFE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A002-BD46-45AB-9F35-0BCDF3A74A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CE88-22B4-4CED-ABD7-A30735E886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56F1-E667-46EF-8A08-309C4FFCE23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7B6A-B78B-4B9D-98F0-3406C4EE5B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5A42-739A-4E85-B92A-ED296AA19C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B33B-EB23-4A1E-8726-A8B2209237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C15C-082A-4931-9788-0401EE2361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A95B-8FD1-4974-AD98-60C6F48CA0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EC18-8048-4EC0-8DA4-B99B199CF3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FB5D-261D-4467-AE99-69D59B8EB9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8114-65AB-44B3-90AB-540B48EE59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中绿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8B55-9C90-48B2-8EA8-B37F529A1B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4"/>
          <p:cNvSpPr/>
          <p:nvPr/>
        </p:nvSpPr>
        <p:spPr>
          <a:xfrm>
            <a:off x="1214280" y="2214720"/>
            <a:ext cx="6786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华文楷体"/>
                <a:ea typeface="华文楷体"/>
              </a:rPr>
              <a:t>认识升和毫升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4"/>
          <p:cNvSpPr/>
          <p:nvPr/>
        </p:nvSpPr>
        <p:spPr>
          <a:xfrm>
            <a:off x="762120" y="114300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数学四年级上册第一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857160" y="114300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认识量筒和量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1"/>
          <a:stretch/>
        </p:blipFill>
        <p:spPr>
          <a:xfrm>
            <a:off x="1214280" y="1928880"/>
            <a:ext cx="3040200" cy="3786120"/>
          </a:xfrm>
          <a:prstGeom prst="rect">
            <a:avLst/>
          </a:prstGeom>
          <a:ln w="0">
            <a:noFill/>
          </a:ln>
        </p:spPr>
      </p:pic>
      <p:sp>
        <p:nvSpPr>
          <p:cNvPr id="586" name="TextBox 6"/>
          <p:cNvSpPr/>
          <p:nvPr/>
        </p:nvSpPr>
        <p:spPr>
          <a:xfrm>
            <a:off x="4286160" y="205884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量筒和量杯有什么区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7"/>
          <p:cNvSpPr/>
          <p:nvPr/>
        </p:nvSpPr>
        <p:spPr>
          <a:xfrm>
            <a:off x="4500720" y="311292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区别：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量筒口径上下均匀，所以刻度均匀；量杯口径下小上大，所以刻度下疏上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"/>
          <p:cNvSpPr/>
          <p:nvPr/>
        </p:nvSpPr>
        <p:spPr>
          <a:xfrm>
            <a:off x="846000" y="1222200"/>
            <a:ext cx="44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认识升和毫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1071720" y="22147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计量液体，如汽油、饮料、药水等，用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升和毫升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单位。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升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字母“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，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毫升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字母“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mL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642960" y="1071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两个瓶子中的饮料分别倒入同样的量杯中量一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1"/>
          <a:stretch/>
        </p:blipFill>
        <p:spPr>
          <a:xfrm>
            <a:off x="2143080" y="2295360"/>
            <a:ext cx="5038920" cy="4133880"/>
          </a:xfrm>
          <a:prstGeom prst="rect">
            <a:avLst/>
          </a:prstGeom>
          <a:ln w="0">
            <a:noFill/>
          </a:ln>
        </p:spPr>
      </p:pic>
      <p:sp>
        <p:nvSpPr>
          <p:cNvPr id="594" name="TextBox 7"/>
          <p:cNvSpPr/>
          <p:nvPr/>
        </p:nvSpPr>
        <p:spPr>
          <a:xfrm>
            <a:off x="428760" y="421488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瓶饮料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Box 8"/>
          <p:cNvSpPr/>
          <p:nvPr/>
        </p:nvSpPr>
        <p:spPr>
          <a:xfrm>
            <a:off x="6715080" y="421488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瓶饮料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图片 3" descr="8414_1284261069D7LB.png"/>
          <p:cNvPicPr/>
          <p:nvPr/>
        </p:nvPicPr>
        <p:blipFill>
          <a:blip r:embed="rId1"/>
          <a:stretch/>
        </p:blipFill>
        <p:spPr>
          <a:xfrm>
            <a:off x="2143080" y="928800"/>
            <a:ext cx="4415040" cy="1780920"/>
          </a:xfrm>
          <a:prstGeom prst="rect">
            <a:avLst/>
          </a:prstGeom>
          <a:ln w="0">
            <a:noFill/>
          </a:ln>
        </p:spPr>
      </p:pic>
      <p:sp>
        <p:nvSpPr>
          <p:cNvPr id="598" name="TextBox 4"/>
          <p:cNvSpPr/>
          <p:nvPr/>
        </p:nvSpPr>
        <p:spPr>
          <a:xfrm>
            <a:off x="3000240" y="142884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归纳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857160" y="2786040"/>
            <a:ext cx="75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容器中所能容纳液体的多少，就是容器的容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计量液体的多少，用升和毫升作单位。升用字母“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表示，毫升用字母“</a:t>
            </a: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mL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表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图片 3" descr="抠图、试一试.png"/>
          <p:cNvPicPr/>
          <p:nvPr/>
        </p:nvPicPr>
        <p:blipFill>
          <a:blip r:embed="rId1"/>
          <a:stretch/>
        </p:blipFill>
        <p:spPr>
          <a:xfrm>
            <a:off x="642960" y="1204920"/>
            <a:ext cx="2643120" cy="15811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4"/>
          <p:cNvSpPr/>
          <p:nvPr/>
        </p:nvSpPr>
        <p:spPr>
          <a:xfrm>
            <a:off x="1500120" y="1990800"/>
            <a:ext cx="192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5"/>
          <p:cNvSpPr/>
          <p:nvPr/>
        </p:nvSpPr>
        <p:spPr>
          <a:xfrm>
            <a:off x="1143000" y="321480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测量自己水杯的容量，算一算每天应该喝大约几杯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"/>
          <p:cNvSpPr/>
          <p:nvPr/>
        </p:nvSpPr>
        <p:spPr>
          <a:xfrm>
            <a:off x="571680" y="2987640"/>
            <a:ext cx="8501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在实际操作活动中了解容量的概念，认识“升”和“毫升”，会用字母表示“升”和“毫升”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认识测量工具量杯和量筒，会读量杯和量筒上的刻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在实验活动中获得愉快的学习体验和数学活动经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4"/>
          <p:cNvSpPr/>
          <p:nvPr/>
        </p:nvSpPr>
        <p:spPr>
          <a:xfrm>
            <a:off x="2895480" y="8841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785960" y="1285920"/>
            <a:ext cx="5429160" cy="275256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4" descr="兔博士.png"/>
          <p:cNvPicPr/>
          <p:nvPr/>
        </p:nvPicPr>
        <p:blipFill>
          <a:blip r:embed="rId2"/>
          <a:stretch/>
        </p:blipFill>
        <p:spPr>
          <a:xfrm>
            <a:off x="7215120" y="4714920"/>
            <a:ext cx="973080" cy="1357200"/>
          </a:xfrm>
          <a:prstGeom prst="rect">
            <a:avLst/>
          </a:prstGeom>
          <a:ln w="0">
            <a:noFill/>
          </a:ln>
        </p:spPr>
      </p:pic>
      <p:sp>
        <p:nvSpPr>
          <p:cNvPr id="544" name="云形标注 5"/>
          <p:cNvSpPr/>
          <p:nvPr/>
        </p:nvSpPr>
        <p:spPr>
          <a:xfrm>
            <a:off x="1500120" y="4500720"/>
            <a:ext cx="5072040" cy="1214280"/>
          </a:xfrm>
          <a:prstGeom prst="cloudCallout">
            <a:avLst>
              <a:gd name="adj1" fmla="val 57287"/>
              <a:gd name="adj2" fmla="val 24388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哪个杯子盛水最多，哪个杯子盛水最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" descr="QQ截图20140820142019.png"/>
          <p:cNvPicPr/>
          <p:nvPr/>
        </p:nvPicPr>
        <p:blipFill>
          <a:blip r:embed="rId1"/>
          <a:stretch/>
        </p:blipFill>
        <p:spPr>
          <a:xfrm>
            <a:off x="714240" y="1214280"/>
            <a:ext cx="866880" cy="9241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4"/>
          <p:cNvSpPr/>
          <p:nvPr/>
        </p:nvSpPr>
        <p:spPr>
          <a:xfrm>
            <a:off x="1714680" y="1357200"/>
            <a:ext cx="63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比一比：下面两个杯子哪个盛水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图片 7" descr="杯子4.jpg"/>
          <p:cNvPicPr/>
          <p:nvPr/>
        </p:nvPicPr>
        <p:blipFill>
          <a:blip r:embed="rId2"/>
          <a:stretch/>
        </p:blipFill>
        <p:spPr>
          <a:xfrm>
            <a:off x="3022560" y="2428920"/>
            <a:ext cx="1292400" cy="22860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8" descr="杯子4_副本.png"/>
          <p:cNvPicPr/>
          <p:nvPr/>
        </p:nvPicPr>
        <p:blipFill>
          <a:blip r:embed="rId3"/>
          <a:stretch/>
        </p:blipFill>
        <p:spPr>
          <a:xfrm>
            <a:off x="4743360" y="2867040"/>
            <a:ext cx="1257480" cy="184788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9" descr="QQ截图20140820142019.png"/>
          <p:cNvPicPr/>
          <p:nvPr/>
        </p:nvPicPr>
        <p:blipFill>
          <a:blip r:embed="rId4"/>
          <a:stretch/>
        </p:blipFill>
        <p:spPr>
          <a:xfrm>
            <a:off x="2838600" y="4857840"/>
            <a:ext cx="5448240" cy="15048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10"/>
          <p:cNvSpPr/>
          <p:nvPr/>
        </p:nvSpPr>
        <p:spPr>
          <a:xfrm>
            <a:off x="3429000" y="300528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1"/>
          <p:cNvSpPr/>
          <p:nvPr/>
        </p:nvSpPr>
        <p:spPr>
          <a:xfrm>
            <a:off x="5143680" y="3076560"/>
            <a:ext cx="64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3500280" y="2643120"/>
            <a:ext cx="2076480" cy="3071880"/>
          </a:xfrm>
          <a:prstGeom prst="rect">
            <a:avLst/>
          </a:prstGeom>
          <a:ln w="0">
            <a:noFill/>
          </a:ln>
        </p:spPr>
      </p:pic>
      <p:sp>
        <p:nvSpPr>
          <p:cNvPr id="555" name="TextBox 3"/>
          <p:cNvSpPr/>
          <p:nvPr/>
        </p:nvSpPr>
        <p:spPr>
          <a:xfrm>
            <a:off x="571680" y="107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方法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571680" y="1928880"/>
            <a:ext cx="835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杯子装满水，倒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杯子中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571680" y="3400560"/>
            <a:ext cx="2357280" cy="2314440"/>
          </a:xfrm>
          <a:prstGeom prst="rect">
            <a:avLst/>
          </a:prstGeom>
          <a:ln w="0">
            <a:noFill/>
          </a:ln>
        </p:spPr>
      </p:pic>
      <p:sp>
        <p:nvSpPr>
          <p:cNvPr id="558" name="右箭头 6"/>
          <p:cNvSpPr/>
          <p:nvPr/>
        </p:nvSpPr>
        <p:spPr>
          <a:xfrm>
            <a:off x="3071880" y="42148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右箭头 8"/>
          <p:cNvSpPr/>
          <p:nvPr/>
        </p:nvSpPr>
        <p:spPr>
          <a:xfrm>
            <a:off x="5572080" y="421488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"/>
          <p:cNvPicPr/>
          <p:nvPr/>
        </p:nvPicPr>
        <p:blipFill>
          <a:blip r:embed="rId3"/>
          <a:stretch/>
        </p:blipFill>
        <p:spPr>
          <a:xfrm>
            <a:off x="6143760" y="3500280"/>
            <a:ext cx="25002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500040" y="185724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两个杯子都装满水，分别倒进两个一样大的杯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5"/>
          <p:cNvSpPr/>
          <p:nvPr/>
        </p:nvSpPr>
        <p:spPr>
          <a:xfrm>
            <a:off x="500040" y="114948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方法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1"/>
          <a:stretch/>
        </p:blipFill>
        <p:spPr>
          <a:xfrm>
            <a:off x="673200" y="3357720"/>
            <a:ext cx="1969920" cy="3071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"/>
          <p:cNvPicPr/>
          <p:nvPr/>
        </p:nvPicPr>
        <p:blipFill>
          <a:blip r:embed="rId2"/>
          <a:stretch/>
        </p:blipFill>
        <p:spPr>
          <a:xfrm>
            <a:off x="2928960" y="2500200"/>
            <a:ext cx="3143160" cy="39895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"/>
          <p:cNvPicPr/>
          <p:nvPr/>
        </p:nvPicPr>
        <p:blipFill>
          <a:blip r:embed="rId3"/>
          <a:stretch/>
        </p:blipFill>
        <p:spPr>
          <a:xfrm>
            <a:off x="6429240" y="3214800"/>
            <a:ext cx="2000520" cy="3271680"/>
          </a:xfrm>
          <a:prstGeom prst="rect">
            <a:avLst/>
          </a:prstGeom>
          <a:ln w="0">
            <a:noFill/>
          </a:ln>
        </p:spPr>
      </p:pic>
      <p:sp>
        <p:nvSpPr>
          <p:cNvPr id="567" name="右箭头 9"/>
          <p:cNvSpPr/>
          <p:nvPr/>
        </p:nvSpPr>
        <p:spPr>
          <a:xfrm>
            <a:off x="2857680" y="4500720"/>
            <a:ext cx="500040" cy="35712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右箭头 10"/>
          <p:cNvSpPr/>
          <p:nvPr/>
        </p:nvSpPr>
        <p:spPr>
          <a:xfrm>
            <a:off x="5786280" y="4500720"/>
            <a:ext cx="500400" cy="35712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3"/>
          <p:cNvSpPr/>
          <p:nvPr/>
        </p:nvSpPr>
        <p:spPr>
          <a:xfrm>
            <a:off x="857160" y="145080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论：</a:t>
            </a:r>
            <a:r>
              <a:rPr b="1" lang="en-US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a</a:t>
            </a:r>
            <a:r>
              <a:rPr b="1" lang="zh-CN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杯子盛水多</a:t>
            </a: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"/>
          <p:cNvSpPr/>
          <p:nvPr/>
        </p:nvSpPr>
        <p:spPr>
          <a:xfrm>
            <a:off x="928800" y="3143160"/>
            <a:ext cx="7215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两个杯子大小不同，盛水的多少也不同，杯子容纳水的多少，就是杯子的容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图片 3" descr="QQ截图20140820142019.png"/>
          <p:cNvPicPr/>
          <p:nvPr/>
        </p:nvPicPr>
        <p:blipFill>
          <a:blip r:embed="rId1"/>
          <a:stretch/>
        </p:blipFill>
        <p:spPr>
          <a:xfrm>
            <a:off x="785880" y="1214280"/>
            <a:ext cx="876240" cy="9241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4"/>
          <p:cNvSpPr/>
          <p:nvPr/>
        </p:nvSpPr>
        <p:spPr>
          <a:xfrm>
            <a:off x="1714680" y="1357200"/>
            <a:ext cx="63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比一比：下面哪个瓶子装的饮料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2"/>
          <a:stretch/>
        </p:blipFill>
        <p:spPr>
          <a:xfrm>
            <a:off x="1000080" y="2428920"/>
            <a:ext cx="3772080" cy="263844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6" descr="蓝灵鼠.png"/>
          <p:cNvPicPr/>
          <p:nvPr/>
        </p:nvPicPr>
        <p:blipFill>
          <a:blip r:embed="rId3"/>
          <a:stretch/>
        </p:blipFill>
        <p:spPr>
          <a:xfrm>
            <a:off x="7072200" y="4214880"/>
            <a:ext cx="1368360" cy="1643040"/>
          </a:xfrm>
          <a:prstGeom prst="rect">
            <a:avLst/>
          </a:prstGeom>
          <a:ln w="0">
            <a:noFill/>
          </a:ln>
        </p:spPr>
      </p:pic>
      <p:sp>
        <p:nvSpPr>
          <p:cNvPr id="577" name="云形标注 7"/>
          <p:cNvSpPr/>
          <p:nvPr/>
        </p:nvSpPr>
        <p:spPr>
          <a:xfrm>
            <a:off x="4929120" y="2786040"/>
            <a:ext cx="3071880" cy="1214640"/>
          </a:xfrm>
          <a:prstGeom prst="cloudCallout">
            <a:avLst>
              <a:gd name="adj1" fmla="val 22009"/>
              <a:gd name="adj2" fmla="val 109907"/>
            </a:avLst>
          </a:prstGeom>
          <a:solidFill>
            <a:srgbClr val="ffffcc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说一说可以怎样测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0"/>
          <p:cNvSpPr/>
          <p:nvPr/>
        </p:nvSpPr>
        <p:spPr>
          <a:xfrm>
            <a:off x="2071800" y="479124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3286080" y="4791240"/>
            <a:ext cx="6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3" descr="？.wmf"/>
          <p:cNvPicPr/>
          <p:nvPr/>
        </p:nvPicPr>
        <p:blipFill>
          <a:blip r:embed="rId1"/>
          <a:stretch/>
        </p:blipFill>
        <p:spPr>
          <a:xfrm>
            <a:off x="571680" y="1428840"/>
            <a:ext cx="1645920" cy="1785960"/>
          </a:xfrm>
          <a:prstGeom prst="rect">
            <a:avLst/>
          </a:prstGeom>
          <a:ln w="0">
            <a:noFill/>
          </a:ln>
        </p:spPr>
      </p:pic>
      <p:sp>
        <p:nvSpPr>
          <p:cNvPr id="582" name="TextBox 4"/>
          <p:cNvSpPr/>
          <p:nvPr/>
        </p:nvSpPr>
        <p:spPr>
          <a:xfrm>
            <a:off x="1428840" y="2857680"/>
            <a:ext cx="69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除了把两瓶饮料分别倒进两个一样大的杯子里之外，想一想，还有什么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0T07:55:50Z</dcterms:created>
  <dc:creator/>
  <dc:description>http://cai.7cxk.net 中小学课件站</dc:description>
  <cp:keywords>http:/cai.7cxk.net 中小学课件站</cp:keywords>
  <dc:language>en-US</dc:language>
  <cp:lastModifiedBy/>
  <dcterms:modified xsi:type="dcterms:W3CDTF">2016-12-12T01:14:52Z</dcterms:modified>
  <cp:revision>6</cp:revision>
  <dc:subject/>
  <dc:title/>
</cp:coreProperties>
</file>