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75A1-4EC2-4C96-8547-1CDF9A42AA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926A-46D3-48B5-BEF4-0F5DB68183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F1C2-65F5-4873-83D1-9AAC5DFA40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1B41-18A0-45A2-A4F5-C414E9363A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CE72-BA12-4F61-9970-65F076B3A3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9AE2-3F33-4275-B786-31B0CB7BAD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4A92-A7D7-479C-81C7-25D770581C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EBC0-79A0-42EE-ACAE-40B6A1B75B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3E98-3276-4FCC-A31B-9A6D6FF2EF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8BEF-8677-41F1-9D6A-130C141F38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476-FFDC-4EF1-8BFC-B56D3EFC48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22D6-81CF-4DE2-B0B5-B73564EBBA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8612-9F54-41A1-8BF7-C918A7F427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36C-24E8-45FC-A8AB-CA98B313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380-CE51-4EBA-B2D7-262D3D34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39D41-573B-4866-A1EE-57189651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2F2E3-E7A3-4682-998F-2F6BD718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EE773-6317-41EC-B01D-BBFA91D2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EE030-C39D-476B-ABBF-53D7F9A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611DF-66DF-4B4E-85DC-987EF017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7EE2A-0C13-4124-82E6-EE51617C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653DA-AA4B-41AF-889F-384468EF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440E4-AD20-45ED-B352-D6E83584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083E4-7D9E-458A-8C26-E818EACD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3DACB-164B-49EC-A4A2-350CDA77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2F4-A1FC-4BCC-A4B8-1D4C1A1F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23D8-F27D-4C13-9F05-96CEF14D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9CD7E-168F-4EB4-95CC-7F952D39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EA046-C964-4252-AB3C-6DB65AC4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597FC-848F-4963-B67F-9C2B3D87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5964F-41D3-4EF5-948F-71BE4439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6EAF3-3FA5-4228-A070-8C5BC124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75861-BBAD-452B-B082-69C7DD3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61DAB-9C46-4994-8787-F990D701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F8E9A-3874-4F3E-990A-2B55ED48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904BD-DB80-46B7-9D37-10D74343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3F8-DFBB-4093-9B70-B32E790B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FA75B-4BE8-4843-84D6-A35E010F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99F96-B80F-42E4-8AFF-5680350E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59ED2-9C1F-42BE-ABD1-87B0F6D8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EE7B5-E268-4081-A226-2E48C2DD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7DADE-9E29-4B9B-AFB6-1FD4F141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69668-0AAC-41A5-A21D-D883D234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E29B3-D4AD-4A79-BE64-36E4D443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D6632-F8CC-445C-BDA4-974B1C5F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79C48-10C6-4062-8C6F-76EE2F7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1BE7-FF7B-4715-A817-A0ECC24D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33C2-AD25-452D-92DF-1B5DDC7F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C5DEE-31A3-423A-A02E-6C387715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478DB-D450-41C5-8927-A658AFE7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858D4-064B-413D-ADBD-CE6393BE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964C3-E735-426A-B1DD-3EFD0D07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6129A-B706-43F5-9910-4B0E422D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28533-2A0A-4791-AFA9-9F19BD37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4EC87-6F86-47AE-946F-28C994D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C9A16-DA03-4B3A-8371-7DFF817F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AFEEE-BBDA-4C95-A040-4E974156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E5811-5FF2-495C-A1D7-9F9FC27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AF3B-C3D7-46D8-AF72-DF88FBBC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818AD-5F7B-4145-8D26-54C351E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3ED46-65E9-4E9F-A74A-D1A0907E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58564-5D68-44FB-AD70-2D3A2BBF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D4D4E-E666-46EE-B15C-1E91FEE3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86BBA-92B5-4AC6-A9C5-92A0E0D0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A2DE-3F58-4ACC-B430-5020C5F7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8F1F-A0D5-46B5-A734-55ABDC39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54D9-66BA-43C7-95CF-E7D4FEEF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A888-8E95-4B09-BA48-C04199F5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D1BB-A324-4220-AAAB-DC054CE7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C28-4355-4950-956B-0F0D2DFC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C3D4-2316-4267-8B1C-9FFCE521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F50B-3642-44CD-ACCB-09A6D8B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0A7D-777C-46D7-A9C5-995AED28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50F0-D97E-466B-9514-A460685F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FE85-73F6-4AE2-9E85-384F68D7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2AA7-56E4-41CE-86A3-2FAF075D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3E17-3039-4F2F-8299-EE17FCB8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00E4-F2CC-46F0-B1F8-899AD263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9FED7-2802-406E-9094-C2D654F2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45BC-EFF9-4696-96B4-1776975B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EBE-98FD-4DAE-9597-BC20D866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C2C7-0D75-4DA4-8E0D-1FE05B49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3522-66C2-42F8-87F7-2FBDEDDE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B989-AF80-4B90-B8F4-B36DD28C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B5820-1823-4625-9F21-800FDAAB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B0E5-1D66-4937-B947-32CDA9A3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2D82-91A0-4BE4-BF7E-A97B637B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3966-529F-4977-AAD1-A518D54D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7F05-F420-48BC-893C-1323F6A7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A315-9E49-4802-9F46-FC9E2A5B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BEE2-CC27-4AEF-BCE2-75F24B1D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17B-C2D3-4819-B5B7-105D8DCA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F5BC-0146-4337-925B-456C4323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0516-D448-41C8-BA04-3E877B67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E3E6-7B16-4DD4-AD9D-1119CD11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29863-090B-4596-9638-584B2938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32D0-ED5B-4C40-B084-D529EB80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A5B4-675C-486F-87F7-80291DA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E44C-61BC-48D2-BD5B-CB7D3D4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DC977-3E3C-4372-9507-8E1FC06D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9298-F8BF-41C4-9E6C-5A390AF4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FD301-40D0-4A05-976A-D45FC349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6F1-509D-4C92-BD37-D35FFAF5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676D9-AE92-40E5-A85C-5268D31B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DA07-3D84-4823-8E6E-B3E3CF99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2501-2E21-4FF4-8497-191FF7AE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C07A-AF5A-4246-825D-77F8A448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4EA9-DCF2-49BF-B6DB-E26F6F39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CE1A1-FB3C-4ED7-8081-ABD095A9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AC43-653A-47FB-9AC7-3F728CB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8A26E-7CBC-4C98-A22A-5C10AD0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A65BB-4B43-4DD0-BE01-637B3EA5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28057-B2D4-402D-88D7-4E6E6D5F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E2A-BEC1-460E-AEF3-6CB86769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A1C9-B083-4DB7-8475-AFD06731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D5C1-98AA-4083-995A-99DD8F0A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14524-15B0-4612-A068-073B5187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96A42-C56F-45D1-8442-35FAC4A2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D494-6408-4BD1-AA90-4CBDE898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C33F0-C8B3-4DC2-9517-82B1BD56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9FC42-770F-480B-8B2D-119758BB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3B467-77EB-40E6-8894-81086482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A5A02-F9F2-4527-92FF-41BF91C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854EF-9144-44ED-AB2D-6D9F366E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F59-F10E-4016-BFE9-59499D1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D384-1A49-4C82-B5C0-11387955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AEBDE-0C68-452E-BFA0-27ADDEF6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C5AEE-F8D5-4623-996B-F1D736A6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E7540-1418-4280-BA9D-46B405AD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099AB-DEA4-4285-BA85-165D5F9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8D90-5292-4D3E-B71D-CDD145A4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5D961-89C6-4799-B6D8-6951D9AF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6CAC-A9C9-43C4-A593-6FECA74F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3C549-CA6D-4A87-ABA6-2500BEA7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B9FDD-2804-43BB-AF93-9F18036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00E-5FAD-4215-B604-A48F28C7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13802-78E3-46E7-9074-3F24D65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08C5B-2A1B-4BDB-A0D1-2235D95E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07587-EFD0-4129-8B9C-D4AFC1BD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AFE4-84F5-44CC-9BFB-47BF1818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8B3CD-3F54-44FF-AE9A-4FAF7BB8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CCC60-1E6F-420D-8F58-A20160CC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8C9A6-1882-42A4-A1FA-2528D3C9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EC7B7-6FAB-4307-832E-00190F3E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2A295-7C42-473B-B344-FEBFC061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4991C-F90C-4CF8-9855-80AF9604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DF6-0CB1-421F-A25C-39A69A8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C5332-303D-47DE-A132-0124621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423F6-48A8-461E-A889-288337D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A7D1D-C709-4253-9A6B-94A4E058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7465A-DCFC-4621-8C43-AA580044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E6BFD-507B-4A1B-A937-27B5084B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4E61C-D702-484B-A2F5-B75C3A73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D3A14-EED2-4789-8ACA-DEDA0F4C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4387A-E8DD-49B2-AC63-44FC9667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25BC9-CA25-45AA-9C36-6987FCD7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6DFC3-0575-4B0C-AECE-2B0B1F3E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86AD-6125-44D1-9071-0026B34666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D665-10CA-41A1-810A-883CB9BB2C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53D-C8B6-4540-AFEA-8F9DB6A996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49C9-B776-4E90-8641-45286810A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C19B-302D-437B-956B-F3AC7D26F2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7019-AC14-4C88-BB96-D0D769016F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2872-989B-4FE7-A23E-11CC74EA22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7C34-C6D8-47B3-B6A6-966218874A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9979-778C-4BD1-BB70-2E32A0154A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220D-D552-45E1-94C8-6FA6A7F361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2B23-93CB-4B60-9FF8-A7E9BCA4A9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B8F6-A84D-4568-BF57-FB399980B4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214200" y="178596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三位数除以两位数商末尾有</a:t>
            </a:r>
            <a:r>
              <a:rPr b="1" lang="en-US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除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数学四年级上册第二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"/>
          <p:cNvSpPr/>
          <p:nvPr/>
        </p:nvSpPr>
        <p:spPr>
          <a:xfrm>
            <a:off x="609480" y="10461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们帮果园摘苹果，上午摘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，下午摘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3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，每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装一箱，可以怎样装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2500200" y="314316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3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÷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2286000" y="39258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0÷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2286000" y="46404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箱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2286000" y="542592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可以装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3"/>
          <p:cNvSpPr/>
          <p:nvPr/>
        </p:nvSpPr>
        <p:spPr>
          <a:xfrm>
            <a:off x="609480" y="10461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块长方形菜地，长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，宽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。这块菜地一共收青菜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平均每平方米收青菜多少千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4"/>
          <p:cNvSpPr/>
          <p:nvPr/>
        </p:nvSpPr>
        <p:spPr>
          <a:xfrm>
            <a:off x="2500200" y="314316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8÷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×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286000" y="39258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8÷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2286000" y="46404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7"/>
          <p:cNvSpPr/>
          <p:nvPr/>
        </p:nvSpPr>
        <p:spPr>
          <a:xfrm>
            <a:off x="928800" y="542592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每平方可以收青菜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"/>
          <p:cNvSpPr/>
          <p:nvPr/>
        </p:nvSpPr>
        <p:spPr>
          <a:xfrm>
            <a:off x="681120" y="1425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3"/>
          <p:cNvSpPr/>
          <p:nvPr/>
        </p:nvSpPr>
        <p:spPr>
          <a:xfrm>
            <a:off x="890640" y="226044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60÷2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76÷4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4"/>
          <p:cNvSpPr/>
          <p:nvPr/>
        </p:nvSpPr>
        <p:spPr>
          <a:xfrm>
            <a:off x="5081760" y="226044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0÷3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3÷7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5"/>
          <p:cNvSpPr/>
          <p:nvPr/>
        </p:nvSpPr>
        <p:spPr>
          <a:xfrm>
            <a:off x="2948040" y="389088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50÷1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21÷3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2695680" y="2438280"/>
            <a:ext cx="7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2695680" y="3200400"/>
            <a:ext cx="7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9"/>
          <p:cNvSpPr/>
          <p:nvPr/>
        </p:nvSpPr>
        <p:spPr>
          <a:xfrm>
            <a:off x="688644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0"/>
          <p:cNvSpPr/>
          <p:nvPr/>
        </p:nvSpPr>
        <p:spPr>
          <a:xfrm>
            <a:off x="6886440" y="3200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1"/>
          <p:cNvSpPr/>
          <p:nvPr/>
        </p:nvSpPr>
        <p:spPr>
          <a:xfrm>
            <a:off x="4753080" y="4068720"/>
            <a:ext cx="10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2"/>
          <p:cNvSpPr/>
          <p:nvPr/>
        </p:nvSpPr>
        <p:spPr>
          <a:xfrm>
            <a:off x="4753080" y="48308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2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452520" y="280980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经历自主尝试三位数除以两位数、商两位数（商的末尾有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）的计算方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会笔算三位数除以两位数（商两位数）且商的末尾有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能在用已有知识和经验解决问题的过程中，获得成功的体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3124080" y="741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4" descr="QQ截图20140901095410.png"/>
          <p:cNvPicPr/>
          <p:nvPr/>
        </p:nvPicPr>
        <p:blipFill>
          <a:blip r:embed="rId1"/>
          <a:stretch/>
        </p:blipFill>
        <p:spPr>
          <a:xfrm>
            <a:off x="714240" y="1071720"/>
            <a:ext cx="762120" cy="8096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1500120" y="1143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光粮油公司要出口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粮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1071720" y="1820880"/>
            <a:ext cx="7143480" cy="3251160"/>
          </a:xfrm>
          <a:prstGeom prst="rect">
            <a:avLst/>
          </a:prstGeom>
          <a:ln w="0">
            <a:noFill/>
          </a:ln>
        </p:spPr>
      </p:pic>
      <p:sp>
        <p:nvSpPr>
          <p:cNvPr id="533" name="TextBox 4"/>
          <p:cNvSpPr/>
          <p:nvPr/>
        </p:nvSpPr>
        <p:spPr>
          <a:xfrm>
            <a:off x="533520" y="50734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观察情境图，说一说你发现了哪些数学信息和要解决的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图片 3" descr="QQ截图20140901095410.png"/>
          <p:cNvPicPr/>
          <p:nvPr/>
        </p:nvPicPr>
        <p:blipFill>
          <a:blip r:embed="rId1"/>
          <a:stretch/>
        </p:blipFill>
        <p:spPr>
          <a:xfrm>
            <a:off x="714240" y="1071720"/>
            <a:ext cx="762120" cy="8096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4"/>
          <p:cNvSpPr/>
          <p:nvPr/>
        </p:nvSpPr>
        <p:spPr>
          <a:xfrm>
            <a:off x="1500120" y="1143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光粮油公司要出口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粮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1071720" y="1928880"/>
            <a:ext cx="7143480" cy="3251160"/>
          </a:xfrm>
          <a:prstGeom prst="rect">
            <a:avLst/>
          </a:prstGeom>
          <a:ln w="0">
            <a:noFill/>
          </a:ln>
        </p:spPr>
      </p:pic>
      <p:sp>
        <p:nvSpPr>
          <p:cNvPr id="538" name="TextBox 6"/>
          <p:cNvSpPr/>
          <p:nvPr/>
        </p:nvSpPr>
        <p:spPr>
          <a:xfrm>
            <a:off x="2514600" y="5425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80÷2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2514600" y="1214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80÷2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4" descr="兔博士1.png"/>
          <p:cNvPicPr/>
          <p:nvPr/>
        </p:nvPicPr>
        <p:blipFill>
          <a:blip r:embed="rId1"/>
          <a:stretch/>
        </p:blipFill>
        <p:spPr>
          <a:xfrm>
            <a:off x="6929280" y="2000160"/>
            <a:ext cx="1009800" cy="1500120"/>
          </a:xfrm>
          <a:prstGeom prst="rect">
            <a:avLst/>
          </a:prstGeom>
          <a:ln w="0">
            <a:noFill/>
          </a:ln>
        </p:spPr>
      </p:pic>
      <p:sp>
        <p:nvSpPr>
          <p:cNvPr id="542" name="云形标注 5"/>
          <p:cNvSpPr/>
          <p:nvPr/>
        </p:nvSpPr>
        <p:spPr>
          <a:xfrm>
            <a:off x="3143160" y="2286000"/>
            <a:ext cx="3357720" cy="785880"/>
          </a:xfrm>
          <a:prstGeom prst="cloudCallout">
            <a:avLst>
              <a:gd name="adj1" fmla="val 63611"/>
              <a:gd name="adj2" fmla="val 26587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先估计一下，再用竖式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任意多边形 6"/>
          <p:cNvSpPr/>
          <p:nvPr/>
        </p:nvSpPr>
        <p:spPr>
          <a:xfrm>
            <a:off x="2000160" y="3809880"/>
            <a:ext cx="1995480" cy="8352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2614680" y="3817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   8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8"/>
          <p:cNvSpPr/>
          <p:nvPr/>
        </p:nvSpPr>
        <p:spPr>
          <a:xfrm>
            <a:off x="1643040" y="39164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9"/>
          <p:cNvSpPr/>
          <p:nvPr/>
        </p:nvSpPr>
        <p:spPr>
          <a:xfrm>
            <a:off x="3143160" y="3214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0"/>
          <p:cNvSpPr/>
          <p:nvPr/>
        </p:nvSpPr>
        <p:spPr>
          <a:xfrm>
            <a:off x="2614680" y="4344840"/>
            <a:ext cx="88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1"/>
          <p:cNvSpPr/>
          <p:nvPr/>
        </p:nvSpPr>
        <p:spPr>
          <a:xfrm>
            <a:off x="3062160" y="4987800"/>
            <a:ext cx="5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12"/>
          <p:cNvSpPr/>
          <p:nvPr/>
        </p:nvSpPr>
        <p:spPr>
          <a:xfrm>
            <a:off x="2489040" y="4929120"/>
            <a:ext cx="151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3562200" y="4987800"/>
            <a:ext cx="5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4"/>
          <p:cNvSpPr/>
          <p:nvPr/>
        </p:nvSpPr>
        <p:spPr>
          <a:xfrm>
            <a:off x="4071960" y="498780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剩下的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吨怎么办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5"/>
          <p:cNvSpPr/>
          <p:nvPr/>
        </p:nvSpPr>
        <p:spPr>
          <a:xfrm>
            <a:off x="4500720" y="12114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6"/>
          <p:cNvSpPr/>
          <p:nvPr/>
        </p:nvSpPr>
        <p:spPr>
          <a:xfrm>
            <a:off x="3562200" y="3214800"/>
            <a:ext cx="5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714680" y="577368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的集装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图片 1" descr="QQ截图20140901095410.png"/>
          <p:cNvPicPr/>
          <p:nvPr/>
        </p:nvPicPr>
        <p:blipFill>
          <a:blip r:embed="rId1"/>
          <a:stretch/>
        </p:blipFill>
        <p:spPr>
          <a:xfrm>
            <a:off x="571680" y="1071720"/>
            <a:ext cx="761760" cy="809640"/>
          </a:xfrm>
          <a:prstGeom prst="rect">
            <a:avLst/>
          </a:prstGeom>
          <a:ln w="0">
            <a:noFill/>
          </a:ln>
        </p:spPr>
      </p:pic>
      <p:sp>
        <p:nvSpPr>
          <p:cNvPr id="557" name="TextBox 2"/>
          <p:cNvSpPr/>
          <p:nvPr/>
        </p:nvSpPr>
        <p:spPr>
          <a:xfrm>
            <a:off x="1214280" y="1000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光粮油公司要出口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粮食。如果选用装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的集装箱，需要多少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2514600" y="2286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80÷1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4"/>
          <p:cNvSpPr/>
          <p:nvPr/>
        </p:nvSpPr>
        <p:spPr>
          <a:xfrm>
            <a:off x="2857680" y="3738600"/>
            <a:ext cx="1995480" cy="8348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3471840" y="3746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   8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6"/>
          <p:cNvSpPr/>
          <p:nvPr/>
        </p:nvSpPr>
        <p:spPr>
          <a:xfrm>
            <a:off x="2500200" y="38448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7"/>
          <p:cNvSpPr/>
          <p:nvPr/>
        </p:nvSpPr>
        <p:spPr>
          <a:xfrm>
            <a:off x="4000680" y="3143160"/>
            <a:ext cx="5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"/>
          <p:cNvSpPr/>
          <p:nvPr/>
        </p:nvSpPr>
        <p:spPr>
          <a:xfrm>
            <a:off x="3471840" y="4273560"/>
            <a:ext cx="88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10"/>
          <p:cNvSpPr/>
          <p:nvPr/>
        </p:nvSpPr>
        <p:spPr>
          <a:xfrm>
            <a:off x="3346560" y="485784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1"/>
          <p:cNvSpPr/>
          <p:nvPr/>
        </p:nvSpPr>
        <p:spPr>
          <a:xfrm>
            <a:off x="4419720" y="4916520"/>
            <a:ext cx="5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4419720" y="3143160"/>
            <a:ext cx="5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1714680" y="57024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的集装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5"/>
          <p:cNvSpPr/>
          <p:nvPr/>
        </p:nvSpPr>
        <p:spPr>
          <a:xfrm>
            <a:off x="4572000" y="221148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1" descr="抠图、试一试.png"/>
          <p:cNvPicPr/>
          <p:nvPr/>
        </p:nvPicPr>
        <p:blipFill>
          <a:blip r:embed="rId1"/>
          <a:stretch/>
        </p:blipFill>
        <p:spPr>
          <a:xfrm>
            <a:off x="457200" y="1147680"/>
            <a:ext cx="2286000" cy="1366920"/>
          </a:xfrm>
          <a:prstGeom prst="rect">
            <a:avLst/>
          </a:prstGeom>
          <a:ln w="0">
            <a:noFill/>
          </a:ln>
        </p:spPr>
      </p:pic>
      <p:sp>
        <p:nvSpPr>
          <p:cNvPr id="571" name="TextBox 2"/>
          <p:cNvSpPr/>
          <p:nvPr/>
        </p:nvSpPr>
        <p:spPr>
          <a:xfrm>
            <a:off x="1143000" y="1797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1143000" y="3276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0÷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3276720" y="3697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85÷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5486400" y="4419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58÷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图片 1" descr="抠图、练一练.png"/>
          <p:cNvPicPr/>
          <p:nvPr/>
        </p:nvPicPr>
        <p:blipFill>
          <a:blip r:embed="rId1"/>
          <a:stretch/>
        </p:blipFill>
        <p:spPr>
          <a:xfrm>
            <a:off x="533520" y="928800"/>
            <a:ext cx="2307960" cy="14475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2"/>
          <p:cNvSpPr/>
          <p:nvPr/>
        </p:nvSpPr>
        <p:spPr>
          <a:xfrm>
            <a:off x="1219320" y="16905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609480" y="2452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海东方明珠电视塔的高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6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，广州电视塔的高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2"/>
          <a:stretch/>
        </p:blipFill>
        <p:spPr>
          <a:xfrm>
            <a:off x="571680" y="3835440"/>
            <a:ext cx="4572000" cy="2103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"/>
          <p:cNvPicPr/>
          <p:nvPr/>
        </p:nvPicPr>
        <p:blipFill>
          <a:blip r:embed="rId3"/>
          <a:stretch/>
        </p:blipFill>
        <p:spPr>
          <a:xfrm>
            <a:off x="5500800" y="3009960"/>
            <a:ext cx="2438280" cy="2990880"/>
          </a:xfrm>
          <a:prstGeom prst="rect">
            <a:avLst/>
          </a:prstGeom>
          <a:ln w="0">
            <a:noFill/>
          </a:ln>
        </p:spPr>
      </p:pic>
      <p:sp>
        <p:nvSpPr>
          <p:cNvPr id="581" name="TextBox 8"/>
          <p:cNvSpPr/>
          <p:nvPr/>
        </p:nvSpPr>
        <p:spPr>
          <a:xfrm>
            <a:off x="1714680" y="6000840"/>
            <a:ext cx="52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自己提出问题，并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"/>
          <p:cNvSpPr/>
          <p:nvPr/>
        </p:nvSpPr>
        <p:spPr>
          <a:xfrm>
            <a:off x="609480" y="10461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是王华、李玲、刘小童跳绳比赛的成绩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072280" cy="2293920"/>
          </a:xfrm>
          <a:prstGeom prst="rect">
            <a:avLst/>
          </a:prstGeom>
          <a:ln w="0">
            <a:noFill/>
          </a:ln>
        </p:spPr>
      </p:pic>
      <p:sp>
        <p:nvSpPr>
          <p:cNvPr id="585" name="TextBox 6"/>
          <p:cNvSpPr/>
          <p:nvPr/>
        </p:nvSpPr>
        <p:spPr>
          <a:xfrm>
            <a:off x="2357280" y="385776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他们三个谁跳的快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7"/>
          <p:cNvSpPr/>
          <p:nvPr/>
        </p:nvSpPr>
        <p:spPr>
          <a:xfrm>
            <a:off x="1071720" y="442908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华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92÷1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8"/>
          <p:cNvSpPr/>
          <p:nvPr/>
        </p:nvSpPr>
        <p:spPr>
          <a:xfrm>
            <a:off x="1071720" y="498780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玲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20÷2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9"/>
          <p:cNvSpPr/>
          <p:nvPr/>
        </p:nvSpPr>
        <p:spPr>
          <a:xfrm>
            <a:off x="642960" y="555948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刘小童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41÷1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0"/>
          <p:cNvSpPr/>
          <p:nvPr/>
        </p:nvSpPr>
        <p:spPr>
          <a:xfrm>
            <a:off x="5715000" y="48578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他们三人王华跳得快一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02:34:05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17:43Z</dcterms:modified>
  <cp:revision>5</cp:revision>
  <dc:subject/>
  <dc:title/>
</cp:coreProperties>
</file>