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D5B4-B410-4B36-9EFF-6894F52CC98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5208-E77B-4EBF-B2AB-51116B9E4EC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D0DA-5E66-445A-A8A1-81ACFA08413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711C-4B9B-40F5-A609-C0988F63BA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63D0-1BDA-4742-BA59-0FCDC1DE5D7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DD13-0579-44E5-833D-B1AD5B1316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188F-7A4B-4D39-AFEB-7547E416E0C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3B3E-3E91-4C5E-A5F1-BA53B3DBFA9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B00E-ACAF-4019-8627-C744C9ECC3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A231-23FF-460A-97BE-11D1DD866DC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7E31-29D7-4C7F-96D0-2DAA7D470F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E10D-381E-4BA0-8C6D-554CFF845A6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CA60-AAD3-41F6-AA4A-700476C3E4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BF9-2A6A-4916-B65E-175A5133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843-EEBA-4CFF-B120-18BC0F6E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463F0-2E08-498B-BD7B-C418DB63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06DC4-55C6-4534-BDAD-5B9BFCD2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9A7A5-7065-42F4-AB61-5BC50CD8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D9D36-E7D0-45D6-A037-282B81BA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02C8D-4902-441A-9D03-D1351145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9AAD3-DDA9-4459-9929-30665B99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B6967-57F8-45B8-AE2F-24E1E211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D3A8D-363E-4337-8DF6-1A6402AB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2B533-D589-487D-A74C-03BAFEF5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161A1-F760-4E8A-8D2A-13EB339D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0AB-6732-45D9-9A6C-110627BE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D2630-EC4D-4E6C-86CA-C8823FC1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89413-9F6C-47D5-A2B0-504E082F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64DBD-A075-434B-A9AC-A759AD8B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B301A-81B6-4956-A0E7-8CB614C6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54FF4-2EF0-49C1-A3FF-5756BCA0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49233-03AE-496F-9E1B-8A9545CB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61EE1-DD36-4FC8-9A07-8169FCB6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37E06-E979-4712-8B4F-B23F6611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5EA1C-8A13-4570-8DFE-10201B25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F3B73-47D6-482C-9FA7-93240C70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89D-7A95-4C03-8BDF-4136CFB0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D386E-60EF-4A9D-B1CE-1CFC4B26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FC84C-B162-40DC-A21C-C1061595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E6863-625C-4940-AEBA-5F37AB3B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7194C-AEB0-4E1B-B27F-448AA47F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5EF9B-8F93-42EE-B5BF-246942B2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AA519-AD8A-4E90-B5D9-AFD593BF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FA2D1-6EC2-4EB4-80FA-CEBB2BC5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2762C-89CA-42E7-B5E1-D1196672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E3452-17E7-4D8E-AD8C-8E58B01D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32EC9-B23E-4A8F-87DA-CC8384A2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B2B7-9FD3-4637-A3A6-2800EDBD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53BF2-62C0-4B2A-81C1-F901D8F6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DBA6B-BBC1-495D-BFDF-9A9435B3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D03ED-6454-4959-A88D-D7FDC51D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BF108-3F78-412A-BD8B-F10EE5A8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CDE04-6DE0-470A-8EFA-B32524E9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A850E-F0B5-440D-98A5-3E20D818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A7C4D-322D-4619-AE65-75CDB8D9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3CF17-308B-422B-826C-5AA3706D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B7700-C954-4AE9-A625-BE709018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F6585-4C6A-4B11-A614-D1B621D2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903B-04D5-4508-8A15-8B549045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F3F9D-D3C5-4B15-B6A9-A6888583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D7E8D-3FAF-422E-9EC3-00D27C92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3CDD4-1FF2-49FA-9EC7-AFD3FEC0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34C71-D173-4FA0-9780-B5808591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FC233-A415-4717-A395-C5264CB3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7E8C-DE0A-46FE-828A-E7555CA4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C975-30A1-4C57-82C9-16781094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3C5A-85CB-4F39-A179-93C70C23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C1F3-2FB6-4070-BD07-3EF88D00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847A-D4B8-47F6-BDA2-BA2EE359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05B-0D15-420B-A237-8177D5B0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1AC0-02CA-4CB9-8C66-2D7E106B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F4C7-8E89-4A0B-BF09-683EA7BA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1AAD-70DA-45F4-94F5-101926A8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315D-7166-485E-AC17-BF5E30FF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B5D7-E586-469F-BE21-6C0F2A95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558AC-DD35-40DE-A5CD-0B4FE165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01B5-B171-4298-B80A-D0DF23D8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CC5CD-75D4-474E-A6CE-E3A4B3E9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622F7-2E52-42AE-BA24-511F5967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AFBC7-8FD1-40FF-9C96-606CE181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1B5-645B-4D80-AF3B-8271285E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93019-7EA5-43A6-95AE-B7E6D27D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EEA1A-E150-4EA8-9E06-336E43A8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A38A8-9C77-47B6-91ED-9BE1DB77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578A-0BF8-4040-965F-86A14B8F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31C04-3702-4462-88AF-05D170D7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9ADFA-0B7F-415D-8980-A856BC06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0941-8231-4A22-8EC7-C93C132A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81A33-74D4-484A-8665-379AE998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9386A-3793-4102-B604-ACDDFBE7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BE059-AB09-4057-BE1B-17436DD6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112-BB68-45C6-9539-4FDC2360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AD3E7-832A-41DC-AC3B-78BE32EE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70AC9-E30B-4094-B964-496CBC53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69014-65C9-4BD7-8F17-43CB7B67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C7C5B-2B7C-4D75-8D4D-DAC68E74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201AE-4343-4602-A27D-9896C691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D98E4-80F2-4385-B94A-EA77504B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517FB-BF91-46E4-9216-AA497310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D03C6-E7DF-4820-8297-34F5ADFE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84401-97BE-4E4E-8BF7-F7E93441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F217B-FCD2-4728-9A35-C706C208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04BF-7E74-4111-B34D-DA4B2888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77771-AC8F-418C-87F0-0E9A4ACE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48F25-7B42-4D65-BC7B-FC8477D8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6342F-DC0F-4A8A-828D-4EF84E97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527B1-229D-49D3-ABBE-506AB89E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60226-35B0-4AC6-8D7C-F9B9467D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0AC66-BC7A-48EC-9BEF-33B5B35F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53F6E-D8F7-4B3C-866A-E267AA55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4DD76-0D1A-4BE4-BE6F-A22D7FDE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B12D4-6396-401D-AABB-E4666A9A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4FF51-786F-4DD9-A0A7-E2211CA8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90C-758A-4422-946B-12AEEDAA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55947-1E9C-4AC8-B953-0F68701C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1040D-313D-42C2-8C50-02899772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63C30-2ED5-46B3-811A-F800C2DE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74D01-150E-4C30-9B99-D4D50367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8A708-E109-40EA-8549-2AC969CB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883ED-6F2A-4A32-ADB5-A6BABE57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56A6B-B3CF-4546-9A9A-DC90F8DA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77F01-D8CA-42DA-A8FD-3CEB7DA9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AB353-C469-4F4F-A48D-093E0146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31C48-70AA-4019-9A5E-769429A8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BFB-0704-4D0F-AD60-0077B4F2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FD02D-9A0B-458D-923A-50F79C77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E5A13-A37B-4677-B11B-24987AF1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7EDBE-E44F-4968-951F-735527CE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F83F8-6F86-400F-8A4B-86F1A890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2DC32-2126-48CF-8FCC-04FAFB8B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46254-FD0E-4566-AA43-46163813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344D5-FBAC-4836-9001-852B63F7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BF25B-30C6-44C3-92DD-71F50970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5CD9F-83A9-49DC-B12B-284E1CF3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86E5C-C73F-480D-98E6-E0EE87F7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2FE-C0CD-4356-AC4E-ABEA0454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30774-0A7C-4D0A-A1C4-51075C9D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B2E3F-83EE-4F96-954D-DFC2DB68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91E06-297E-4D1F-8207-60320C64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A1D80-42AF-41A8-88F6-83C7C6DD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75577-6A60-48F4-A012-3891FAD9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FAC74-4F24-4BA7-A892-4B384873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D8614-1227-471B-92E7-E30718F4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7DE5D-C915-438B-9E62-EB15C6F5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045D4-822A-45D9-B6DF-6EAC9B80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FBD35-5606-4E48-ADC8-F19DDD8D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BA9-9A97-4C3C-B9E2-992E732B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32019-466A-458A-9D23-12B699C4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E0A50-AC1D-4593-8E04-49C537B5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81B50-54FB-4EC9-9E62-FE6F11E1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E4233-EAD4-4963-989B-688DF0D8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0B92B-5E35-42F6-B2AB-5724FCE3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EF890-820B-42B9-83BD-25F61815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2D931-26C6-4611-A8B0-7987EC6B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CF644-75C1-4851-9891-254A73AC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9FE8C-C337-4422-96D6-855909B3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187E2-907D-4568-A36C-90832BAB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EAAC-4A3F-4E14-953F-B1846B04CF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F794-021D-45AC-B8A5-FC74A589A8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CFA3-FB04-43A6-ADCD-B6733A881C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FCF8-4219-42DA-8C49-9EB5F8BAAD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E079-351E-49EC-9A03-2416C04964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45A7-9617-4878-827E-76934FEC69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B775-D547-4624-8406-A445DE4323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AA17-3953-4E6D-A353-B9D671D79D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639B-A081-42C8-B7F0-F13D9923BB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85F8-0BBC-409E-AE47-C9E39EEF25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FB57-71A0-4C08-8028-21EBA915A8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D7FB-9633-43D7-A726-8A28C5D8D9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2071800" y="2071800"/>
            <a:ext cx="59529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解决问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            ——</a:t>
            </a: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课时</a:t>
            </a:r>
            <a:r>
              <a:rPr b="1" lang="en-US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4"/>
          <p:cNvSpPr/>
          <p:nvPr/>
        </p:nvSpPr>
        <p:spPr>
          <a:xfrm>
            <a:off x="762120" y="78588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a10"/>
                </a:solidFill>
                <a:latin typeface="华文楷体"/>
                <a:ea typeface="华文楷体"/>
              </a:rPr>
              <a:t>冀教版数学四年级上册第三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"/>
          <p:cNvSpPr/>
          <p:nvPr/>
        </p:nvSpPr>
        <p:spPr>
          <a:xfrm>
            <a:off x="857160" y="1994040"/>
            <a:ext cx="771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冬冬家在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平方米的土地上共育苗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3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棵。照这样计算，要育苗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9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棵，需要多大面积的土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3"/>
          <p:cNvSpPr/>
          <p:nvPr/>
        </p:nvSpPr>
        <p:spPr>
          <a:xfrm>
            <a:off x="857160" y="135720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奶牛每星期要吃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饲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4"/>
          <p:cNvSpPr/>
          <p:nvPr/>
        </p:nvSpPr>
        <p:spPr>
          <a:xfrm>
            <a:off x="857160" y="2286000"/>
            <a:ext cx="771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照这样计算，王大爷养了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头奶牛，每天要吃多少千克饲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857160" y="410364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王大爷刚买来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0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饲料，够这些奶牛吃几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3"/>
          <p:cNvSpPr/>
          <p:nvPr/>
        </p:nvSpPr>
        <p:spPr>
          <a:xfrm>
            <a:off x="714240" y="115236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.*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某化工厂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节约用水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0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吨。照这样计算，第三季一共可以节约用水多少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3214800" y="3714840"/>
            <a:ext cx="4924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"/>
          <p:cNvSpPr/>
          <p:nvPr/>
        </p:nvSpPr>
        <p:spPr>
          <a:xfrm>
            <a:off x="428760" y="2869560"/>
            <a:ext cx="847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结合具体事例，经历用自己的方法解决问题并与他人交流自己算法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能用自己的方法解答乘除两步计算的简单问题，体会解决问题方法和策略的多样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在与他人交流的过程中，能较好地理解他人的解题思路和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4"/>
          <p:cNvSpPr/>
          <p:nvPr/>
        </p:nvSpPr>
        <p:spPr>
          <a:xfrm>
            <a:off x="3024360" y="95580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图片 3" descr="QQ截图20140913141553.png"/>
          <p:cNvPicPr/>
          <p:nvPr/>
        </p:nvPicPr>
        <p:blipFill>
          <a:blip r:embed="rId1"/>
          <a:stretch/>
        </p:blipFill>
        <p:spPr>
          <a:xfrm>
            <a:off x="500040" y="1071720"/>
            <a:ext cx="762120" cy="799920"/>
          </a:xfrm>
          <a:prstGeom prst="rect">
            <a:avLst/>
          </a:prstGeom>
          <a:ln w="0">
            <a:noFill/>
          </a:ln>
        </p:spPr>
      </p:pic>
      <p:sp>
        <p:nvSpPr>
          <p:cNvPr id="530" name="TextBox 7"/>
          <p:cNvSpPr/>
          <p:nvPr/>
        </p:nvSpPr>
        <p:spPr>
          <a:xfrm>
            <a:off x="1214280" y="12114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电视机厂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生产电视机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7"/>
          <p:cNvSpPr/>
          <p:nvPr/>
        </p:nvSpPr>
        <p:spPr>
          <a:xfrm>
            <a:off x="357120" y="18716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照这样计算，半个月能生产电视机多少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6"/>
          <p:cNvSpPr/>
          <p:nvPr/>
        </p:nvSpPr>
        <p:spPr>
          <a:xfrm>
            <a:off x="2500200" y="385776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÷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7"/>
          <p:cNvSpPr/>
          <p:nvPr/>
        </p:nvSpPr>
        <p:spPr>
          <a:xfrm>
            <a:off x="2500200" y="478620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×1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4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8"/>
          <p:cNvSpPr/>
          <p:nvPr/>
        </p:nvSpPr>
        <p:spPr>
          <a:xfrm>
            <a:off x="1214280" y="321480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方法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图片 3" descr="QQ截图20140913141553.png"/>
          <p:cNvPicPr/>
          <p:nvPr/>
        </p:nvPicPr>
        <p:blipFill>
          <a:blip r:embed="rId1"/>
          <a:stretch/>
        </p:blipFill>
        <p:spPr>
          <a:xfrm>
            <a:off x="500040" y="1071720"/>
            <a:ext cx="762120" cy="799920"/>
          </a:xfrm>
          <a:prstGeom prst="rect">
            <a:avLst/>
          </a:prstGeom>
          <a:ln w="0">
            <a:noFill/>
          </a:ln>
        </p:spPr>
      </p:pic>
      <p:sp>
        <p:nvSpPr>
          <p:cNvPr id="537" name="TextBox 7"/>
          <p:cNvSpPr/>
          <p:nvPr/>
        </p:nvSpPr>
        <p:spPr>
          <a:xfrm>
            <a:off x="1214280" y="12114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电视机厂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生产电视机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357120" y="18716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照这样计算，半个月能生产电视机多少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2500200" y="385776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÷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7"/>
          <p:cNvSpPr/>
          <p:nvPr/>
        </p:nvSpPr>
        <p:spPr>
          <a:xfrm>
            <a:off x="2500200" y="506880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×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4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8"/>
          <p:cNvSpPr/>
          <p:nvPr/>
        </p:nvSpPr>
        <p:spPr>
          <a:xfrm>
            <a:off x="1214280" y="321480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方法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9" descr="QQ截图20140913141934.png"/>
          <p:cNvPicPr/>
          <p:nvPr/>
        </p:nvPicPr>
        <p:blipFill>
          <a:blip r:embed="rId2"/>
          <a:stretch/>
        </p:blipFill>
        <p:spPr>
          <a:xfrm>
            <a:off x="4429080" y="2928960"/>
            <a:ext cx="41623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5"/>
          <p:cNvSpPr/>
          <p:nvPr/>
        </p:nvSpPr>
        <p:spPr>
          <a:xfrm>
            <a:off x="1357200" y="178272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÷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6"/>
          <p:cNvSpPr/>
          <p:nvPr/>
        </p:nvSpPr>
        <p:spPr>
          <a:xfrm>
            <a:off x="1357200" y="271152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×1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4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7"/>
          <p:cNvSpPr/>
          <p:nvPr/>
        </p:nvSpPr>
        <p:spPr>
          <a:xfrm>
            <a:off x="642960" y="11397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方法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8"/>
          <p:cNvSpPr/>
          <p:nvPr/>
        </p:nvSpPr>
        <p:spPr>
          <a:xfrm>
            <a:off x="1357200" y="414324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÷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9"/>
          <p:cNvSpPr/>
          <p:nvPr/>
        </p:nvSpPr>
        <p:spPr>
          <a:xfrm>
            <a:off x="1357200" y="499752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×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4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0"/>
          <p:cNvSpPr/>
          <p:nvPr/>
        </p:nvSpPr>
        <p:spPr>
          <a:xfrm>
            <a:off x="714240" y="350028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方法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1"/>
          <p:cNvSpPr/>
          <p:nvPr/>
        </p:nvSpPr>
        <p:spPr>
          <a:xfrm>
            <a:off x="1428840" y="57834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列出一个算式，算一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图片 3" descr="QQ截图20140913141553.png"/>
          <p:cNvPicPr/>
          <p:nvPr/>
        </p:nvPicPr>
        <p:blipFill>
          <a:blip r:embed="rId1"/>
          <a:stretch/>
        </p:blipFill>
        <p:spPr>
          <a:xfrm>
            <a:off x="500040" y="1071720"/>
            <a:ext cx="762120" cy="7999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7"/>
          <p:cNvSpPr/>
          <p:nvPr/>
        </p:nvSpPr>
        <p:spPr>
          <a:xfrm>
            <a:off x="1214280" y="12114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电视机厂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生产电视机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"/>
          <p:cNvSpPr/>
          <p:nvPr/>
        </p:nvSpPr>
        <p:spPr>
          <a:xfrm>
            <a:off x="357120" y="187164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照上面的情况，完成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台电视机的生产任务，需要多少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6"/>
          <p:cNvSpPr/>
          <p:nvPr/>
        </p:nvSpPr>
        <p:spPr>
          <a:xfrm>
            <a:off x="785880" y="32148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8÷3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6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"/>
          <p:cNvSpPr/>
          <p:nvPr/>
        </p:nvSpPr>
        <p:spPr>
          <a:xfrm>
            <a:off x="857160" y="420228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900÷36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8"/>
          <p:cNvSpPr/>
          <p:nvPr/>
        </p:nvSpPr>
        <p:spPr>
          <a:xfrm>
            <a:off x="5143680" y="32148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0÷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÷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9"/>
          <p:cNvSpPr/>
          <p:nvPr/>
        </p:nvSpPr>
        <p:spPr>
          <a:xfrm>
            <a:off x="4786200" y="421164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0÷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0"/>
          <p:cNvSpPr/>
          <p:nvPr/>
        </p:nvSpPr>
        <p:spPr>
          <a:xfrm>
            <a:off x="4786200" y="506880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1"/>
          <p:cNvSpPr/>
          <p:nvPr/>
        </p:nvSpPr>
        <p:spPr>
          <a:xfrm>
            <a:off x="2000160" y="571500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需要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3" descr="抠图、练一练.png"/>
          <p:cNvPicPr/>
          <p:nvPr/>
        </p:nvPicPr>
        <p:blipFill>
          <a:blip r:embed="rId1"/>
          <a:stretch/>
        </p:blipFill>
        <p:spPr>
          <a:xfrm>
            <a:off x="571680" y="934920"/>
            <a:ext cx="2600280" cy="1632240"/>
          </a:xfrm>
          <a:prstGeom prst="rect">
            <a:avLst/>
          </a:prstGeom>
          <a:ln w="0">
            <a:noFill/>
          </a:ln>
        </p:spPr>
      </p:pic>
      <p:sp>
        <p:nvSpPr>
          <p:cNvPr id="563" name="TextBox 4"/>
          <p:cNvSpPr/>
          <p:nvPr/>
        </p:nvSpPr>
        <p:spPr>
          <a:xfrm>
            <a:off x="1285920" y="17924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5"/>
          <p:cNvSpPr/>
          <p:nvPr/>
        </p:nvSpPr>
        <p:spPr>
          <a:xfrm>
            <a:off x="714240" y="264312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王阿姨是一位做儿童服装的巧手，一周可以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儿童服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2"/>
          <a:stretch/>
        </p:blipFill>
        <p:spPr>
          <a:xfrm>
            <a:off x="5572080" y="2143080"/>
            <a:ext cx="3162240" cy="26002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7"/>
          <p:cNvSpPr/>
          <p:nvPr/>
        </p:nvSpPr>
        <p:spPr>
          <a:xfrm>
            <a:off x="714240" y="421632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照这样计算。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可以做多少套儿童服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"/>
          <p:cNvSpPr/>
          <p:nvPr/>
        </p:nvSpPr>
        <p:spPr>
          <a:xfrm>
            <a:off x="1928880" y="520524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5÷5×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9"/>
          <p:cNvSpPr/>
          <p:nvPr/>
        </p:nvSpPr>
        <p:spPr>
          <a:xfrm>
            <a:off x="1500120" y="56307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×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0"/>
          <p:cNvSpPr/>
          <p:nvPr/>
        </p:nvSpPr>
        <p:spPr>
          <a:xfrm>
            <a:off x="1428840" y="60721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2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1"/>
          <p:cNvSpPr/>
          <p:nvPr/>
        </p:nvSpPr>
        <p:spPr>
          <a:xfrm>
            <a:off x="3857760" y="556560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可以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2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儿童服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3"/>
          <p:cNvSpPr/>
          <p:nvPr/>
        </p:nvSpPr>
        <p:spPr>
          <a:xfrm>
            <a:off x="714240" y="142884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王阿姨是一位做儿童服装的巧手，一周可以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儿童服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5572080" y="1214280"/>
            <a:ext cx="3162240" cy="2600640"/>
          </a:xfrm>
          <a:prstGeom prst="rect">
            <a:avLst/>
          </a:prstGeom>
          <a:ln w="0">
            <a:noFill/>
          </a:ln>
        </p:spPr>
      </p:pic>
      <p:sp>
        <p:nvSpPr>
          <p:cNvPr id="574" name="TextBox 5"/>
          <p:cNvSpPr/>
          <p:nvPr/>
        </p:nvSpPr>
        <p:spPr>
          <a:xfrm>
            <a:off x="642960" y="292896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儿童服装需要多少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6"/>
          <p:cNvSpPr/>
          <p:nvPr/>
        </p:nvSpPr>
        <p:spPr>
          <a:xfrm>
            <a:off x="1928880" y="4143240"/>
            <a:ext cx="257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÷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5÷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1500120" y="47023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÷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8"/>
          <p:cNvSpPr/>
          <p:nvPr/>
        </p:nvSpPr>
        <p:spPr>
          <a:xfrm>
            <a:off x="1428840" y="527364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9"/>
          <p:cNvSpPr/>
          <p:nvPr/>
        </p:nvSpPr>
        <p:spPr>
          <a:xfrm>
            <a:off x="3714840" y="50655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儿童服装需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714240" y="11397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一辆货车运苹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4838760" cy="14576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5643720" y="2057400"/>
            <a:ext cx="3066840" cy="1085760"/>
          </a:xfrm>
          <a:prstGeom prst="rect">
            <a:avLst/>
          </a:prstGeom>
          <a:ln w="0">
            <a:noFill/>
          </a:ln>
        </p:spPr>
      </p:pic>
      <p:sp>
        <p:nvSpPr>
          <p:cNvPr id="583" name="TextBox 6"/>
          <p:cNvSpPr/>
          <p:nvPr/>
        </p:nvSpPr>
        <p:spPr>
          <a:xfrm>
            <a:off x="428760" y="34257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照这样计算，这辆货车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次运多少箱苹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428760" y="4800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要把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8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箱苹果运到库房，这辆货车要运多少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3T06:49:19Z</dcterms:created>
  <dc:creator/>
  <dc:description>http://cai.7cxk.net 中小学课件站</dc:description>
  <cp:keywords>http:/cai.7cxk.net 中小学课件站</cp:keywords>
  <dc:language>en-US</dc:language>
  <cp:lastModifiedBy/>
  <dcterms:modified xsi:type="dcterms:W3CDTF">2016-12-12T01:19:21Z</dcterms:modified>
  <cp:revision>5</cp:revision>
  <dc:subject/>
  <dc:title/>
</cp:coreProperties>
</file>