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73FD-B437-407E-908C-FD614C5749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0984-516D-4EC8-99BC-4925B2EE60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048D-671C-414C-9506-48956F3470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B129-6B5F-487B-8AF3-E168EB12B9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68B2-050F-4927-8D4F-FF75116392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9E8E-5A72-45C0-BD33-D820BD40E7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50E6-E070-44F7-9EE2-F97FF490C0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3C6-D475-4712-B584-1EE7A057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3C4-0B07-4043-B2B2-0C96000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ADD9B-6404-4A54-A231-82B53A26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2B556-D489-40F9-8A19-E73BBADC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C1B31-A5F2-4E13-9DAB-2D6584BF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87B19-1AFC-4566-8D51-ACF7D2D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91BFD-0215-487A-9406-3BAFD73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A3D08-2CBD-48F9-9050-F39DCF0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02A0B-EA16-4453-A95C-927AEB12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C886D-F7D5-4542-BE41-B71A4E9E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D1F84-82F8-4529-801C-D907D70F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C280C-CD66-4F44-8C3B-48ED2751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D60-6B0A-4B02-9FF4-92A33D67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AE71B-FA39-497C-A404-ACCC916A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3EE29-B66B-4543-9CC1-C4D1ADB0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FC67A-8DD0-48D3-900A-D8A6746D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496AF-6BE3-43D8-97D7-DB4409A6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21886-0259-4C26-97D5-D30C66B0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2517A-B620-45A8-AED1-0A840D7D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84D55-CBC4-4A07-ACB2-BCDD5EE0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A163F-25CF-4932-962A-3EDE1C15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13ED-239F-4A59-9427-C5C9FBDB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324C7-3611-4AED-92FB-CE2068CC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7D7-7AA7-4298-BE22-72A98D41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CFE72-8C32-4D9F-8F77-D9D99BA5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EB6EE-5E7A-4E2B-B179-084EB0B2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083A9-5B80-4430-B018-0A8D8331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255D7-10B7-4E6B-A03E-C5943DF8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83FA7-64D2-4619-90BC-E56255F5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F3459-C7F0-46F0-8AD6-36A46D74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5286F-80DE-4EC7-9700-84DC5500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630B4-4D9E-4D18-BFD9-538F4A1F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ADD30-8774-4251-A720-76332DBD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1E316-AE37-4A89-9301-B7B60B3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C075-05C4-4D27-910C-761AEBB0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49AAA-A074-4CA0-A893-7A92C1F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C411F-B8A5-40F7-A30F-C7ECE4C6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023A7-CB8C-4C73-B7CE-42836DE5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C6A2C-A4DC-4AA2-862C-32F0FCF3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6F2B8-D607-43D2-A866-49C3C10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FD7D5-E2C0-47F5-9FC1-C4B5F755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295CB-E0EF-450C-AC5B-77DB4342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5846E-3E8B-43F0-82FE-9EAEC6C0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31DE2-31EF-4FBF-BEB5-E1069F49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5CBFF-6179-468B-8DFB-6A72CDD4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AE38-799B-43A3-9860-1E722BBD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76EAD-1D4B-45E2-92F9-A1258CC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B8FC9-82B8-4475-82DF-46E550F0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6F734-6B8B-40C4-9303-24410E6D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99D2D-3DF5-4B12-8A93-1F45E706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95091-70D0-40BC-B0F4-7A6400E3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B7FA-60C5-493F-AC31-AAEC600B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015F-D728-45C6-8200-2D624F46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A3EC-DBCD-4FF0-93B9-80F46FD2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964D-810F-497E-9FA6-3383DAB5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C09-FD2F-442C-BCA9-E69C43C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22A-DDAF-48B4-9B9C-879FA79D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61F4-7BB6-45C3-A674-1492725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295D-A88B-47CA-BBFD-7C97A7A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AAD3-FFA1-4CA3-A7D5-B3AC065B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EA42-6FA1-4BA8-B9E1-DD33923A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B664-1B91-4FF4-93BC-A5EE626F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DA2B-57FA-4755-B53E-C1343A90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CAFD-25EC-4D80-A83F-054A6894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5AD5-7689-46B4-817D-3C9B83CE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946B-6422-4766-A02C-190ADEB0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FDBB-B854-4F84-B0E3-62DA2E25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030-2695-46A1-BAC8-B4A63C96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A8F8-807B-4A9B-B168-57416B72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A210-C075-468E-873B-97FF4FC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83B1-AD83-4E2F-9DE3-8B939174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D54A-BC5E-40EB-AB53-BEA98461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D255-1C41-49F9-B085-85D1DF05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5FEE-3996-41BA-8C82-F4C40A03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9330-1B58-4045-ACF7-6150E2AF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9E36-E24C-4A41-8F05-9AF94E50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EE0F6-0CBC-4B1F-9842-FD85425D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2A59-38DD-4133-9CD2-CD97AD06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306-7419-48D4-ADA6-FE694AE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41E7-7C13-49AA-ADC3-03DDB0F3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A0F6-A821-4624-8648-5B7F9A61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AB42C-C3F2-4D7D-AB81-10A64626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1BB2-1D48-4BAE-959E-99A6ED0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0C09-EE0D-4C4D-96F1-DFB333C3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7966-1D17-42B7-8662-FF03468D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4BAB3-1FA5-4354-8A0C-8ED50E93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F79F1-EBAC-456B-B891-6ADD9E89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3DFD-2A20-44D4-B931-AE38E7F7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64F56-A96D-4C9D-AEF1-8F7F17E4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A37-7C29-43A3-9BB4-09462632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05BE-CB78-4BBE-BE0D-1768D074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2384F-7CA7-46AE-A9CC-9424BD99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A069-1817-46C2-9752-7CF4246C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79937-ACBC-4C15-88F9-62BB44E1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3C57-8566-4F14-A909-E0E7945F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8AE1-04C5-4459-996C-E214E09E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9493B-2CCF-4CD8-B284-E57AF3A5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D7F3-41F8-4E0E-ADB0-E10D97B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E05A-D7F7-4E4C-A961-9538ABE1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18FC5-74E4-4BDD-98E4-31A7D8E4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405-81F8-44F0-BAB8-2B07ABEE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DF18-42EF-4263-813A-70390829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8BDF-11FF-4DD4-8367-AAB29415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2E23B-56CD-4D49-AD69-126CDD8D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FFA39-FA8B-4822-8A82-617DF0B0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8201-03DA-42CE-8D2B-F84853BD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6C06E-2F69-438B-AB31-FE4CC227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F456-A60E-4E5A-8A89-FF90B34F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C631B-E229-42DB-A0D7-AC9CF5C2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C4186-9D98-49A6-B407-106663CF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068A-D212-41E0-8F6E-8EB99DDF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3F7-07B3-43B4-B3F2-52BACF1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A5281-9E38-4CA8-989E-51FA4405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1DAF2-35DB-4C2A-A3A3-BA4F7550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244FD-67AD-4CA6-8F21-163A294E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0B892-6681-46E5-801A-5ADEA096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EA1D4-30E0-4229-8581-0A469821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6DEDC-0A86-4840-B249-8292D2BA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33A50-478A-4093-8EBC-EA3E4C89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1B1A0-1232-4804-A2BB-E6A77B76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DEF3-5F3C-442E-BC07-DD6F904D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1C89E-7183-4123-A2D3-5FDA357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E78-2114-4630-981C-2375F021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51418-5480-4FA3-9E0A-5929671A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B9A54-EC89-4CC5-8A79-6845193D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7E02-8B8D-45AA-9FD6-D46B1EB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06DC-667B-497F-8DC8-412BA786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7B841-C5B6-45AF-8071-1D243AA8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B9B7-C568-4031-9027-02B2B540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A0A89-B5DB-47D4-AAEC-0E3493CD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F8126-1FCA-403E-A098-AD7C337F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FFDA0-6824-4E3F-AB0E-BB3E763E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8FD41-C299-4A18-9A6D-9A2EBC4A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1B1-9255-456B-9464-D316B4A2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25532-747A-4534-ACAB-898D0DE0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B8C20-89D5-4008-A7E5-A65B0E0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8047D-44F0-48BE-A9F1-E18A1022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F8E50-15DB-432E-A8E2-AF272F3D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F2A9C-A567-4646-B5F5-C4F4E0F4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E1840-6C27-4371-B6A5-F8FF0645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ECBFC-CFD4-4464-B19C-3BCD55B6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D2586-E120-42FA-9A65-4BD57F61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88D6F-E69B-4979-AC75-B29B0CAE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1C051-E71F-4E04-B078-933DFB76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5EDA-DE6D-4836-BFDE-72B7111FBE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4F86-F448-42D0-A9C7-E2CFAEF689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C1CE-1C13-4660-8EB4-9002F79212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0C12-8B41-4A71-861C-7E602E86F4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1AD6-B28F-4B54-9250-896687BD34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7209-2CD2-4D5E-8082-1409682A4B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AC1D-F53F-4642-BF58-99593AF235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889D-7FD5-4B3F-8CFC-150BDC39F1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D10D-97FB-4D70-AD4A-AFA7C887DF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E4EC-A04A-480F-930F-8D6EB727B9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819C-ED5E-4956-9B90-505FAB41E6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493E-0F89-492D-8052-50434EA8A0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4"/>
          <p:cNvSpPr/>
          <p:nvPr/>
        </p:nvSpPr>
        <p:spPr>
          <a:xfrm>
            <a:off x="1143000" y="20574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线段、射线和直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857160" y="1201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642960" y="14875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画一画，从一点除法可以画（       ）射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1785960" y="27734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. 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. 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1785960" y="413064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. 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数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6438960" y="148752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642960" y="10717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下面图形的序号填写到合适的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图片 4" descr="QQ截图20140925165737.png"/>
          <p:cNvPicPr/>
          <p:nvPr/>
        </p:nvPicPr>
        <p:blipFill>
          <a:blip r:embed="rId1"/>
          <a:stretch/>
        </p:blipFill>
        <p:spPr>
          <a:xfrm>
            <a:off x="1143000" y="1928880"/>
            <a:ext cx="6791400" cy="3695760"/>
          </a:xfrm>
          <a:prstGeom prst="rect">
            <a:avLst/>
          </a:prstGeom>
          <a:ln w="0">
            <a:noFill/>
          </a:ln>
        </p:spPr>
      </p:pic>
      <p:sp>
        <p:nvSpPr>
          <p:cNvPr id="533" name="TextBox 5"/>
          <p:cNvSpPr/>
          <p:nvPr/>
        </p:nvSpPr>
        <p:spPr>
          <a:xfrm>
            <a:off x="1571760" y="5559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3929040" y="5559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6286680" y="5559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1428840" y="44290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9"/>
          <p:cNvSpPr/>
          <p:nvPr/>
        </p:nvSpPr>
        <p:spPr>
          <a:xfrm>
            <a:off x="2224080" y="44290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3786120" y="44290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1"/>
          <p:cNvSpPr/>
          <p:nvPr/>
        </p:nvSpPr>
        <p:spPr>
          <a:xfrm>
            <a:off x="4581360" y="44290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6072120" y="44290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6867360" y="44290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642960" y="107172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4"/>
          <p:cNvSpPr/>
          <p:nvPr/>
        </p:nvSpPr>
        <p:spPr>
          <a:xfrm>
            <a:off x="795240" y="2058840"/>
            <a:ext cx="72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下图中一共有（       ）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7"/>
          <p:cNvSpPr/>
          <p:nvPr/>
        </p:nvSpPr>
        <p:spPr>
          <a:xfrm>
            <a:off x="1714680" y="3071880"/>
            <a:ext cx="0" cy="2142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10"/>
          <p:cNvSpPr/>
          <p:nvPr/>
        </p:nvSpPr>
        <p:spPr>
          <a:xfrm>
            <a:off x="1714680" y="3286080"/>
            <a:ext cx="5072040" cy="18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11"/>
          <p:cNvSpPr/>
          <p:nvPr/>
        </p:nvSpPr>
        <p:spPr>
          <a:xfrm flipH="1">
            <a:off x="2712600" y="3071880"/>
            <a:ext cx="1800" cy="21276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12"/>
          <p:cNvSpPr/>
          <p:nvPr/>
        </p:nvSpPr>
        <p:spPr>
          <a:xfrm flipH="1">
            <a:off x="3284640" y="3071880"/>
            <a:ext cx="1440" cy="21276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13"/>
          <p:cNvSpPr/>
          <p:nvPr/>
        </p:nvSpPr>
        <p:spPr>
          <a:xfrm flipH="1">
            <a:off x="4212720" y="3071880"/>
            <a:ext cx="1800" cy="21276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14"/>
          <p:cNvSpPr/>
          <p:nvPr/>
        </p:nvSpPr>
        <p:spPr>
          <a:xfrm>
            <a:off x="5643720" y="3071880"/>
            <a:ext cx="0" cy="21276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15"/>
          <p:cNvSpPr/>
          <p:nvPr/>
        </p:nvSpPr>
        <p:spPr>
          <a:xfrm>
            <a:off x="6786720" y="3071880"/>
            <a:ext cx="0" cy="21276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6"/>
          <p:cNvSpPr/>
          <p:nvPr/>
        </p:nvSpPr>
        <p:spPr>
          <a:xfrm>
            <a:off x="4786200" y="205884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7"/>
          <p:cNvSpPr/>
          <p:nvPr/>
        </p:nvSpPr>
        <p:spPr>
          <a:xfrm>
            <a:off x="857160" y="3916440"/>
            <a:ext cx="7277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射线有（        ）个端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线有（        ）个端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线段有（        ）个端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8"/>
          <p:cNvSpPr/>
          <p:nvPr/>
        </p:nvSpPr>
        <p:spPr>
          <a:xfrm>
            <a:off x="3786120" y="407196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9"/>
          <p:cNvSpPr/>
          <p:nvPr/>
        </p:nvSpPr>
        <p:spPr>
          <a:xfrm>
            <a:off x="3786120" y="48448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0"/>
          <p:cNvSpPr/>
          <p:nvPr/>
        </p:nvSpPr>
        <p:spPr>
          <a:xfrm>
            <a:off x="3786120" y="55594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642960" y="1071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正确答案的序号填在括号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642960" y="177336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通过一点能画（         ）条直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1143000" y="255888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. 1            B. 2              C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642960" y="3071880"/>
            <a:ext cx="87868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用直尺把两点链接起来，就得到一条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1143000" y="435780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线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9"/>
          <p:cNvSpPr/>
          <p:nvPr/>
        </p:nvSpPr>
        <p:spPr>
          <a:xfrm>
            <a:off x="642960" y="500076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一条（         ）长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1"/>
          <p:cNvSpPr/>
          <p:nvPr/>
        </p:nvSpPr>
        <p:spPr>
          <a:xfrm>
            <a:off x="1143000" y="570240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线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射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4867200" y="177336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1357200" y="377352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3224160" y="500076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642960" y="1344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判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500040" y="24163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从一点除法只能画一条射线。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500040" y="350028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一条直线长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。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7439040" y="23446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8"/>
          <p:cNvSpPr/>
          <p:nvPr/>
        </p:nvSpPr>
        <p:spPr>
          <a:xfrm>
            <a:off x="5786280" y="35002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5712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直线可以向两端无限延长。（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7000920" y="164304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642960" y="300024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一条射线的长度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。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6858000" y="300024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09:18:44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22:13Z</dcterms:modified>
  <cp:revision>5</cp:revision>
  <dc:subject/>
  <dc:title/>
</cp:coreProperties>
</file>