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D409-CF14-431B-9E48-BC55E5345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DB68-4A61-4FFE-8EDF-6C80C5C241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B6F6-8304-4EA4-8BCC-07CFBFB2E8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0A27-1775-4BBC-84B3-D4512FFC53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BC3D-9482-40DB-8041-CDC2ABF9AF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B0C3-CD40-4B39-9EA1-B402024A2A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AE5B-2F2C-43BF-A54B-10F1B9F70A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0D99-8992-434C-8A0D-CA9544BB37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4994-F039-41E3-8DB5-45E038669B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D05-4EEB-4B19-9B6E-4E078A9C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FAB-1A22-4BF5-B2FD-79D6D5A7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598-E36A-4A31-9CFE-CE4776C5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EF9-88E1-4A99-A149-23DEDCB2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80410-266A-44E5-93F3-1C19FD45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12B51-F352-440F-96DE-2F0DDF77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ED8F8-1B75-43C0-8921-7F4B24B3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A9D16-6B6D-4274-B2BE-4F4FE9CC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EF916-C57A-4D6D-A754-B1EE628D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124D7-519C-4859-8C10-4E0EA535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D2407-847C-45D5-AD7C-9DBAA174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FF0-5AA3-4178-84A5-BD7D6008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ADE69-A012-430A-A853-937E694A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C23B6-8883-42E0-AFA8-D8E89C5F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D1815-1361-4DB0-B76D-75A5454F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C4AD9-0590-4253-BCE6-7C8AD197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724FB-D68D-439E-8F38-0EEBB700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D10-DAE8-4505-B020-CB2FEE8B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F0E-4C9A-4BBA-8572-A92FD6FA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6F3-320F-486B-AF74-1CCFFBF3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8CE-3B21-4F20-8CF7-40264CA2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8A7-C14F-4966-8148-3D419577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8C1-9D38-464A-8464-685C6C6B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351-53C7-4BE3-A013-7F6FD941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E8D3-BB56-4DD6-9D93-6588D9829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8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13FB-4061-456E-B5CC-03E4454F6A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4"/>
          <p:cNvSpPr/>
          <p:nvPr/>
        </p:nvSpPr>
        <p:spPr>
          <a:xfrm>
            <a:off x="785880" y="281952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   然   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285840" y="295272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结合具体情境，经历认识自然数、奇数、偶数的过程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了解自然数的特征，能用直线上的点表示自然数；知道奇数、偶数，能判断一个数是奇数还是偶数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感受数学与日常生活的密切联系，激发学习数学的兴趣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2971800" y="8380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43080" y="2071440"/>
            <a:ext cx="41436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猜谜语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5960" y="3285720"/>
            <a:ext cx="52862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5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青石板，青又青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ts val="5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青石板上挂银灯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ts val="5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知银灯有多少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ts val="5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来数去数不清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图片 3" descr="QQ截图20141106084235.png"/>
          <p:cNvPicPr/>
          <p:nvPr/>
        </p:nvPicPr>
        <p:blipFill>
          <a:blip r:embed="rId1"/>
          <a:stretch/>
        </p:blipFill>
        <p:spPr>
          <a:xfrm>
            <a:off x="428760" y="857160"/>
            <a:ext cx="221436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627280" y="2913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图片 3" descr="0.png"/>
          <p:cNvPicPr/>
          <p:nvPr/>
        </p:nvPicPr>
        <p:blipFill>
          <a:blip r:embed="rId1"/>
          <a:stretch/>
        </p:blipFill>
        <p:spPr>
          <a:xfrm>
            <a:off x="5857920" y="1143000"/>
            <a:ext cx="3048120" cy="22766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4" descr="QQ截图20141106084235.png"/>
          <p:cNvPicPr/>
          <p:nvPr/>
        </p:nvPicPr>
        <p:blipFill>
          <a:blip r:embed="rId2"/>
          <a:stretch/>
        </p:blipFill>
        <p:spPr>
          <a:xfrm>
            <a:off x="1143000" y="3786120"/>
            <a:ext cx="411480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7" name="组合 9"/>
          <p:cNvGrpSpPr/>
          <p:nvPr/>
        </p:nvGrpSpPr>
        <p:grpSpPr>
          <a:xfrm>
            <a:off x="1214280" y="928800"/>
            <a:ext cx="6715440" cy="4308480"/>
            <a:chOff x="1214280" y="928800"/>
            <a:chExt cx="6715440" cy="4308480"/>
          </a:xfrm>
        </p:grpSpPr>
        <p:pic>
          <p:nvPicPr>
            <p:cNvPr id="108" name="图片 6" descr="2.jpg"/>
            <p:cNvPicPr/>
            <p:nvPr/>
          </p:nvPicPr>
          <p:blipFill>
            <a:blip r:embed="rId1"/>
            <a:stretch/>
          </p:blipFill>
          <p:spPr>
            <a:xfrm>
              <a:off x="1214280" y="928800"/>
              <a:ext cx="6715440" cy="430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图片 7" descr="0.png"/>
            <p:cNvPicPr/>
            <p:nvPr/>
          </p:nvPicPr>
          <p:blipFill>
            <a:blip r:embed="rId2"/>
            <a:stretch/>
          </p:blipFill>
          <p:spPr>
            <a:xfrm>
              <a:off x="5572080" y="1643040"/>
              <a:ext cx="19130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图片 8" descr="QQ截图20141106084235.png"/>
            <p:cNvPicPr/>
            <p:nvPr/>
          </p:nvPicPr>
          <p:blipFill>
            <a:blip r:embed="rId3"/>
            <a:stretch/>
          </p:blipFill>
          <p:spPr>
            <a:xfrm>
              <a:off x="2142720" y="3215160"/>
              <a:ext cx="2857680" cy="102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矩形 10"/>
          <p:cNvSpPr/>
          <p:nvPr/>
        </p:nvSpPr>
        <p:spPr>
          <a:xfrm>
            <a:off x="500040" y="535788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像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……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一个一个的数，都是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自然数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图片 1" descr="？.wmf"/>
          <p:cNvPicPr/>
          <p:nvPr/>
        </p:nvPicPr>
        <p:blipFill>
          <a:blip r:embed="rId1"/>
          <a:stretch/>
        </p:blipFill>
        <p:spPr>
          <a:xfrm>
            <a:off x="642960" y="857160"/>
            <a:ext cx="2009880" cy="21812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214280" y="3214800"/>
            <a:ext cx="59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什么时候看不见星星呢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214280" y="414324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颗星星也看不见，用什么数字表示呢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214280" y="544356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一颗星星也看不见，用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表示，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也是自然数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图片 1" descr="1.png"/>
          <p:cNvPicPr/>
          <p:nvPr/>
        </p:nvPicPr>
        <p:blipFill>
          <a:blip r:embed="rId1"/>
          <a:stretch/>
        </p:blipFill>
        <p:spPr>
          <a:xfrm>
            <a:off x="500040" y="1000080"/>
            <a:ext cx="3656160" cy="18576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928800" y="342576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活中有哪些用自然数表示的事物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8080" y="12139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然数可以用直线上的点表示出来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81000" y="2968560"/>
            <a:ext cx="8991000" cy="302760"/>
            <a:chOff x="81000" y="2968560"/>
            <a:chExt cx="8991000" cy="302760"/>
          </a:xfrm>
        </p:grpSpPr>
        <p:sp>
          <p:nvSpPr>
            <p:cNvPr id="123" name="Line 6"/>
            <p:cNvSpPr/>
            <p:nvPr/>
          </p:nvSpPr>
          <p:spPr>
            <a:xfrm>
              <a:off x="81000" y="3271320"/>
              <a:ext cx="899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681480" y="2968560"/>
              <a:ext cx="0" cy="3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1279440" y="2968560"/>
              <a:ext cx="0" cy="3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1881000" y="2968560"/>
              <a:ext cx="0" cy="3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>
              <a:off x="2478600" y="2968560"/>
              <a:ext cx="0" cy="3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3080160" y="2968560"/>
              <a:ext cx="0" cy="3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>
              <a:off x="3678120" y="2968560"/>
              <a:ext cx="0" cy="3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275720" y="2968560"/>
              <a:ext cx="0" cy="3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Line 14"/>
            <p:cNvSpPr/>
            <p:nvPr/>
          </p:nvSpPr>
          <p:spPr>
            <a:xfrm>
              <a:off x="4877280" y="2968560"/>
              <a:ext cx="0" cy="3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5474880" y="2968560"/>
              <a:ext cx="0" cy="3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6075720" y="2968560"/>
              <a:ext cx="0" cy="3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6673680" y="2968560"/>
              <a:ext cx="0" cy="3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>
              <a:off x="8470800" y="2968560"/>
              <a:ext cx="0" cy="3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19"/>
            <p:cNvSpPr/>
            <p:nvPr/>
          </p:nvSpPr>
          <p:spPr>
            <a:xfrm>
              <a:off x="7872840" y="2968560"/>
              <a:ext cx="0" cy="3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20"/>
            <p:cNvSpPr/>
            <p:nvPr/>
          </p:nvSpPr>
          <p:spPr>
            <a:xfrm>
              <a:off x="7275240" y="2968560"/>
              <a:ext cx="0" cy="3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8" name="Text Box 37"/>
          <p:cNvSpPr/>
          <p:nvPr/>
        </p:nvSpPr>
        <p:spPr>
          <a:xfrm>
            <a:off x="500040" y="23572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1071720" y="23572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1714680" y="23572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37"/>
          <p:cNvSpPr/>
          <p:nvPr/>
        </p:nvSpPr>
        <p:spPr>
          <a:xfrm>
            <a:off x="2286000" y="23572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37"/>
          <p:cNvSpPr/>
          <p:nvPr/>
        </p:nvSpPr>
        <p:spPr>
          <a:xfrm>
            <a:off x="2857680" y="23572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37"/>
          <p:cNvSpPr/>
          <p:nvPr/>
        </p:nvSpPr>
        <p:spPr>
          <a:xfrm>
            <a:off x="3500280" y="2357280"/>
            <a:ext cx="5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37"/>
          <p:cNvSpPr/>
          <p:nvPr/>
        </p:nvSpPr>
        <p:spPr>
          <a:xfrm>
            <a:off x="4071960" y="23572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37"/>
          <p:cNvSpPr/>
          <p:nvPr/>
        </p:nvSpPr>
        <p:spPr>
          <a:xfrm>
            <a:off x="4714920" y="23572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7"/>
          <p:cNvSpPr/>
          <p:nvPr/>
        </p:nvSpPr>
        <p:spPr>
          <a:xfrm>
            <a:off x="5286240" y="23572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5857920" y="23572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6357960" y="2357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37"/>
          <p:cNvSpPr/>
          <p:nvPr/>
        </p:nvSpPr>
        <p:spPr>
          <a:xfrm>
            <a:off x="7000920" y="2357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37"/>
          <p:cNvSpPr/>
          <p:nvPr/>
        </p:nvSpPr>
        <p:spPr>
          <a:xfrm>
            <a:off x="7572240" y="2357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37"/>
          <p:cNvSpPr/>
          <p:nvPr/>
        </p:nvSpPr>
        <p:spPr>
          <a:xfrm>
            <a:off x="8143920" y="2357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Box 63"/>
          <p:cNvSpPr/>
          <p:nvPr/>
        </p:nvSpPr>
        <p:spPr>
          <a:xfrm>
            <a:off x="857160" y="364320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观察直线上的数，你发现了自然数的哪些特征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Box 64"/>
          <p:cNvSpPr/>
          <p:nvPr/>
        </p:nvSpPr>
        <p:spPr>
          <a:xfrm>
            <a:off x="857160" y="498780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直线右端的箭头表示什么意思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1:54:22Z</dcterms:created>
  <dc:creator/>
  <dc:description>http://cai.7cxk.net 中小学课件站</dc:description>
  <cp:keywords>http:/cai.7cxk.net 中小学课件站</cp:keywords>
  <dc:language>en-US</dc:language>
  <cp:lastModifiedBy/>
  <dcterms:modified xsi:type="dcterms:W3CDTF">2016-12-12T01:32:40Z</dcterms:modified>
  <cp:revision>5</cp:revision>
  <dc:subject/>
  <dc:title/>
</cp:coreProperties>
</file>