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B9DA-FF51-45F3-8F81-8C6DC636B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3DED-9AD8-4D84-B5E7-111F22A899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5BF5-06B6-4992-99FC-E09053BED9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D1A2-A596-455E-863B-12509402E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7303-A79C-492D-B746-FB726E135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837-E551-43AB-AA56-DE78A90487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D88E-32CB-4977-A7D2-F3D74A3081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3282-2E04-446F-8F10-764E236DBB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1D4-6B7E-49EA-ACF9-C5B92FC3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2A7-D915-407C-A4F1-9477001B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D5E-C78E-4A10-B90F-2367AC30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484-B087-44CB-B74B-36BDD747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4844C-A034-4D79-ABBB-95DD025C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F1803-B030-483E-BD04-94383964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E9BA7-C32F-462E-A606-865EF8FE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DBD01-4177-46DF-B3CE-278DC42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FE358-E25B-4513-A615-27B149D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0D4BD-F053-4575-BB5F-E840BD1F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86703-49B1-425E-B674-5211483E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3D3-B1C8-4A8E-9DF4-FE8A3F2F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F7437-15A5-400E-8C1D-9FAE466F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544F7-8E5A-4CF1-829B-5B9967B4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90268-8EB8-4EE6-8CA8-7F32D557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D9604-806F-4E95-A992-329C2DB0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3EADE-0310-4212-86AC-B316CE54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A05-7C80-4685-8B7F-92350C61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6EA-F898-453E-AAA0-8CA460B5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1AC-FA27-4169-86C3-AE4AA816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843-FE9D-4F07-9E0E-C18E342F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C16-AF03-41E7-BF8A-18A206B4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257-983C-4B35-BAB7-7DCEF78E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3FE-78F0-4E16-80FE-CF53616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37D5-3FC5-4F59-9523-670E592D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8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DEAE-C11A-4A9B-A8A0-8A37F1A7B9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4"/>
          <p:cNvSpPr/>
          <p:nvPr/>
        </p:nvSpPr>
        <p:spPr>
          <a:xfrm>
            <a:off x="785880" y="28195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   然   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285840" y="295272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情境，经历认识自然数、奇数、偶数的过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了解自然数的特征，能用直线上的点表示自然数；知道奇数、偶数，能判断一个数是奇数还是偶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感受数学与日常生活的密切联系，激发学习数学的兴趣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971800" y="8380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66680" y="1063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电影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图片 8" descr="花.tif"/>
          <p:cNvPicPr/>
          <p:nvPr/>
        </p:nvPicPr>
        <p:blipFill>
          <a:blip r:embed="rId1"/>
          <a:stretch/>
        </p:blipFill>
        <p:spPr>
          <a:xfrm>
            <a:off x="380880" y="961920"/>
            <a:ext cx="682920" cy="7365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" descr="0.png"/>
          <p:cNvPicPr/>
          <p:nvPr/>
        </p:nvPicPr>
        <p:blipFill>
          <a:blip r:embed="rId2"/>
          <a:stretch/>
        </p:blipFill>
        <p:spPr>
          <a:xfrm>
            <a:off x="1071720" y="1643040"/>
            <a:ext cx="6786360" cy="3946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4"/>
          <p:cNvSpPr/>
          <p:nvPr/>
        </p:nvSpPr>
        <p:spPr>
          <a:xfrm>
            <a:off x="571680" y="578628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从上面的情境中，说一说你发现了哪些问题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066680" y="1063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电影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图片 8" descr="花.tif"/>
          <p:cNvPicPr/>
          <p:nvPr/>
        </p:nvPicPr>
        <p:blipFill>
          <a:blip r:embed="rId1"/>
          <a:stretch/>
        </p:blipFill>
        <p:spPr>
          <a:xfrm>
            <a:off x="380880" y="961920"/>
            <a:ext cx="682920" cy="7365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" descr="0.png"/>
          <p:cNvPicPr/>
          <p:nvPr/>
        </p:nvPicPr>
        <p:blipFill>
          <a:blip r:embed="rId2"/>
          <a:stretch/>
        </p:blipFill>
        <p:spPr>
          <a:xfrm>
            <a:off x="357120" y="1643040"/>
            <a:ext cx="742968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4"/>
          <p:cNvSpPr/>
          <p:nvPr/>
        </p:nvSpPr>
        <p:spPr>
          <a:xfrm>
            <a:off x="7143840" y="22860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图中的单号、双号是什么意思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圆角矩形 7"/>
          <p:cNvSpPr/>
          <p:nvPr/>
        </p:nvSpPr>
        <p:spPr>
          <a:xfrm>
            <a:off x="2500200" y="3000240"/>
            <a:ext cx="5716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圆角矩形 9"/>
          <p:cNvSpPr/>
          <p:nvPr/>
        </p:nvSpPr>
        <p:spPr>
          <a:xfrm>
            <a:off x="5522760" y="3000240"/>
            <a:ext cx="571680" cy="428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2000160" y="607212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号和双号也可称为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单数和双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图片 3" descr="0.png"/>
          <p:cNvPicPr/>
          <p:nvPr/>
        </p:nvPicPr>
        <p:blipFill>
          <a:blip r:embed="rId1"/>
          <a:stretch/>
        </p:blipFill>
        <p:spPr>
          <a:xfrm>
            <a:off x="1143000" y="857160"/>
            <a:ext cx="6786720" cy="3946680"/>
          </a:xfrm>
          <a:prstGeom prst="rect">
            <a:avLst/>
          </a:prstGeom>
          <a:ln w="0">
            <a:noFill/>
          </a:ln>
        </p:spPr>
      </p:pic>
      <p:sp>
        <p:nvSpPr>
          <p:cNvPr id="113" name="矩形 4"/>
          <p:cNvSpPr/>
          <p:nvPr/>
        </p:nvSpPr>
        <p:spPr>
          <a:xfrm>
            <a:off x="857160" y="485784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…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的数是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单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785880" y="578628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6…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的数是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双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286000" y="528624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数叫做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奇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143080" y="61308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数叫做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偶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4929120" y="614376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是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偶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00040" y="31431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活中哪些地方用到了奇数和偶数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图片 4" descr="1.png"/>
          <p:cNvPicPr/>
          <p:nvPr/>
        </p:nvPicPr>
        <p:blipFill>
          <a:blip r:embed="rId1"/>
          <a:stretch/>
        </p:blipFill>
        <p:spPr>
          <a:xfrm>
            <a:off x="500040" y="1000080"/>
            <a:ext cx="3656160" cy="18576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6" descr="0.png"/>
          <p:cNvPicPr/>
          <p:nvPr/>
        </p:nvPicPr>
        <p:blipFill>
          <a:blip r:embed="rId2"/>
          <a:stretch/>
        </p:blipFill>
        <p:spPr>
          <a:xfrm>
            <a:off x="1643040" y="3733920"/>
            <a:ext cx="52862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581040" y="1214280"/>
            <a:ext cx="1730520" cy="1859040"/>
            <a:chOff x="581040" y="1214280"/>
            <a:chExt cx="1730520" cy="1859040"/>
          </a:xfrm>
        </p:grpSpPr>
        <p:pic>
          <p:nvPicPr>
            <p:cNvPr id="124" name="图片 3" descr="小书本.jpg"/>
            <p:cNvPicPr/>
            <p:nvPr/>
          </p:nvPicPr>
          <p:blipFill>
            <a:blip r:embed="rId1"/>
            <a:stretch/>
          </p:blipFill>
          <p:spPr>
            <a:xfrm>
              <a:off x="581040" y="1214280"/>
              <a:ext cx="17305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4"/>
            <p:cNvSpPr/>
            <p:nvPr/>
          </p:nvSpPr>
          <p:spPr>
            <a:xfrm>
              <a:off x="857160" y="1499760"/>
              <a:ext cx="121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归纳总结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" name="矩形 6"/>
          <p:cNvSpPr/>
          <p:nvPr/>
        </p:nvSpPr>
        <p:spPr>
          <a:xfrm>
            <a:off x="500040" y="314316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像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……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一个一个的数，都是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自然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500040" y="421488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物体也没有，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是自然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500040" y="5137200"/>
            <a:ext cx="80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位上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自然数都是奇数；个位上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自然数都是偶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1:54:22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34:14Z</dcterms:modified>
  <cp:revision>5</cp:revision>
  <dc:subject/>
  <dc:title/>
</cp:coreProperties>
</file>