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773F-9AFF-42FB-A255-83376F366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D857-5FE6-4617-861D-EA65001AF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043F-00C6-43EE-989B-0810F6BD78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CD73-D9FF-42B5-AE72-E98DBC398F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2712-3168-4C4D-AB18-51F4D3DEC3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5108-7CB9-46BC-B476-BC4AB2D735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3B47-44A0-42C4-80C4-CDB5630E1A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4E39-4F8A-4467-8A69-9D9F2EC40C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1428-385B-4D3B-BB4D-852057EADD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2A8C-357E-4AB6-80EB-006C3F47C7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3E9-3FFB-41C9-BAAA-54EF83EA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D8E-013A-483E-BA58-39484864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813-775B-4FCF-AEF9-ECA43BC5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6C9-634D-4371-879B-66C15D51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AE892-4B46-4185-B05C-C6248F8F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47FD4-FE2B-4710-9207-3AA5F807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22C63-B3DF-488E-8811-D8336DFC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2A46F-F81A-463B-A73F-DA63B141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41BD9-6C25-4832-B9EE-5530B249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DE763-F2DC-4093-9217-4EE6ACB4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24D07-48C8-4C2C-953D-40D8DA06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A9D-0226-4C77-B238-F0F3BFDF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03D4C-975A-4A19-A098-7EA65EA0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668A2-21A5-4F7D-AC93-EE4FB30F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A1902-9621-4DC7-ACB3-087FDE98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64BCB-DE86-4BF7-8CB0-17F684F6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981A9-3235-4B1A-BFCA-68FAE825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BCC-994B-46C7-A278-476F1024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20B-16DD-49FA-A6C3-B3878AFD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A62-7E3D-42E0-979B-A4DC63C3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99A-CCF2-4EE6-8BF5-C0D0D971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698-965C-4EA8-A0AB-801E157F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DFD-80F5-4792-A202-2474A5CF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A08-FB8C-4B55-873D-4182F179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9017-BBAA-4662-AD91-1D68039D0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8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3659-95F5-4B82-8DEE-BC57ECD7B9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4"/>
          <p:cNvSpPr/>
          <p:nvPr/>
        </p:nvSpPr>
        <p:spPr>
          <a:xfrm>
            <a:off x="785880" y="28195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   然   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285840" y="295272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情境，经历认识自然数、奇数、偶数的过程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了解自然数的特征，能用直线上的点表示自然数；知道奇数、偶数，能判断一个数是奇数还是偶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感受数学与日常生活的密切联系，激发学习数学的兴趣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971800" y="8380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85840" y="20718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出自然数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之间所有连续的奇数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2063"/>
          <p:cNvSpPr/>
          <p:nvPr/>
        </p:nvSpPr>
        <p:spPr>
          <a:xfrm>
            <a:off x="1000080" y="278604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 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 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 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 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7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9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1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3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7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9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285840" y="4143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出自然数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之间所有连续的偶数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2064"/>
          <p:cNvSpPr/>
          <p:nvPr/>
        </p:nvSpPr>
        <p:spPr>
          <a:xfrm>
            <a:off x="1000080" y="48578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 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 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 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 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2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8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图片 33" descr="3练一练.png"/>
          <p:cNvPicPr/>
          <p:nvPr/>
        </p:nvPicPr>
        <p:blipFill>
          <a:blip r:embed="rId1"/>
          <a:stretch/>
        </p:blipFill>
        <p:spPr>
          <a:xfrm>
            <a:off x="357120" y="792000"/>
            <a:ext cx="2133720" cy="1270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1000080" y="6000840"/>
            <a:ext cx="69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观察两组数，说一说你发现了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762120" y="2057400"/>
            <a:ext cx="78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观察下面用小正方形拼成的图形，不用数，你能判断每个图形用小正方形的个数是奇数还是偶数吗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图片 33" descr="3练一练.png"/>
          <p:cNvPicPr/>
          <p:nvPr/>
        </p:nvPicPr>
        <p:blipFill>
          <a:blip r:embed="rId1"/>
          <a:stretch/>
        </p:blipFill>
        <p:spPr>
          <a:xfrm>
            <a:off x="380880" y="768240"/>
            <a:ext cx="2133720" cy="128916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75"/>
          <p:cNvGrpSpPr/>
          <p:nvPr/>
        </p:nvGrpSpPr>
        <p:grpSpPr>
          <a:xfrm>
            <a:off x="1643040" y="4071960"/>
            <a:ext cx="5770440" cy="1789200"/>
            <a:chOff x="1643040" y="4071960"/>
            <a:chExt cx="5770440" cy="1789200"/>
          </a:xfrm>
        </p:grpSpPr>
        <p:grpSp>
          <p:nvGrpSpPr>
            <p:cNvPr id="109" name="组合 8"/>
            <p:cNvGrpSpPr/>
            <p:nvPr/>
          </p:nvGrpSpPr>
          <p:grpSpPr>
            <a:xfrm>
              <a:off x="1643040" y="4071960"/>
              <a:ext cx="357120" cy="710280"/>
              <a:chOff x="1643040" y="4071960"/>
              <a:chExt cx="357120" cy="710280"/>
            </a:xfrm>
          </p:grpSpPr>
          <p:sp>
            <p:nvSpPr>
              <p:cNvPr id="110" name="矩形 6"/>
              <p:cNvSpPr/>
              <p:nvPr/>
            </p:nvSpPr>
            <p:spPr>
              <a:xfrm>
                <a:off x="1643040" y="4071960"/>
                <a:ext cx="357120" cy="35676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矩形 7"/>
              <p:cNvSpPr/>
              <p:nvPr/>
            </p:nvSpPr>
            <p:spPr>
              <a:xfrm>
                <a:off x="1643040" y="4425480"/>
                <a:ext cx="357120" cy="35676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2" name="组合 13"/>
            <p:cNvGrpSpPr/>
            <p:nvPr/>
          </p:nvGrpSpPr>
          <p:grpSpPr>
            <a:xfrm>
              <a:off x="3071520" y="4071960"/>
              <a:ext cx="714240" cy="706680"/>
              <a:chOff x="3071520" y="4071960"/>
              <a:chExt cx="714240" cy="706680"/>
            </a:xfrm>
          </p:grpSpPr>
          <p:grpSp>
            <p:nvGrpSpPr>
              <p:cNvPr id="113" name="组合 9"/>
              <p:cNvGrpSpPr/>
              <p:nvPr/>
            </p:nvGrpSpPr>
            <p:grpSpPr>
              <a:xfrm>
                <a:off x="3071520" y="4071960"/>
                <a:ext cx="357120" cy="706680"/>
                <a:chOff x="3071520" y="4071960"/>
                <a:chExt cx="357120" cy="706680"/>
              </a:xfrm>
            </p:grpSpPr>
            <p:sp>
              <p:nvSpPr>
                <p:cNvPr id="114" name="矩形 10"/>
                <p:cNvSpPr/>
                <p:nvPr/>
              </p:nvSpPr>
              <p:spPr>
                <a:xfrm>
                  <a:off x="3071520" y="4071960"/>
                  <a:ext cx="357120" cy="357480"/>
                </a:xfrm>
                <a:prstGeom prst="rect">
                  <a:avLst/>
                </a:prstGeom>
                <a:solidFill>
                  <a:srgbClr val="00b0f0"/>
                </a:solidFill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5" name="矩形 11"/>
                <p:cNvSpPr/>
                <p:nvPr/>
              </p:nvSpPr>
              <p:spPr>
                <a:xfrm>
                  <a:off x="3071520" y="4421160"/>
                  <a:ext cx="357120" cy="357480"/>
                </a:xfrm>
                <a:prstGeom prst="rect">
                  <a:avLst/>
                </a:prstGeom>
                <a:solidFill>
                  <a:srgbClr val="00b0f0"/>
                </a:solidFill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6" name="矩形 12"/>
              <p:cNvSpPr/>
              <p:nvPr/>
            </p:nvSpPr>
            <p:spPr>
              <a:xfrm>
                <a:off x="3428640" y="4071960"/>
                <a:ext cx="357120" cy="35712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" name="组合 26"/>
            <p:cNvGrpSpPr/>
            <p:nvPr/>
          </p:nvGrpSpPr>
          <p:grpSpPr>
            <a:xfrm>
              <a:off x="4642920" y="4071960"/>
              <a:ext cx="706680" cy="710280"/>
              <a:chOff x="4642920" y="4071960"/>
              <a:chExt cx="706680" cy="710280"/>
            </a:xfrm>
          </p:grpSpPr>
          <p:grpSp>
            <p:nvGrpSpPr>
              <p:cNvPr id="118" name="组合 20"/>
              <p:cNvGrpSpPr/>
              <p:nvPr/>
            </p:nvGrpSpPr>
            <p:grpSpPr>
              <a:xfrm>
                <a:off x="4992480" y="4071960"/>
                <a:ext cx="357120" cy="710280"/>
                <a:chOff x="4992480" y="4071960"/>
                <a:chExt cx="357120" cy="710280"/>
              </a:xfrm>
            </p:grpSpPr>
            <p:sp>
              <p:nvSpPr>
                <p:cNvPr id="119" name="矩形 21"/>
                <p:cNvSpPr/>
                <p:nvPr/>
              </p:nvSpPr>
              <p:spPr>
                <a:xfrm>
                  <a:off x="4992480" y="4071960"/>
                  <a:ext cx="357120" cy="356760"/>
                </a:xfrm>
                <a:prstGeom prst="rect">
                  <a:avLst/>
                </a:prstGeom>
                <a:solidFill>
                  <a:srgbClr val="00b0f0"/>
                </a:solidFill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0" name="矩形 22"/>
                <p:cNvSpPr/>
                <p:nvPr/>
              </p:nvSpPr>
              <p:spPr>
                <a:xfrm>
                  <a:off x="4992480" y="4425480"/>
                  <a:ext cx="357120" cy="356760"/>
                </a:xfrm>
                <a:prstGeom prst="rect">
                  <a:avLst/>
                </a:prstGeom>
                <a:solidFill>
                  <a:srgbClr val="00b0f0"/>
                </a:solidFill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" name="组合 23"/>
              <p:cNvGrpSpPr/>
              <p:nvPr/>
            </p:nvGrpSpPr>
            <p:grpSpPr>
              <a:xfrm>
                <a:off x="4642920" y="4071960"/>
                <a:ext cx="357120" cy="710280"/>
                <a:chOff x="4642920" y="4071960"/>
                <a:chExt cx="357120" cy="710280"/>
              </a:xfrm>
            </p:grpSpPr>
            <p:sp>
              <p:nvSpPr>
                <p:cNvPr id="122" name="矩形 24"/>
                <p:cNvSpPr/>
                <p:nvPr/>
              </p:nvSpPr>
              <p:spPr>
                <a:xfrm>
                  <a:off x="4642920" y="4071960"/>
                  <a:ext cx="357120" cy="356760"/>
                </a:xfrm>
                <a:prstGeom prst="rect">
                  <a:avLst/>
                </a:prstGeom>
                <a:solidFill>
                  <a:srgbClr val="00b0f0"/>
                </a:solidFill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矩形 25"/>
                <p:cNvSpPr/>
                <p:nvPr/>
              </p:nvSpPr>
              <p:spPr>
                <a:xfrm>
                  <a:off x="4642920" y="4425480"/>
                  <a:ext cx="357120" cy="356760"/>
                </a:xfrm>
                <a:prstGeom prst="rect">
                  <a:avLst/>
                </a:prstGeom>
                <a:solidFill>
                  <a:srgbClr val="00b0f0"/>
                </a:solidFill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24" name="组合 35"/>
            <p:cNvGrpSpPr/>
            <p:nvPr/>
          </p:nvGrpSpPr>
          <p:grpSpPr>
            <a:xfrm>
              <a:off x="6357240" y="4071960"/>
              <a:ext cx="1056240" cy="710280"/>
              <a:chOff x="6357240" y="4071960"/>
              <a:chExt cx="1056240" cy="710280"/>
            </a:xfrm>
          </p:grpSpPr>
          <p:grpSp>
            <p:nvGrpSpPr>
              <p:cNvPr id="125" name="组合 27"/>
              <p:cNvGrpSpPr/>
              <p:nvPr/>
            </p:nvGrpSpPr>
            <p:grpSpPr>
              <a:xfrm>
                <a:off x="6357240" y="4071960"/>
                <a:ext cx="706680" cy="710280"/>
                <a:chOff x="6357240" y="4071960"/>
                <a:chExt cx="706680" cy="710280"/>
              </a:xfrm>
            </p:grpSpPr>
            <p:grpSp>
              <p:nvGrpSpPr>
                <p:cNvPr id="126" name="组合 20"/>
                <p:cNvGrpSpPr/>
                <p:nvPr/>
              </p:nvGrpSpPr>
              <p:grpSpPr>
                <a:xfrm>
                  <a:off x="6706800" y="4071960"/>
                  <a:ext cx="357120" cy="710280"/>
                  <a:chOff x="6706800" y="4071960"/>
                  <a:chExt cx="357120" cy="710280"/>
                </a:xfrm>
              </p:grpSpPr>
              <p:sp>
                <p:nvSpPr>
                  <p:cNvPr id="127" name="矩形 32"/>
                  <p:cNvSpPr/>
                  <p:nvPr/>
                </p:nvSpPr>
                <p:spPr>
                  <a:xfrm>
                    <a:off x="6706800" y="4071960"/>
                    <a:ext cx="357120" cy="35676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" name="矩形 33"/>
                  <p:cNvSpPr/>
                  <p:nvPr/>
                </p:nvSpPr>
                <p:spPr>
                  <a:xfrm>
                    <a:off x="6706800" y="4425480"/>
                    <a:ext cx="357120" cy="35676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9" name="组合 23"/>
                <p:cNvGrpSpPr/>
                <p:nvPr/>
              </p:nvGrpSpPr>
              <p:grpSpPr>
                <a:xfrm>
                  <a:off x="6357240" y="4071960"/>
                  <a:ext cx="357120" cy="710280"/>
                  <a:chOff x="6357240" y="4071960"/>
                  <a:chExt cx="357120" cy="710280"/>
                </a:xfrm>
              </p:grpSpPr>
              <p:sp>
                <p:nvSpPr>
                  <p:cNvPr id="130" name="矩形 30"/>
                  <p:cNvSpPr/>
                  <p:nvPr/>
                </p:nvSpPr>
                <p:spPr>
                  <a:xfrm>
                    <a:off x="6357240" y="4071960"/>
                    <a:ext cx="357120" cy="35676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1" name="矩形 31"/>
                  <p:cNvSpPr/>
                  <p:nvPr/>
                </p:nvSpPr>
                <p:spPr>
                  <a:xfrm>
                    <a:off x="6357240" y="4425480"/>
                    <a:ext cx="357120" cy="35676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32" name="矩形 34"/>
              <p:cNvSpPr/>
              <p:nvPr/>
            </p:nvSpPr>
            <p:spPr>
              <a:xfrm>
                <a:off x="7056360" y="4071960"/>
                <a:ext cx="357120" cy="35712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3" name="组合 46"/>
            <p:cNvGrpSpPr/>
            <p:nvPr/>
          </p:nvGrpSpPr>
          <p:grpSpPr>
            <a:xfrm>
              <a:off x="1857240" y="5143320"/>
              <a:ext cx="1056240" cy="710280"/>
              <a:chOff x="1857240" y="5143320"/>
              <a:chExt cx="1056240" cy="710280"/>
            </a:xfrm>
          </p:grpSpPr>
          <p:grpSp>
            <p:nvGrpSpPr>
              <p:cNvPr id="134" name="组合 36"/>
              <p:cNvGrpSpPr/>
              <p:nvPr/>
            </p:nvGrpSpPr>
            <p:grpSpPr>
              <a:xfrm>
                <a:off x="1857240" y="5143320"/>
                <a:ext cx="706680" cy="710280"/>
                <a:chOff x="1857240" y="5143320"/>
                <a:chExt cx="706680" cy="710280"/>
              </a:xfrm>
            </p:grpSpPr>
            <p:grpSp>
              <p:nvGrpSpPr>
                <p:cNvPr id="135" name="组合 20"/>
                <p:cNvGrpSpPr/>
                <p:nvPr/>
              </p:nvGrpSpPr>
              <p:grpSpPr>
                <a:xfrm>
                  <a:off x="2206800" y="5143320"/>
                  <a:ext cx="357120" cy="710280"/>
                  <a:chOff x="2206800" y="5143320"/>
                  <a:chExt cx="357120" cy="710280"/>
                </a:xfrm>
              </p:grpSpPr>
              <p:sp>
                <p:nvSpPr>
                  <p:cNvPr id="136" name="矩形 41"/>
                  <p:cNvSpPr/>
                  <p:nvPr/>
                </p:nvSpPr>
                <p:spPr>
                  <a:xfrm>
                    <a:off x="2206800" y="5143320"/>
                    <a:ext cx="357120" cy="35748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7" name="矩形 42"/>
                  <p:cNvSpPr/>
                  <p:nvPr/>
                </p:nvSpPr>
                <p:spPr>
                  <a:xfrm>
                    <a:off x="2206800" y="5496120"/>
                    <a:ext cx="357120" cy="35748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8" name="组合 23"/>
                <p:cNvGrpSpPr/>
                <p:nvPr/>
              </p:nvGrpSpPr>
              <p:grpSpPr>
                <a:xfrm>
                  <a:off x="1857240" y="5143320"/>
                  <a:ext cx="357120" cy="710280"/>
                  <a:chOff x="1857240" y="5143320"/>
                  <a:chExt cx="357120" cy="710280"/>
                </a:xfrm>
              </p:grpSpPr>
              <p:sp>
                <p:nvSpPr>
                  <p:cNvPr id="139" name="矩形 39"/>
                  <p:cNvSpPr/>
                  <p:nvPr/>
                </p:nvSpPr>
                <p:spPr>
                  <a:xfrm>
                    <a:off x="1857240" y="5143320"/>
                    <a:ext cx="357120" cy="35748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0" name="矩形 40"/>
                  <p:cNvSpPr/>
                  <p:nvPr/>
                </p:nvSpPr>
                <p:spPr>
                  <a:xfrm>
                    <a:off x="1857240" y="5496120"/>
                    <a:ext cx="357120" cy="35748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41" name="组合 43"/>
              <p:cNvGrpSpPr/>
              <p:nvPr/>
            </p:nvGrpSpPr>
            <p:grpSpPr>
              <a:xfrm>
                <a:off x="2556360" y="5143320"/>
                <a:ext cx="357120" cy="710280"/>
                <a:chOff x="2556360" y="5143320"/>
                <a:chExt cx="357120" cy="710280"/>
              </a:xfrm>
            </p:grpSpPr>
            <p:sp>
              <p:nvSpPr>
                <p:cNvPr id="142" name="矩形 44"/>
                <p:cNvSpPr/>
                <p:nvPr/>
              </p:nvSpPr>
              <p:spPr>
                <a:xfrm>
                  <a:off x="2556360" y="5143320"/>
                  <a:ext cx="357120" cy="357480"/>
                </a:xfrm>
                <a:prstGeom prst="rect">
                  <a:avLst/>
                </a:prstGeom>
                <a:solidFill>
                  <a:srgbClr val="00b0f0"/>
                </a:solidFill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矩形 45"/>
                <p:cNvSpPr/>
                <p:nvPr/>
              </p:nvSpPr>
              <p:spPr>
                <a:xfrm>
                  <a:off x="2556360" y="5496120"/>
                  <a:ext cx="357120" cy="357480"/>
                </a:xfrm>
                <a:prstGeom prst="rect">
                  <a:avLst/>
                </a:prstGeom>
                <a:solidFill>
                  <a:srgbClr val="00b0f0"/>
                </a:solidFill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4" name="组合 59"/>
            <p:cNvGrpSpPr/>
            <p:nvPr/>
          </p:nvGrpSpPr>
          <p:grpSpPr>
            <a:xfrm>
              <a:off x="3571560" y="5150880"/>
              <a:ext cx="1417320" cy="710280"/>
              <a:chOff x="3571560" y="5150880"/>
              <a:chExt cx="1417320" cy="710280"/>
            </a:xfrm>
          </p:grpSpPr>
          <p:grpSp>
            <p:nvGrpSpPr>
              <p:cNvPr id="145" name="组合 47"/>
              <p:cNvGrpSpPr/>
              <p:nvPr/>
            </p:nvGrpSpPr>
            <p:grpSpPr>
              <a:xfrm>
                <a:off x="3571560" y="5151600"/>
                <a:ext cx="1055880" cy="709560"/>
                <a:chOff x="3571560" y="5151600"/>
                <a:chExt cx="1055880" cy="709560"/>
              </a:xfrm>
            </p:grpSpPr>
            <p:grpSp>
              <p:nvGrpSpPr>
                <p:cNvPr id="146" name="组合 36"/>
                <p:cNvGrpSpPr/>
                <p:nvPr/>
              </p:nvGrpSpPr>
              <p:grpSpPr>
                <a:xfrm>
                  <a:off x="3571560" y="5151600"/>
                  <a:ext cx="706680" cy="709560"/>
                  <a:chOff x="3571560" y="5151600"/>
                  <a:chExt cx="706680" cy="709560"/>
                </a:xfrm>
              </p:grpSpPr>
              <p:grpSp>
                <p:nvGrpSpPr>
                  <p:cNvPr id="147" name="组合 20"/>
                  <p:cNvGrpSpPr/>
                  <p:nvPr/>
                </p:nvGrpSpPr>
                <p:grpSpPr>
                  <a:xfrm>
                    <a:off x="3921120" y="5151600"/>
                    <a:ext cx="357120" cy="709560"/>
                    <a:chOff x="3921120" y="5151600"/>
                    <a:chExt cx="357120" cy="709560"/>
                  </a:xfrm>
                </p:grpSpPr>
                <p:sp>
                  <p:nvSpPr>
                    <p:cNvPr id="148" name="矩形 56"/>
                    <p:cNvSpPr/>
                    <p:nvPr/>
                  </p:nvSpPr>
                  <p:spPr>
                    <a:xfrm>
                      <a:off x="3921120" y="5151600"/>
                      <a:ext cx="357120" cy="356400"/>
                    </a:xfrm>
                    <a:prstGeom prst="rect">
                      <a:avLst/>
                    </a:prstGeom>
                    <a:solidFill>
                      <a:srgbClr val="00b0f0"/>
                    </a:solidFill>
                    <a:ln w="255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9" name="矩形 57"/>
                    <p:cNvSpPr/>
                    <p:nvPr/>
                  </p:nvSpPr>
                  <p:spPr>
                    <a:xfrm>
                      <a:off x="3921120" y="5504760"/>
                      <a:ext cx="357120" cy="356400"/>
                    </a:xfrm>
                    <a:prstGeom prst="rect">
                      <a:avLst/>
                    </a:prstGeom>
                    <a:solidFill>
                      <a:srgbClr val="00b0f0"/>
                    </a:solidFill>
                    <a:ln w="255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0" name="组合 23"/>
                  <p:cNvGrpSpPr/>
                  <p:nvPr/>
                </p:nvGrpSpPr>
                <p:grpSpPr>
                  <a:xfrm>
                    <a:off x="3571560" y="5151600"/>
                    <a:ext cx="357120" cy="709560"/>
                    <a:chOff x="3571560" y="5151600"/>
                    <a:chExt cx="357120" cy="709560"/>
                  </a:xfrm>
                </p:grpSpPr>
                <p:sp>
                  <p:nvSpPr>
                    <p:cNvPr id="151" name="矩形 54"/>
                    <p:cNvSpPr/>
                    <p:nvPr/>
                  </p:nvSpPr>
                  <p:spPr>
                    <a:xfrm>
                      <a:off x="3571560" y="5151600"/>
                      <a:ext cx="357120" cy="356400"/>
                    </a:xfrm>
                    <a:prstGeom prst="rect">
                      <a:avLst/>
                    </a:prstGeom>
                    <a:solidFill>
                      <a:srgbClr val="00b0f0"/>
                    </a:solidFill>
                    <a:ln w="255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" name="矩形 55"/>
                    <p:cNvSpPr/>
                    <p:nvPr/>
                  </p:nvSpPr>
                  <p:spPr>
                    <a:xfrm>
                      <a:off x="3571560" y="5504760"/>
                      <a:ext cx="357120" cy="356400"/>
                    </a:xfrm>
                    <a:prstGeom prst="rect">
                      <a:avLst/>
                    </a:prstGeom>
                    <a:solidFill>
                      <a:srgbClr val="00b0f0"/>
                    </a:solidFill>
                    <a:ln w="255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153" name="组合 43"/>
                <p:cNvGrpSpPr/>
                <p:nvPr/>
              </p:nvGrpSpPr>
              <p:grpSpPr>
                <a:xfrm>
                  <a:off x="4270320" y="5151600"/>
                  <a:ext cx="357120" cy="709560"/>
                  <a:chOff x="4270320" y="5151600"/>
                  <a:chExt cx="357120" cy="709560"/>
                </a:xfrm>
              </p:grpSpPr>
              <p:sp>
                <p:nvSpPr>
                  <p:cNvPr id="154" name="矩形 50"/>
                  <p:cNvSpPr/>
                  <p:nvPr/>
                </p:nvSpPr>
                <p:spPr>
                  <a:xfrm>
                    <a:off x="4270320" y="5151600"/>
                    <a:ext cx="357120" cy="35640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" name="矩形 51"/>
                  <p:cNvSpPr/>
                  <p:nvPr/>
                </p:nvSpPr>
                <p:spPr>
                  <a:xfrm>
                    <a:off x="4270320" y="5504760"/>
                    <a:ext cx="357120" cy="35640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56" name="矩形 58"/>
              <p:cNvSpPr/>
              <p:nvPr/>
            </p:nvSpPr>
            <p:spPr>
              <a:xfrm>
                <a:off x="4631760" y="5150880"/>
                <a:ext cx="357120" cy="35676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7" name="组合 74"/>
            <p:cNvGrpSpPr/>
            <p:nvPr/>
          </p:nvGrpSpPr>
          <p:grpSpPr>
            <a:xfrm>
              <a:off x="5643000" y="5143320"/>
              <a:ext cx="1405800" cy="714240"/>
              <a:chOff x="5643000" y="5143320"/>
              <a:chExt cx="1405800" cy="714240"/>
            </a:xfrm>
          </p:grpSpPr>
          <p:grpSp>
            <p:nvGrpSpPr>
              <p:cNvPr id="158" name="组合 60"/>
              <p:cNvGrpSpPr/>
              <p:nvPr/>
            </p:nvGrpSpPr>
            <p:grpSpPr>
              <a:xfrm>
                <a:off x="5643000" y="5143320"/>
                <a:ext cx="1056240" cy="710640"/>
                <a:chOff x="5643000" y="5143320"/>
                <a:chExt cx="1056240" cy="710640"/>
              </a:xfrm>
            </p:grpSpPr>
            <p:grpSp>
              <p:nvGrpSpPr>
                <p:cNvPr id="159" name="组合 36"/>
                <p:cNvGrpSpPr/>
                <p:nvPr/>
              </p:nvGrpSpPr>
              <p:grpSpPr>
                <a:xfrm>
                  <a:off x="5643000" y="5143320"/>
                  <a:ext cx="706680" cy="710640"/>
                  <a:chOff x="5643000" y="5143320"/>
                  <a:chExt cx="706680" cy="710640"/>
                </a:xfrm>
              </p:grpSpPr>
              <p:grpSp>
                <p:nvGrpSpPr>
                  <p:cNvPr id="160" name="组合 20"/>
                  <p:cNvGrpSpPr/>
                  <p:nvPr/>
                </p:nvGrpSpPr>
                <p:grpSpPr>
                  <a:xfrm>
                    <a:off x="5992560" y="5143320"/>
                    <a:ext cx="357120" cy="710640"/>
                    <a:chOff x="5992560" y="5143320"/>
                    <a:chExt cx="357120" cy="710640"/>
                  </a:xfrm>
                </p:grpSpPr>
                <p:sp>
                  <p:nvSpPr>
                    <p:cNvPr id="161" name="矩形 69"/>
                    <p:cNvSpPr/>
                    <p:nvPr/>
                  </p:nvSpPr>
                  <p:spPr>
                    <a:xfrm>
                      <a:off x="5992560" y="5143320"/>
                      <a:ext cx="357120" cy="354600"/>
                    </a:xfrm>
                    <a:prstGeom prst="rect">
                      <a:avLst/>
                    </a:prstGeom>
                    <a:solidFill>
                      <a:srgbClr val="00b0f0"/>
                    </a:solidFill>
                    <a:ln w="255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2" name="矩形 70"/>
                    <p:cNvSpPr/>
                    <p:nvPr/>
                  </p:nvSpPr>
                  <p:spPr>
                    <a:xfrm>
                      <a:off x="5992560" y="5494680"/>
                      <a:ext cx="357120" cy="359280"/>
                    </a:xfrm>
                    <a:prstGeom prst="rect">
                      <a:avLst/>
                    </a:prstGeom>
                    <a:solidFill>
                      <a:srgbClr val="00b0f0"/>
                    </a:solidFill>
                    <a:ln w="255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63" name="组合 23"/>
                  <p:cNvGrpSpPr/>
                  <p:nvPr/>
                </p:nvGrpSpPr>
                <p:grpSpPr>
                  <a:xfrm>
                    <a:off x="5643000" y="5143320"/>
                    <a:ext cx="357120" cy="710640"/>
                    <a:chOff x="5643000" y="5143320"/>
                    <a:chExt cx="357120" cy="710640"/>
                  </a:xfrm>
                </p:grpSpPr>
                <p:sp>
                  <p:nvSpPr>
                    <p:cNvPr id="164" name="矩形 67"/>
                    <p:cNvSpPr/>
                    <p:nvPr/>
                  </p:nvSpPr>
                  <p:spPr>
                    <a:xfrm>
                      <a:off x="5643000" y="5143320"/>
                      <a:ext cx="357120" cy="354600"/>
                    </a:xfrm>
                    <a:prstGeom prst="rect">
                      <a:avLst/>
                    </a:prstGeom>
                    <a:solidFill>
                      <a:srgbClr val="00b0f0"/>
                    </a:solidFill>
                    <a:ln w="255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5" name="矩形 68"/>
                    <p:cNvSpPr/>
                    <p:nvPr/>
                  </p:nvSpPr>
                  <p:spPr>
                    <a:xfrm>
                      <a:off x="5643000" y="5494680"/>
                      <a:ext cx="357120" cy="359280"/>
                    </a:xfrm>
                    <a:prstGeom prst="rect">
                      <a:avLst/>
                    </a:prstGeom>
                    <a:solidFill>
                      <a:srgbClr val="00b0f0"/>
                    </a:solidFill>
                    <a:ln w="255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166" name="组合 43"/>
                <p:cNvGrpSpPr/>
                <p:nvPr/>
              </p:nvGrpSpPr>
              <p:grpSpPr>
                <a:xfrm>
                  <a:off x="6342120" y="5143320"/>
                  <a:ext cx="357120" cy="710640"/>
                  <a:chOff x="6342120" y="5143320"/>
                  <a:chExt cx="357120" cy="710640"/>
                </a:xfrm>
              </p:grpSpPr>
              <p:sp>
                <p:nvSpPr>
                  <p:cNvPr id="167" name="矩形 63"/>
                  <p:cNvSpPr/>
                  <p:nvPr/>
                </p:nvSpPr>
                <p:spPr>
                  <a:xfrm>
                    <a:off x="6342120" y="5143320"/>
                    <a:ext cx="357120" cy="35460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8" name="矩形 64"/>
                  <p:cNvSpPr/>
                  <p:nvPr/>
                </p:nvSpPr>
                <p:spPr>
                  <a:xfrm>
                    <a:off x="6342120" y="5494680"/>
                    <a:ext cx="357120" cy="359280"/>
                  </a:xfrm>
                  <a:prstGeom prst="rect">
                    <a:avLst/>
                  </a:prstGeom>
                  <a:solidFill>
                    <a:srgbClr val="00b0f0"/>
                  </a:solidFill>
                  <a:ln w="25560">
                    <a:solidFill>
                      <a:srgbClr val="007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9" name="组合 71"/>
              <p:cNvGrpSpPr/>
              <p:nvPr/>
            </p:nvGrpSpPr>
            <p:grpSpPr>
              <a:xfrm>
                <a:off x="6691680" y="5146920"/>
                <a:ext cx="357120" cy="710640"/>
                <a:chOff x="6691680" y="5146920"/>
                <a:chExt cx="357120" cy="710640"/>
              </a:xfrm>
            </p:grpSpPr>
            <p:sp>
              <p:nvSpPr>
                <p:cNvPr id="170" name="矩形 72"/>
                <p:cNvSpPr/>
                <p:nvPr/>
              </p:nvSpPr>
              <p:spPr>
                <a:xfrm>
                  <a:off x="6691680" y="5146920"/>
                  <a:ext cx="357120" cy="356760"/>
                </a:xfrm>
                <a:prstGeom prst="rect">
                  <a:avLst/>
                </a:prstGeom>
                <a:solidFill>
                  <a:srgbClr val="00b0f0"/>
                </a:solidFill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1" name="矩形 73"/>
                <p:cNvSpPr/>
                <p:nvPr/>
              </p:nvSpPr>
              <p:spPr>
                <a:xfrm>
                  <a:off x="6691680" y="5500800"/>
                  <a:ext cx="357120" cy="356760"/>
                </a:xfrm>
                <a:prstGeom prst="rect">
                  <a:avLst/>
                </a:prstGeom>
                <a:solidFill>
                  <a:srgbClr val="00b0f0"/>
                </a:solidFill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71680" y="1357200"/>
            <a:ext cx="78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括号里填上合适的自然数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图片 6" descr="0.jpg"/>
          <p:cNvPicPr/>
          <p:nvPr/>
        </p:nvPicPr>
        <p:blipFill>
          <a:blip r:embed="rId1"/>
          <a:stretch/>
        </p:blipFill>
        <p:spPr>
          <a:xfrm>
            <a:off x="357120" y="2500200"/>
            <a:ext cx="8358120" cy="19242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7"/>
          <p:cNvSpPr/>
          <p:nvPr/>
        </p:nvSpPr>
        <p:spPr>
          <a:xfrm>
            <a:off x="1978200" y="28083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2462040" y="3726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3643200" y="27590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4200480" y="37148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4759200" y="27828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5319720" y="37148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6396120" y="27860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962760" y="37148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7520040" y="27860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71680" y="1357200"/>
            <a:ext cx="78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面各数中，哪些是自然数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图片 5" descr="1.png"/>
          <p:cNvPicPr/>
          <p:nvPr/>
        </p:nvPicPr>
        <p:blipFill>
          <a:blip r:embed="rId1"/>
          <a:stretch/>
        </p:blipFill>
        <p:spPr>
          <a:xfrm>
            <a:off x="571680" y="2357280"/>
            <a:ext cx="80485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571680" y="1357200"/>
            <a:ext cx="78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下面的数填在合适的圈里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000080" y="2058840"/>
            <a:ext cx="6286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楷体"/>
              <a:buAutoNum type="arabicPlain" startAt="3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7       103       29      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8      307      520       6         89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椭圆 6"/>
          <p:cNvSpPr/>
          <p:nvPr/>
        </p:nvSpPr>
        <p:spPr>
          <a:xfrm>
            <a:off x="714240" y="3786120"/>
            <a:ext cx="3643560" cy="2000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椭圆 7"/>
          <p:cNvSpPr/>
          <p:nvPr/>
        </p:nvSpPr>
        <p:spPr>
          <a:xfrm>
            <a:off x="4643280" y="3786120"/>
            <a:ext cx="3643560" cy="2000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1978200" y="5929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奇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6000840" y="5916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偶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71680" y="135720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71680" y="20588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写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7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连续的奇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71680" y="35654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写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连续的偶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71680" y="499428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相邻两个奇数相差（         ），相邻两个偶数相差（          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1285920" y="2786040"/>
            <a:ext cx="8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7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2406600" y="2786040"/>
            <a:ext cx="8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7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3500280" y="2786040"/>
            <a:ext cx="8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4599000" y="2786040"/>
            <a:ext cx="8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5692680" y="2786040"/>
            <a:ext cx="8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1285920" y="4211640"/>
            <a:ext cx="8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2406600" y="4211640"/>
            <a:ext cx="8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3500280" y="4211640"/>
            <a:ext cx="8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4599000" y="4211640"/>
            <a:ext cx="8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1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5692680" y="4211640"/>
            <a:ext cx="8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1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5587920" y="49514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4248000" y="54291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42960" y="1000080"/>
            <a:ext cx="3467160" cy="714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/>
          <p:cNvSpPr/>
          <p:nvPr/>
        </p:nvSpPr>
        <p:spPr>
          <a:xfrm>
            <a:off x="571680" y="20588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  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，有多少个奇数，多少个偶数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571680" y="348768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  1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内所有奇数的和是多少，所有偶数的和是多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1:54:22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34:49Z</dcterms:modified>
  <cp:revision>5</cp:revision>
  <dc:subject/>
  <dc:title/>
</cp:coreProperties>
</file>