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29D9-696F-428A-900A-5EDEDA6BFE9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2D30-037E-4C19-ACC1-5452DE8A1EB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ED78-8610-43E2-A485-B5B198555B8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A575-9602-492E-8021-8BF381F8DB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D4C1-37B9-4D17-9800-021821C490A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C03D-4C4A-4A58-93F2-8D75BD6E575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92D3-A582-4CD2-A760-7056048536A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C928-C480-4239-B41A-ACC1764E3EA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76DE-B6B5-4441-9BF0-354E1504775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3D73-515B-401F-91A7-5FD399101B4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CAA8-E4BA-42EC-BA2D-82E1412D0AB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EE00-3B2D-48AC-8A5B-22A36B18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1E1-58AE-4954-AB96-E74DAF91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5DA0-8CEF-4B66-8101-428167F2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4C2-F855-42AE-8175-D1BF938F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C3EA-4D3A-4CDF-9A1D-320D7875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C4AD-9249-4446-B438-AF6075F4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334-D994-4E72-B346-66B1A98A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631-33D0-4A32-9B95-8B0E0BE9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4EE-0979-4BCA-8210-906FD2AA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2E48-061A-4F41-B2FE-E9D3732A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7835-E91B-4E40-93F0-BBE71AB2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9A16-08B6-4EEB-BEDB-D3BC2BD9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BAC4-8D6E-4DD3-812D-55571B2531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组合 6"/>
          <p:cNvGrpSpPr/>
          <p:nvPr/>
        </p:nvGrpSpPr>
        <p:grpSpPr>
          <a:xfrm>
            <a:off x="642960" y="642960"/>
            <a:ext cx="8358120" cy="5591160"/>
            <a:chOff x="642960" y="642960"/>
            <a:chExt cx="8358120" cy="5591160"/>
          </a:xfrm>
        </p:grpSpPr>
        <p:sp>
          <p:nvSpPr>
            <p:cNvPr id="52" name="圆角矩形 9"/>
            <p:cNvSpPr/>
            <p:nvPr/>
          </p:nvSpPr>
          <p:spPr>
            <a:xfrm>
              <a:off x="785520" y="661680"/>
              <a:ext cx="4572000" cy="5713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70000"/>
              </a:srgbClr>
            </a:solidFill>
            <a:ln w="25560">
              <a:solidFill>
                <a:srgbClr val="ffffff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图片 3" descr="0.png"/>
            <p:cNvPicPr/>
            <p:nvPr/>
          </p:nvPicPr>
          <p:blipFill>
            <a:blip r:embed="rId1"/>
            <a:stretch/>
          </p:blipFill>
          <p:spPr>
            <a:xfrm>
              <a:off x="2714400" y="4440240"/>
              <a:ext cx="628668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3"/>
            <p:cNvSpPr/>
            <p:nvPr/>
          </p:nvSpPr>
          <p:spPr>
            <a:xfrm>
              <a:off x="890640" y="642960"/>
              <a:ext cx="435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冀教版小学数学四年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4"/>
            <p:cNvSpPr/>
            <p:nvPr/>
          </p:nvSpPr>
          <p:spPr>
            <a:xfrm>
              <a:off x="642960" y="1590480"/>
              <a:ext cx="77868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用计算器探索规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0" y="785880"/>
            <a:ext cx="93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计算器计算下面各题，看一看积有什么规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1714680" y="1962000"/>
            <a:ext cx="22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×1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1703520" y="4038480"/>
            <a:ext cx="22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×3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4929120" y="300024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5×5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4929120" y="200016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5×4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4929120" y="398772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×6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3429000" y="195264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4"/>
          <p:cNvSpPr/>
          <p:nvPr/>
        </p:nvSpPr>
        <p:spPr>
          <a:xfrm>
            <a:off x="3417840" y="401472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1714680" y="2987640"/>
            <a:ext cx="22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×2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3429000" y="296712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6643800" y="195120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8"/>
          <p:cNvSpPr/>
          <p:nvPr/>
        </p:nvSpPr>
        <p:spPr>
          <a:xfrm>
            <a:off x="6632640" y="401328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2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9"/>
          <p:cNvSpPr/>
          <p:nvPr/>
        </p:nvSpPr>
        <p:spPr>
          <a:xfrm>
            <a:off x="6643800" y="2965320"/>
            <a:ext cx="142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214200" y="478800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积的规律：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积的十位和个位数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乘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积“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5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；积的百位和千位数是成数“十位上的数字加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再乘自己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285840" y="2602080"/>
            <a:ext cx="855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经历用计算器计算、探索并发现特殊数学运算规律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会用计算器探索并发现一些特殊运算的规律，能进行有条理的思考和归纳推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感受数学知识的奥秘，激发用计算器探索数学规律的兴趣和愿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2971800" y="7174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境创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143160" y="150012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哥德巴赫猜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57120" y="2028960"/>
            <a:ext cx="842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4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德国数学家哥德巴赫提出了这样的猜想：任何大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偶数，都可以用两个质数的和表示。如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,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,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,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人们对大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0000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偶数进行了检验，结果表明这个猜想是正确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是，这个猜想对于大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任意偶数都正确吗？这需要得到科学家的证明。二百多年来，众多的数学家为证明这一猜想付出了艰辛的劳动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6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我国数学家陈景润在这一猜想证明方面取得了举世瞩目的成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785880" y="785880"/>
            <a:ext cx="578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下图给出的顺序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7" descr="绿枫叶1.png"/>
          <p:cNvPicPr/>
          <p:nvPr/>
        </p:nvPicPr>
        <p:blipFill>
          <a:blip r:embed="rId1"/>
          <a:stretch/>
        </p:blipFill>
        <p:spPr>
          <a:xfrm>
            <a:off x="77760" y="793800"/>
            <a:ext cx="692280" cy="736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2"/>
          <a:stretch/>
        </p:blipFill>
        <p:spPr>
          <a:xfrm>
            <a:off x="1671480" y="1400040"/>
            <a:ext cx="5801040" cy="4057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571680" y="5637240"/>
            <a:ext cx="82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任取一个三位数，按上面的程序再计算一下，看结果如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500040" y="3071880"/>
            <a:ext cx="7929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选一个自然数，按“逢双数除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逢单数乘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规则重复进行运算，最终结果必定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是著名的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角谷猜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称为 “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n+1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猜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组合 5"/>
          <p:cNvGrpSpPr/>
          <p:nvPr/>
        </p:nvGrpSpPr>
        <p:grpSpPr>
          <a:xfrm>
            <a:off x="128520" y="785880"/>
            <a:ext cx="1862280" cy="2000160"/>
            <a:chOff x="128520" y="785880"/>
            <a:chExt cx="1862280" cy="2000160"/>
          </a:xfrm>
        </p:grpSpPr>
        <p:pic>
          <p:nvPicPr>
            <p:cNvPr id="73" name="图片 4" descr="抠图、图片2.png"/>
            <p:cNvPicPr/>
            <p:nvPr/>
          </p:nvPicPr>
          <p:blipFill>
            <a:blip r:embed="rId1"/>
            <a:stretch/>
          </p:blipFill>
          <p:spPr>
            <a:xfrm>
              <a:off x="128520" y="785880"/>
              <a:ext cx="18622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4"/>
            <p:cNvSpPr/>
            <p:nvPr/>
          </p:nvSpPr>
          <p:spPr>
            <a:xfrm>
              <a:off x="414360" y="1071360"/>
              <a:ext cx="1357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归纳总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37"/>
          <p:cNvSpPr/>
          <p:nvPr/>
        </p:nvSpPr>
        <p:spPr>
          <a:xfrm>
            <a:off x="71280" y="2025720"/>
            <a:ext cx="900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谷猜想”大约是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际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代被提出来的，据说这个问题首先是在美国的西拉古斯大学被研究的，因此在西方被称为“西拉古斯猜想”。在东方，这个问题以将它带到日本的日本数学家角谷静夫的名字命名，被称为“角谷猜想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40"/>
          <p:cNvGrpSpPr/>
          <p:nvPr/>
        </p:nvGrpSpPr>
        <p:grpSpPr>
          <a:xfrm>
            <a:off x="101520" y="785880"/>
            <a:ext cx="3151440" cy="643320"/>
            <a:chOff x="101520" y="785880"/>
            <a:chExt cx="3151440" cy="643320"/>
          </a:xfrm>
        </p:grpSpPr>
        <p:sp>
          <p:nvSpPr>
            <p:cNvPr id="79" name="矩形 38"/>
            <p:cNvSpPr/>
            <p:nvPr/>
          </p:nvSpPr>
          <p:spPr>
            <a:xfrm>
              <a:off x="101520" y="785880"/>
              <a:ext cx="3143520" cy="6433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39"/>
            <p:cNvSpPr/>
            <p:nvPr/>
          </p:nvSpPr>
          <p:spPr>
            <a:xfrm>
              <a:off x="296640" y="785880"/>
              <a:ext cx="295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角 谷 猜 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25" descr="2试一试.png"/>
          <p:cNvPicPr/>
          <p:nvPr/>
        </p:nvPicPr>
        <p:blipFill>
          <a:blip r:embed="rId1"/>
          <a:stretch/>
        </p:blipFill>
        <p:spPr>
          <a:xfrm>
            <a:off x="142920" y="857160"/>
            <a:ext cx="2247840" cy="133848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785880" y="2416320"/>
            <a:ext cx="742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角谷猜想中的“逢单数乘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为“逢单数乘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结果会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785880" y="84456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下图给出的顺序，用计算器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7" descr="绿枫叶1.png"/>
          <p:cNvPicPr/>
          <p:nvPr/>
        </p:nvPicPr>
        <p:blipFill>
          <a:blip r:embed="rId1"/>
          <a:stretch/>
        </p:blipFill>
        <p:spPr>
          <a:xfrm>
            <a:off x="77760" y="785880"/>
            <a:ext cx="692280" cy="752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"/>
          <p:cNvPicPr/>
          <p:nvPr/>
        </p:nvPicPr>
        <p:blipFill>
          <a:blip r:embed="rId2"/>
          <a:stretch/>
        </p:blipFill>
        <p:spPr>
          <a:xfrm>
            <a:off x="1643040" y="1500120"/>
            <a:ext cx="575784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" descr="3练一练.png"/>
          <p:cNvPicPr/>
          <p:nvPr/>
        </p:nvPicPr>
        <p:blipFill>
          <a:blip r:embed="rId1"/>
          <a:stretch/>
        </p:blipFill>
        <p:spPr>
          <a:xfrm>
            <a:off x="60480" y="800280"/>
            <a:ext cx="2260440" cy="1366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4"/>
          <p:cNvSpPr/>
          <p:nvPr/>
        </p:nvSpPr>
        <p:spPr>
          <a:xfrm>
            <a:off x="285840" y="220824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意选四个互不相同的数字，组成一个最大的四位数和一个最小的四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5" descr="QQ截图20141121112328.png"/>
          <p:cNvPicPr/>
          <p:nvPr/>
        </p:nvPicPr>
        <p:blipFill>
          <a:blip r:embed="rId2"/>
          <a:stretch/>
        </p:blipFill>
        <p:spPr>
          <a:xfrm>
            <a:off x="1714680" y="3714840"/>
            <a:ext cx="6715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1:35:09Z</dcterms:created>
  <dc:creator/>
  <dc:description>http://cai.7cxk.net 中小学课件站</dc:description>
  <cp:keywords>http:/cai.7cxk.net 中小学课件站</cp:keywords>
  <dc:language>en-US</dc:language>
  <cp:lastModifiedBy/>
  <dcterms:modified xsi:type="dcterms:W3CDTF">2016-12-12T01:35:52Z</dcterms:modified>
  <cp:revision>5</cp:revision>
  <dc:subject/>
  <dc:title/>
</cp:coreProperties>
</file>