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5576-ECDB-46D4-B21F-01A887B049F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59C5-FC59-47BC-859E-DDC733AD281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8D63-5235-45CB-8599-54B05986FC0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2A79-164F-4F67-948D-72774F3B892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4A09-2F35-4816-B438-E5E44631271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9C7F-8533-4AA5-9BBE-CE5B2A452D6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5E6F-BB2D-4600-9B24-1218D58F7E1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110C-CC30-4ED8-9ADC-15F41E693F2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32AE-DB73-4C70-B703-3B755AE6838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2C43-ECA2-41B9-8E8E-D592E3F0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1AEC-4A72-42C6-816D-77B2A3EF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89562-A7B7-4A84-AF05-A44A0F36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54124-E565-4D2C-B2DA-27D2BF98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1AB3E-A664-4814-88DC-21E5C829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697FE-3D43-48BB-B70D-218FC3DE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B12E2-2726-47E5-A683-D72FA3DA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FC63F-E91B-4179-8320-976E81DD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4F024-DC2C-4D9B-92A4-660FD35C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D148B-251E-4BF7-86F3-58D31EC5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66C1C-35D2-4976-899A-A6C7C2C6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9E706-ABEE-4DF3-8CF2-DE5FA9BC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A99-5AF6-49C6-8B4B-33C774CF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C057B-15E7-4103-97EE-870A962A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71680-058C-4D51-86E9-C7A5702F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6D152-CFB9-418C-874F-0148733D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5F786-4DE5-4661-BA4F-77FF751F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7EDDF-EC5B-4BBF-A64F-60FE766C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D0908-462F-477D-AEE6-71C4C5AE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D80CF-7D45-4B81-8EB1-9F69B637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52C03-44AD-4321-B4CA-186DB277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925D7-251E-4128-972D-ECDFD234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22E85-94BE-40D3-A0E0-12CC983C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6B3-FE16-49BB-8B40-74A7C07C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341D2-BF8D-4615-A847-041DBABC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186BA-E1AB-4D1C-B534-2B20EDD8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EB0F8-0A3C-4AF8-A547-BF5C6665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C88BE-F3D1-4A8C-A8BA-3D15F60C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0EFC1-5EBD-49F9-AFA6-C518C1A1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D78BB-B4F9-4AE3-B2F0-05E5AAF3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91294-8C88-4716-B665-56B950BE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51C48-4EC4-4E1D-99E7-9A94EC54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73CCC-FFCB-484B-ADA6-724A72CA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2D877-66A4-4DE9-BE17-355EA153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F384-15C5-44FC-B672-A271D6D6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C25D5-F3D1-4CEC-93C9-FA09744D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D865C-9C50-409D-B1DB-33D12714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E1608-9770-4855-9518-26F1B2A0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BE961-FF53-4C0E-A50B-AD16EF45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90AC9-FAB4-44B5-BC6D-A317879F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38158-7085-4466-A3C0-3B75BE6F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0A321-55DA-47B8-9ED2-07A78906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940B5-7411-4A6C-9BEC-624D075B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B1F8E-1ED2-4F23-912E-4A1BB42C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F417A-C38F-4E47-8BCD-78E3A29C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E7F6-2EB6-4E4E-8655-C3F411A2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5A64D-58B6-4758-A538-0640D4C3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4613B-D4DC-47BC-A0E6-3BE1DC90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887B1-ACF7-40AA-897B-B3081A44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269EF-E61B-4281-9B3B-C59DA153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B8E92-C93C-4EBA-8BAE-C52BFBBE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CA58-E7B2-4880-86B0-34859426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5B9F-533A-40FE-8CE3-B20BB3F8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368C-1116-4884-A1FE-21097D76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444D-0225-46E5-9E60-825F042F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317E-FC4D-4A16-9932-EE536987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81BD-6457-4746-8D40-399F9940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1F53-72F0-4C15-9DB3-F78821EE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C289-586E-4C9F-94E5-C4A01890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00F8-1CA8-4443-BF6A-91D72C07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1D02-7451-4ED0-97EC-6A134465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E298-551E-480A-B04D-BBF8028B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EF756-5306-4E39-9A51-37C2735F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C2DB1-7981-48B0-A720-D8B41E45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59776-2A67-441C-9B2F-15747245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03105-1897-4881-9680-204EF629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DBC9D-465A-4BDE-81F5-3100552E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3DA6-73F2-4C4C-B7C3-69CACA24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4D8A0-B7D2-46CC-B64E-2A1BA4E8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71A65-CEC0-456D-8A19-CE6CA877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E4788-EF86-4C7D-B6CC-7CCDA9FF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EC10A-2C35-4086-9286-FEE2CD63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A24E8-1434-4B5F-B758-A9D2240D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E2783-DAD5-48F6-9F3B-DC27FBFB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821D-247F-4574-BE5B-60B345BB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637F5-1476-437D-8093-228F86AD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5A843-25AA-4612-BFA2-AB3A45BC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3C18D-8843-495F-8754-EC017FB6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53E-FF8B-4605-BCB4-FEF31EB4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14A0E-77FF-4979-946F-274EAD93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35D18-783A-4788-BF2A-94BB05A7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C75DB-119F-4849-8242-1DD42491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34F58-A5B0-4EEB-B8D3-1FC65A42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5A3AE-680A-4C19-823C-BAEECCB8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D907E-B121-4ABD-8617-64613CA4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D008C-5CC3-4DCA-990E-A642FE43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1CE44-2333-453B-A866-8ABFF3A0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3C8C0-1625-45CE-B479-91DA9C73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7075C-6452-4C1F-846E-299533DB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6172-E346-4EC3-97FE-B7C2791C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021F7-94D6-4C97-99C7-24AA7CEA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F4260-4B15-427B-9E33-83E8C9E1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1FA02-37B8-42F2-8434-087340A2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0FCFE-2B86-45FD-A637-09CB45B1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1C000-D62F-4369-AC94-F585AEA8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4A5CB-EE26-4323-AF4F-E774135F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93640-2A09-4582-BF1A-508917C7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CDF03-6E62-40CB-B6E2-43D3DB59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F10C8-2D79-43D0-9795-65B4BD65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150E3-F753-42B4-8C75-6D97BB71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CCE-BDC5-4CC1-8394-BC968272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E4B0C-3D19-4727-96A4-C96C6D80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BBB48-B87D-47F6-9407-F75A9E89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E991E-2CEB-4908-AC82-A2DFC57A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D277B-7E4C-4449-BED4-F8757A5E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3355E-A2A5-4F48-8207-1E1B77B8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F57F1-0E8C-43F1-A815-F66124E5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0AE94-9660-47B0-821A-FFCBE4F0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FD75A-116E-448A-A817-B7B1BF9D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E3DEF-3FCC-4AA9-A3E8-CF849D1A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DE107-EE18-4585-93C3-0D95387F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71F-51CF-48D9-BFDA-F63BC102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3A7BB-25FA-4533-8FCF-91537026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3EFC9-06D5-4D45-89FB-E9DB9DD8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F235B-A7B2-4BF6-AE78-73E507BD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86D1F-6D2B-4C91-9043-E60B5C9D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CE8F6-5C7F-463D-B262-3305843D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5DC84-F107-4ECF-9E2B-1ED32DEA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E1333-1C89-4C84-AC77-81288D96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8D5F6-CBB8-41ED-9376-F65C3E4E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0DC7B-4E56-4629-8BEA-596CC908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97D50-4BF8-4600-BE35-74A072D2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C1FF-CEB5-4993-A6F8-59362C0B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A5F96-FBCF-4750-A5FF-E5FA5AD6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F6854-BA91-40EA-A2DD-DC81529A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ED5D3-2A0F-4D1E-8CDB-34321E46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7682A-3AA2-4EE7-8D53-442D8030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39DAE-6430-4FF4-9D5A-ECF9481B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7EAC4-4C8A-4B2C-B178-F62ABDEA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80E7E-0A6A-45B4-820D-D9BC3AF2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EF8C3-285E-4A6D-8EFC-B9108A35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8CBEF-B3A1-4958-BD10-9E0FDBCF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392D4-0D8D-49C4-AACF-0C635D59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F64-85AE-40B3-9F67-CC7B4412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E64F4-8404-496B-9AB0-77319CED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D0D7C-3C30-4DA8-8EAD-0B32B227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1BFC2-5953-4090-8972-0F52758C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72E2F-1340-4893-BF72-27FF5EFA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FEBC6-7D3F-4D11-ABDF-06807141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15DF8-ADDF-4FEC-ACC9-3B20D42E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542C4-E0C3-40DA-9954-BBCF8946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67B8F-84CD-438F-AB60-A968EBC3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FBF31-201D-4151-AF51-2700FCE4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EFF01-5816-46B1-870F-7D22A1F4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4F06-A1D7-4CE5-827B-E3559B2CFC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D97E-4254-4BFD-8A3D-1D126AA0DE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2AEC-BB70-4092-B6D9-D89AFC1734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D6FF-683D-4081-8923-4D2775DD28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BAE6-86C1-448B-8769-EBA2F406D2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F4FB-73C2-40BF-BF03-432DA2408F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6CA6-C11E-4156-B184-CF23BB8E25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26C6-FA56-4A16-ACF8-B236FC25F3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2F40-44AF-4D06-8901-3107293ED6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899B-68D9-4133-BAE2-3F8E98F372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E0E5-6997-46FB-864E-5F579D39CB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BF60-BDAD-4F5C-B6C0-9CB41B1082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3"/>
          <p:cNvSpPr/>
          <p:nvPr/>
        </p:nvSpPr>
        <p:spPr>
          <a:xfrm>
            <a:off x="890640" y="119556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冀教版小学数学四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4"/>
          <p:cNvSpPr/>
          <p:nvPr/>
        </p:nvSpPr>
        <p:spPr>
          <a:xfrm>
            <a:off x="285840" y="248292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与技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285840" y="1035000"/>
            <a:ext cx="8715240" cy="3036960"/>
          </a:xfrm>
          <a:prstGeom prst="rect">
            <a:avLst/>
          </a:prstGeom>
          <a:ln w="0">
            <a:noFill/>
          </a:ln>
        </p:spPr>
      </p:pic>
      <p:sp>
        <p:nvSpPr>
          <p:cNvPr id="528" name="TextBox 5"/>
          <p:cNvSpPr/>
          <p:nvPr/>
        </p:nvSpPr>
        <p:spPr>
          <a:xfrm>
            <a:off x="1500120" y="457200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人一天可以节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粮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120600" y="1071720"/>
            <a:ext cx="8929800" cy="2657160"/>
          </a:xfrm>
          <a:prstGeom prst="rect">
            <a:avLst/>
          </a:prstGeom>
          <a:ln w="0">
            <a:noFill/>
          </a:ln>
        </p:spPr>
      </p:pic>
      <p:sp>
        <p:nvSpPr>
          <p:cNvPr id="531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5"/>
          <p:cNvSpPr/>
          <p:nvPr/>
        </p:nvSpPr>
        <p:spPr>
          <a:xfrm>
            <a:off x="1857240" y="3929040"/>
            <a:ext cx="60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÷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6"/>
          <p:cNvSpPr/>
          <p:nvPr/>
        </p:nvSpPr>
        <p:spPr>
          <a:xfrm>
            <a:off x="1928880" y="477360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可以装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42920" y="1071720"/>
            <a:ext cx="8858160" cy="903240"/>
          </a:xfrm>
          <a:prstGeom prst="rect">
            <a:avLst/>
          </a:prstGeom>
          <a:ln w="0">
            <a:noFill/>
          </a:ln>
        </p:spPr>
      </p:pic>
      <p:sp>
        <p:nvSpPr>
          <p:cNvPr id="537" name="TextBox 5"/>
          <p:cNvSpPr/>
          <p:nvPr/>
        </p:nvSpPr>
        <p:spPr>
          <a:xfrm>
            <a:off x="2143080" y="228600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0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6"/>
          <p:cNvSpPr/>
          <p:nvPr/>
        </p:nvSpPr>
        <p:spPr>
          <a:xfrm>
            <a:off x="2143080" y="307188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000÷2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7"/>
          <p:cNvSpPr/>
          <p:nvPr/>
        </p:nvSpPr>
        <p:spPr>
          <a:xfrm>
            <a:off x="928800" y="392904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这些粮食大约可供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吃一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71280" y="1071720"/>
            <a:ext cx="8929800" cy="1466640"/>
          </a:xfrm>
          <a:prstGeom prst="rect">
            <a:avLst/>
          </a:prstGeom>
          <a:ln w="0">
            <a:noFill/>
          </a:ln>
        </p:spPr>
      </p:pic>
      <p:sp>
        <p:nvSpPr>
          <p:cNvPr id="543" name="TextBox 5"/>
          <p:cNvSpPr/>
          <p:nvPr/>
        </p:nvSpPr>
        <p:spPr>
          <a:xfrm>
            <a:off x="1643040" y="314316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因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1643040" y="398772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因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8"/>
          <p:cNvSpPr/>
          <p:nvPr/>
        </p:nvSpPr>
        <p:spPr>
          <a:xfrm>
            <a:off x="1643040" y="485784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因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8858160" cy="992160"/>
          </a:xfrm>
          <a:prstGeom prst="rect">
            <a:avLst/>
          </a:prstGeom>
          <a:ln w="0">
            <a:noFill/>
          </a:ln>
        </p:spPr>
      </p:pic>
      <p:sp>
        <p:nvSpPr>
          <p:cNvPr id="549" name="TextBox 6"/>
          <p:cNvSpPr/>
          <p:nvPr/>
        </p:nvSpPr>
        <p:spPr>
          <a:xfrm>
            <a:off x="642960" y="264312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数有：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9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7"/>
          <p:cNvSpPr/>
          <p:nvPr/>
        </p:nvSpPr>
        <p:spPr>
          <a:xfrm>
            <a:off x="642960" y="357192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数有：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7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8610840" cy="5716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"/>
          <p:cNvPicPr/>
          <p:nvPr/>
        </p:nvPicPr>
        <p:blipFill>
          <a:blip r:embed="rId2"/>
          <a:stretch/>
        </p:blipFill>
        <p:spPr>
          <a:xfrm>
            <a:off x="857160" y="2786040"/>
            <a:ext cx="4695840" cy="5238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" descr=""/>
          <p:cNvPicPr/>
          <p:nvPr/>
        </p:nvPicPr>
        <p:blipFill>
          <a:blip r:embed="rId3"/>
          <a:stretch/>
        </p:blipFill>
        <p:spPr>
          <a:xfrm>
            <a:off x="928800" y="4324320"/>
            <a:ext cx="5581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组合 15"/>
          <p:cNvGrpSpPr/>
          <p:nvPr/>
        </p:nvGrpSpPr>
        <p:grpSpPr>
          <a:xfrm>
            <a:off x="214200" y="1143000"/>
            <a:ext cx="8715600" cy="4071960"/>
            <a:chOff x="214200" y="1143000"/>
            <a:chExt cx="8715600" cy="4071960"/>
          </a:xfrm>
        </p:grpSpPr>
        <p:pic>
          <p:nvPicPr>
            <p:cNvPr id="559" name="Picture 2" descr=""/>
            <p:cNvPicPr/>
            <p:nvPr/>
          </p:nvPicPr>
          <p:blipFill>
            <a:blip r:embed="rId1"/>
            <a:stretch/>
          </p:blipFill>
          <p:spPr>
            <a:xfrm>
              <a:off x="214200" y="1143000"/>
              <a:ext cx="715356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3" descr=""/>
            <p:cNvPicPr/>
            <p:nvPr/>
          </p:nvPicPr>
          <p:blipFill>
            <a:blip r:embed="rId2"/>
            <a:stretch/>
          </p:blipFill>
          <p:spPr>
            <a:xfrm>
              <a:off x="714240" y="2171520"/>
              <a:ext cx="821088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4" descr=""/>
            <p:cNvPicPr/>
            <p:nvPr/>
          </p:nvPicPr>
          <p:blipFill>
            <a:blip r:embed="rId3"/>
            <a:stretch/>
          </p:blipFill>
          <p:spPr>
            <a:xfrm>
              <a:off x="747360" y="3390840"/>
              <a:ext cx="818244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5" descr=""/>
            <p:cNvPicPr/>
            <p:nvPr/>
          </p:nvPicPr>
          <p:blipFill>
            <a:blip r:embed="rId4"/>
            <a:stretch/>
          </p:blipFill>
          <p:spPr>
            <a:xfrm>
              <a:off x="665280" y="4672080"/>
              <a:ext cx="8220240" cy="54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3" name="TextBox 8"/>
          <p:cNvSpPr/>
          <p:nvPr/>
        </p:nvSpPr>
        <p:spPr>
          <a:xfrm>
            <a:off x="5072040" y="205884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9"/>
          <p:cNvSpPr/>
          <p:nvPr/>
        </p:nvSpPr>
        <p:spPr>
          <a:xfrm>
            <a:off x="6286680" y="205884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0"/>
          <p:cNvSpPr/>
          <p:nvPr/>
        </p:nvSpPr>
        <p:spPr>
          <a:xfrm>
            <a:off x="5072040" y="32734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1"/>
          <p:cNvSpPr/>
          <p:nvPr/>
        </p:nvSpPr>
        <p:spPr>
          <a:xfrm>
            <a:off x="6286680" y="327348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2"/>
          <p:cNvSpPr/>
          <p:nvPr/>
        </p:nvSpPr>
        <p:spPr>
          <a:xfrm>
            <a:off x="5072040" y="45007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3"/>
          <p:cNvSpPr/>
          <p:nvPr/>
        </p:nvSpPr>
        <p:spPr>
          <a:xfrm>
            <a:off x="5857920" y="45007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4"/>
          <p:cNvSpPr/>
          <p:nvPr/>
        </p:nvSpPr>
        <p:spPr>
          <a:xfrm>
            <a:off x="6643800" y="450072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6"/>
          <p:cNvSpPr/>
          <p:nvPr/>
        </p:nvSpPr>
        <p:spPr>
          <a:xfrm>
            <a:off x="7429680" y="450072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7"/>
          <p:cNvSpPr/>
          <p:nvPr/>
        </p:nvSpPr>
        <p:spPr>
          <a:xfrm>
            <a:off x="5072040" y="51055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8"/>
          <p:cNvSpPr/>
          <p:nvPr/>
        </p:nvSpPr>
        <p:spPr>
          <a:xfrm>
            <a:off x="5857920" y="509436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03:17:56Z</dcterms:created>
  <dc:creator/>
  <dc:description>http://cai.7cxk.net 中小学课件站</dc:description>
  <cp:keywords>http:/cai.7cxk.net 中小学课件站</cp:keywords>
  <dc:language>en-US</dc:language>
  <cp:lastModifiedBy/>
  <dcterms:modified xsi:type="dcterms:W3CDTF">2016-12-12T01:48:51Z</dcterms:modified>
  <cp:revision>5</cp:revision>
  <dc:subject/>
  <dc:title/>
</cp:coreProperties>
</file>