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9725-7F2E-44C0-B119-0DBFE1C15A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A482-9FCC-4E72-A736-439ADDCCB7E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3349-D30F-44C2-9144-4A78CC3C76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8B6A-CEB0-4A76-B599-7F1ABF9ADD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F95D-011F-4B58-AEED-915FD929976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083C-103F-4649-9027-838182EBB02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D4D1-C5FD-4BD1-B702-EDD1E6D383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3F42-CC84-40C9-89CE-6D1CDCAA0E0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010-A646-4259-8566-94C36986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5713-B4BE-4C7C-B6C2-960B0ABB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F1392-C4C4-4BB4-9FFE-429E9BCE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CDCB0-B413-43A2-BFA6-83FA9117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E8161-D15D-49AC-8937-59619AA7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DB536-953A-4617-B3E3-1339F11F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3AEFA-3AD0-471A-8752-B70A4B81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F62DC-106B-4CEA-AEE2-551B56D3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65EC0-F767-4E08-8D09-6E201272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71698-76C5-44F3-9189-071A7EB5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4E305-36ED-46C8-B140-D877BD4E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55EB9-F896-4913-B85A-62A60D5C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359-9CD2-4521-B4A7-294F6583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66CF5-352E-40FB-BC22-0801947D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7E195-E835-4416-ADB8-2BB77B24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FA2BE-5AC3-4C8E-A82F-E661714D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75E15-FBC9-4B06-86A6-8AD79A77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E6013-774F-49E4-8A7B-20D67F99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982D5-B123-416C-8815-2FDFBDED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2FAF2-2C8A-4419-9F62-CCC1E91B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5CE9E-4C31-4AD5-8A93-5944D7C7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CE6CD-A982-4057-ACAA-30096FF5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E12C5-DAC0-49AF-8BFB-08138D58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8AB-93C3-4328-8DA9-D00C792F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072E2-6E5E-4952-8D29-9064772A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7261A-9DDF-41E9-BDA8-174264B7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8B173-4A9C-4AC4-83B6-A5FB9FBF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56325-1F2B-4A1F-88E6-05F35A48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81018-41EB-4A6D-A0DB-7C025218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16F0F-5F40-4AC0-849B-FBBB800A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D9178-69D1-4ED2-A90F-D39B7425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88F38-F668-4A0B-9FA1-2CF8E5EC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368B8-BD07-4F92-80D6-8C5A62A8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2E2AD-1470-49D2-BD47-0B9A30B0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6E3F-0AFD-4306-BA34-8D97FA2E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3DE3A-135A-4F32-AD5D-42FC3E0C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3327D-3B28-4409-832D-6FFEAEDA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B2FF7-8357-4EE7-89CD-CC7C97C6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348AA-F185-47C8-9CB9-2F4B0A71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B2E5D-7BB2-49B5-B52E-40254424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8D42E-C800-4EB9-8E30-D9F69710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1A486-8B09-43E0-B1AE-68AF93FD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7E7A6-4AC9-42EA-8F7D-85A7B105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7F803-52F1-4B8F-A52E-F7F6359C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E8F2E-929B-4BF7-8C4F-5E1C44F8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9B57-1EE4-4D6E-9620-562ABF6B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7F831-3512-4DA3-BA82-2C60EFC5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DA8DA-F300-4342-BAD2-26701B5D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9803D-038C-41A4-A843-A71AAE82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A449F-84F1-4032-A5C5-4743B153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7BF5B-BB47-42BB-AEC8-CCA75C3A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5CC3-57A0-4992-A81A-BFC69C67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E79B-42DC-4BC6-823B-DDCFAED2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7AD7-B89F-4049-A0A9-9F7EF137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8E1E-4FCF-4596-84ED-586955E1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F68A-013E-4ECE-95F6-71BF2FD6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8B0-DDD6-4FF0-8EA4-D9E76693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601D-2A06-42F0-BDE0-4CFBA963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CB1B-BBFE-46C7-8253-FE22514C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AA05-6819-4C26-8AC2-DD665D41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8C3C-6D62-4BFC-A318-645F88B9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A621-8E3B-4FAE-81B9-382CE4EF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FEA57-4D45-4DC2-AA9C-B51BFC7B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BF534-E5CD-4EC2-80FF-87B34602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E28A9-E3C3-4CDD-9DA5-EAB28729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416CE-9FEB-417E-BCD2-61695071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0E81C-8D34-4B28-8B9E-260857A2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985-DBBC-4F91-BA03-BBF79630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1DFCD-BF8E-4C6D-8BF0-42EB1DFC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632A2-A75F-4848-BB55-16AE7F8F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33FB7-EB5F-41F3-A948-A838D7FF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3E41-263B-4353-ABED-05AA7BC0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709A-95A1-4FEC-9BC8-628A25C1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8C3B-DA03-4B17-AB01-27ACDBAD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35763-7C9E-4324-8A52-D7FCA5C4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3FBFD-C412-4E88-8944-9EDF532B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E6DCC-2713-4AE6-AF64-17CECC66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B596E-35B1-4D35-A9BD-59EC2FA6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5A6-7235-498F-9D82-1506BFAD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10803-9741-4F5D-877E-BFBBC99C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3FF60-769A-40BC-9643-1A136C28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4BBA0-FAF6-4448-A3CB-D103F4FB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36142-0DC6-458D-BA10-686E8A76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6D292-36AD-4483-9197-A24153E0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0B24D-6DAB-4495-AD87-4031B989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32A86-D9EC-44A8-8C65-6E2DDD56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FBBCB-4865-4F57-9B60-27A03DF5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8F391-6B24-4F0C-A61E-F6967C48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3E7EA-DD33-4DF2-968E-D01DE6C2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E57-1021-4152-9381-4A018E32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85FCA-B8FC-4F2A-8244-1905F81C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60E0-8BDC-446A-A8C5-31D63D65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9D891-1E26-4EF2-A6E5-A6752B41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E2556-7676-4F81-981C-E423971C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D36C4-A481-492B-9148-13C4A285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EBE7D-0317-42BF-8959-0125FB13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6525-BB8D-4D03-A9A1-F9310203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1EAA5-54C4-4285-8DC1-DD2F635A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88B06-C3DB-4C73-AE81-73D85C61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73025-E84D-418D-B9F7-D4AC6199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CB9-CE5B-4538-BAA2-14CA9765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45930-08A4-4F65-B236-99D405FF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A4043-9F04-43F0-A662-55D76A11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C73E6-C3DB-4A09-891A-20B981DC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5259B-EDFD-489C-830C-AB7EAB2F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2262C-C49C-4F35-BCEA-1FC19D0D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43DF0-C1C2-4E45-8F64-938B35ED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730E3-422D-4F20-B9E5-CF5204ED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F2735-A0C5-42BF-9043-C2F6B09F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0A158-52C2-4F47-BEEE-6E126F2B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18FE0-5616-4A1D-8699-01AF5D76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5D7-2F14-4547-814A-19B37C4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A2613-1FE2-41C6-B314-11528452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42602-8B3E-43B5-A27F-2DBCE683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3EF26-7582-4AEB-8F63-043DE290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5831E-89D4-4905-B016-29534B32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8B6DA-12A6-4FF5-A966-E8CF9BC1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DDA45-F755-480C-B37F-C8519D6C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E6E84-84B5-47FD-BC23-9FF21346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7D8D3-5998-42C9-85AD-68340200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D5FF1-C9CB-4CDD-B1E6-4175E0FB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199A4-7118-4993-B324-248A40FA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AEF-7C64-43DC-89F7-2F644E8A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3C728-4448-44AE-8821-7B9BF53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187F8-1660-434D-8B49-5AF3C0BC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EEC1A-D379-49DD-AB0D-7DBB45D6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03C7A-40B5-4CBB-9098-E168FC61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6D035-74CC-4155-AB8F-0751FCEF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0E81B-4B34-4426-9D9C-803188B8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4A5CF-3C2D-4BDA-BECD-8A8D2B1F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AE9A3-D9E3-4338-A512-6FA1FB2D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EF521-9037-416B-982A-6248D499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79BD2-DCE5-45A3-A3A4-5460FDDA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9B4-B851-4060-8954-1B4A2C9F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89635-0FD1-4E98-A7D6-94F363AB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319C6-FDAC-40A0-8D68-84F62FE4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8C9CE-616A-444E-94CE-A854BD3A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64088-5EAC-40BB-99DB-07D76668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76D45-5D3C-42D6-8388-EAE1D93C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88011-204F-47E2-B7DC-E27921B1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10FB0-07FA-4B25-843E-12736796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61FC2-D981-4660-B05D-1FC554C3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9C335-7EB8-46C5-84E8-902A2C67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1490F-F747-4E58-93B0-0AA2D9ED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F7C2-42C7-4F08-8292-D25F82DAE5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1E7D-C091-45A9-A4C9-4472B53A2F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FC47-D239-475D-B0C1-E933B3F6A4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3B47-E33C-4754-BF50-F424739EE6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07F2-75EC-4FE1-9266-91E68C3FB2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D7F6-E8A5-4DDE-8F8F-67402AFFDA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AACC-4C66-4062-B582-243787F6AF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5281-52AF-4708-863A-32125C0200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862F-E3C7-45AE-B8EE-063777C080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7208-4D31-4902-BFF2-9772C37380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7191-A8C8-4EC4-AEEE-6C43B4DFD2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2AFC-CCFA-4275-8AAA-8F59141712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3"/>
          <p:cNvSpPr/>
          <p:nvPr/>
        </p:nvSpPr>
        <p:spPr>
          <a:xfrm>
            <a:off x="890640" y="119556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285840" y="248292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与技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81080" y="1143000"/>
            <a:ext cx="8786880" cy="1049400"/>
          </a:xfrm>
          <a:prstGeom prst="rect">
            <a:avLst/>
          </a:prstGeom>
          <a:ln w="0">
            <a:noFill/>
          </a:ln>
        </p:spPr>
      </p:pic>
      <p:sp>
        <p:nvSpPr>
          <p:cNvPr id="528" name="TextBox 5"/>
          <p:cNvSpPr/>
          <p:nvPr/>
        </p:nvSpPr>
        <p:spPr>
          <a:xfrm>
            <a:off x="1285920" y="264312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×2×2×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6"/>
          <p:cNvSpPr/>
          <p:nvPr/>
        </p:nvSpPr>
        <p:spPr>
          <a:xfrm>
            <a:off x="1285920" y="341640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×2×2×2×2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7"/>
          <p:cNvSpPr/>
          <p:nvPr/>
        </p:nvSpPr>
        <p:spPr>
          <a:xfrm>
            <a:off x="1285920" y="420228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×2×3×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8"/>
          <p:cNvSpPr/>
          <p:nvPr/>
        </p:nvSpPr>
        <p:spPr>
          <a:xfrm>
            <a:off x="1285920" y="491652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×2×2×2×2×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101520" y="1071720"/>
            <a:ext cx="8828280" cy="3163680"/>
          </a:xfrm>
          <a:prstGeom prst="rect">
            <a:avLst/>
          </a:prstGeom>
          <a:ln w="0">
            <a:noFill/>
          </a:ln>
        </p:spPr>
      </p:pic>
      <p:sp>
        <p:nvSpPr>
          <p:cNvPr id="535" name="TextBox 5"/>
          <p:cNvSpPr/>
          <p:nvPr/>
        </p:nvSpPr>
        <p:spPr>
          <a:xfrm>
            <a:off x="2500200" y="428616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×3÷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6"/>
          <p:cNvSpPr/>
          <p:nvPr/>
        </p:nvSpPr>
        <p:spPr>
          <a:xfrm>
            <a:off x="2143080" y="500076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每支圆珠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79200" y="1143000"/>
            <a:ext cx="8929800" cy="3090960"/>
          </a:xfrm>
          <a:prstGeom prst="rect">
            <a:avLst/>
          </a:prstGeom>
          <a:ln w="0">
            <a:noFill/>
          </a:ln>
        </p:spPr>
      </p:pic>
      <p:sp>
        <p:nvSpPr>
          <p:cNvPr id="540" name="TextBox 5"/>
          <p:cNvSpPr/>
          <p:nvPr/>
        </p:nvSpPr>
        <p:spPr>
          <a:xfrm>
            <a:off x="1428840" y="428616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相册需要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册，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6"/>
          <p:cNvSpPr/>
          <p:nvPr/>
        </p:nvSpPr>
        <p:spPr>
          <a:xfrm>
            <a:off x="1428840" y="491652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相册需要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册多，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1428840" y="563076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相册需要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册，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合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23840" y="1101600"/>
            <a:ext cx="8786880" cy="3613320"/>
          </a:xfrm>
          <a:prstGeom prst="rect">
            <a:avLst/>
          </a:prstGeom>
          <a:ln w="0">
            <a:noFill/>
          </a:ln>
        </p:spPr>
      </p:pic>
      <p:sp>
        <p:nvSpPr>
          <p:cNvPr id="546" name="TextBox 5"/>
          <p:cNvSpPr/>
          <p:nvPr/>
        </p:nvSpPr>
        <p:spPr>
          <a:xfrm>
            <a:off x="2357280" y="478620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×2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7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"/>
          <p:cNvSpPr/>
          <p:nvPr/>
        </p:nvSpPr>
        <p:spPr>
          <a:xfrm>
            <a:off x="1143000" y="555948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所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集热管够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90360" y="1120680"/>
            <a:ext cx="8929800" cy="17370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5"/>
          <p:cNvSpPr/>
          <p:nvPr/>
        </p:nvSpPr>
        <p:spPr>
          <a:xfrm>
            <a:off x="4132440" y="163512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5643720" y="16430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7"/>
          <p:cNvSpPr/>
          <p:nvPr/>
        </p:nvSpPr>
        <p:spPr>
          <a:xfrm>
            <a:off x="7358040" y="16430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8"/>
          <p:cNvSpPr/>
          <p:nvPr/>
        </p:nvSpPr>
        <p:spPr>
          <a:xfrm>
            <a:off x="3071880" y="22017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9"/>
          <p:cNvSpPr/>
          <p:nvPr/>
        </p:nvSpPr>
        <p:spPr>
          <a:xfrm>
            <a:off x="4714920" y="22147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0"/>
          <p:cNvSpPr/>
          <p:nvPr/>
        </p:nvSpPr>
        <p:spPr>
          <a:xfrm>
            <a:off x="6429240" y="21877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1"/>
          <p:cNvSpPr/>
          <p:nvPr/>
        </p:nvSpPr>
        <p:spPr>
          <a:xfrm>
            <a:off x="8072280" y="22017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组合 7"/>
          <p:cNvGrpSpPr/>
          <p:nvPr/>
        </p:nvGrpSpPr>
        <p:grpSpPr>
          <a:xfrm>
            <a:off x="95400" y="1143000"/>
            <a:ext cx="8953200" cy="3643200"/>
            <a:chOff x="95400" y="1143000"/>
            <a:chExt cx="8953200" cy="3643200"/>
          </a:xfrm>
        </p:grpSpPr>
        <p:pic>
          <p:nvPicPr>
            <p:cNvPr id="561" name="Picture 2" descr=""/>
            <p:cNvPicPr/>
            <p:nvPr/>
          </p:nvPicPr>
          <p:blipFill>
            <a:blip r:embed="rId1"/>
            <a:stretch/>
          </p:blipFill>
          <p:spPr>
            <a:xfrm>
              <a:off x="95400" y="1143000"/>
              <a:ext cx="8953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3" descr=""/>
            <p:cNvPicPr/>
            <p:nvPr/>
          </p:nvPicPr>
          <p:blipFill>
            <a:blip r:embed="rId2"/>
            <a:stretch/>
          </p:blipFill>
          <p:spPr>
            <a:xfrm>
              <a:off x="928800" y="2071440"/>
              <a:ext cx="572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4" descr=""/>
            <p:cNvPicPr/>
            <p:nvPr/>
          </p:nvPicPr>
          <p:blipFill>
            <a:blip r:embed="rId3"/>
            <a:stretch/>
          </p:blipFill>
          <p:spPr>
            <a:xfrm>
              <a:off x="928800" y="4281480"/>
              <a:ext cx="805788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4" name="TextBox 8"/>
          <p:cNvSpPr/>
          <p:nvPr/>
        </p:nvSpPr>
        <p:spPr>
          <a:xfrm>
            <a:off x="2357280" y="264312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÷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9"/>
          <p:cNvSpPr/>
          <p:nvPr/>
        </p:nvSpPr>
        <p:spPr>
          <a:xfrm>
            <a:off x="1785960" y="341640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学校平均每天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0"/>
          <p:cNvSpPr/>
          <p:nvPr/>
        </p:nvSpPr>
        <p:spPr>
          <a:xfrm>
            <a:off x="1928880" y="5000760"/>
            <a:ext cx="62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1"/>
          <p:cNvSpPr/>
          <p:nvPr/>
        </p:nvSpPr>
        <p:spPr>
          <a:xfrm>
            <a:off x="1785960" y="577368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第四季度学校用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03:17:56Z</dcterms:created>
  <dc:creator/>
  <dc:description>http://cai.7cxk.net 中小学课件站</dc:description>
  <cp:keywords>http:/cai.7cxk.net 中小学课件站</cp:keywords>
  <dc:language>en-US</dc:language>
  <cp:lastModifiedBy/>
  <dcterms:modified xsi:type="dcterms:W3CDTF">2016-12-12T01:49:44Z</dcterms:modified>
  <cp:revision>5</cp:revision>
  <dc:subject/>
  <dc:title/>
</cp:coreProperties>
</file>