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28D0-AFC2-4E58-8731-12C8C9E4EF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ADBD-819D-40D4-A199-6A1F618690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1A52-E0A7-4D14-A9FF-DC14F24CC4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4CAE-805A-4B71-8B3C-4FB70C0FC9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095E-AE23-4368-BCAB-95CAFB6E95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F7B6-3413-4258-BB8F-803FAA473F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CA11-4DF4-406F-9EB1-72F0CDCC07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E5C9-3DD4-4BEB-BB0D-F6C0F89742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3AAA-47F8-43D4-BB7C-6346250BF8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A24-F083-4BD5-AD9C-EFC9E2A9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A10-202A-4CA5-A492-B0E2537C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0AEA5-3444-4ED0-A606-8EB2AC0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E0B98-DD66-4719-A944-AD7197C2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1C124-94C0-4CFD-A335-7F461A7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ED467-A759-4980-8F5C-C7935AD5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ADD27-D20A-40C3-95C4-9695230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5617B-A9E4-44D2-8B1D-01B5B9D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48491-923D-4605-AE5F-57114558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F08FA-031D-48DF-B190-9E62AD9D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B079-BD6E-414B-B8C2-8C18ECBD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0BEF5-B9B8-4943-9FBC-57BB6528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4C1-2A4D-4348-86A5-D085F9D2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45A37-CC5B-425D-B8CA-A16F74A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462F-D54B-4020-9594-3E9BE251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94C1E-17A4-4E9F-A06A-AA83BEB1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6AEA0-B552-4A56-92E3-01D15FE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8CEEF-99CD-4933-8B1C-32363A6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75FF8-2BBA-4FA2-8953-EAAF45B9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191EF-C524-411A-B4D0-F65476A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926FE-1344-4797-A46A-6A6AAAC6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93D31-00D6-446B-9987-15A84DB0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CD8C4-1184-481B-BF9C-F622EA84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7AC-09C3-4D69-8D58-9B8A5A0F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6C76A-408C-4014-835D-B34A09A4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5A512-2C21-4661-9B0E-CD6A3D7B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86FBA-E6BF-4B54-A63A-076C62C4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5CDF1-F78B-45F4-9CD0-9991F7CE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5D259-2464-4AF8-9B40-E41C6621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A5FCC-760F-4463-A33B-0407A7B5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5A23E-38AF-4F44-B9BB-9000AF0A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340FB-CA47-49D4-AFA8-44B2140C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A884-9F89-47A5-9636-91723C7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6C79B-672A-4E68-91A2-172DE89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BA30-D52F-4312-A539-C8D35EF9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1331F-9164-45EF-87DC-50225A09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3952A-8AD8-4F89-A136-E75C2095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A7F5C-3F57-48F7-ACD7-EE001357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6EBB4-B05F-475F-BE3E-52243CE4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45FD-A898-4274-89CD-E784C016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01FD6-3C69-4077-A843-C3010E23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E5506-08F3-428C-A53D-D97A36E5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48BB3-6011-4E60-BE78-E2693877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A0216-A50B-4557-850A-C4973DE7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D768A-CCE5-4FE3-ACE8-939DF96E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10B2-3990-4C0C-9278-227F9976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D11EB-C0E0-4CD8-B083-79404F5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1E92A-D4D4-492A-995B-AD27DC3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C6D06-1349-4AFC-91BF-6AC556A6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C5FFF-FF35-4FBA-BB27-6A71FC09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DDD7C-FEE7-4E2D-A34D-7BADD067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83CC-DA00-461C-B925-0898C4A4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1929-1A3A-42B5-9B64-FB5A7FEF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6B9C-EC2F-4A83-8D34-FA4E29F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4D0F-D7B0-4015-A5E0-631BE2D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15D-66ED-4E41-A508-4DD2C66F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130-F264-4FFB-BADB-18E0064D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431B-D967-4355-9B72-E3BCBC5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3C0A-5B7E-4AEE-8254-3F725F7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5C61-1274-4505-8314-D17FCD3A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0D94-B8D0-4900-BC0C-B160B46B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E9C3-3F59-4EEE-BB54-B3C6751D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A4B6-814E-463E-A4CF-BA79D2FF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8D17-F0F2-43FE-BBE0-F5309969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6626-E9B3-4ED1-BDCD-98C6A48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B940-0296-4E8E-BCB8-B9916D74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83AB7-4756-406A-8226-B9D50A5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FA0-62DC-4365-9D0B-6652E88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7EDA-800F-4BEA-98FC-632A36D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8EA1B-3039-42A7-A3D1-3E979EB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03DF-783B-48AC-9737-A9EAE1E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EA8C-85D0-439A-A359-A0ACC5E8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871B-AC70-410D-9E2B-C459E61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DF18-9279-4767-A4D3-18727D3C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8688B-5925-4D7B-9ECB-BCDAA2FA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ECD31-D1A8-459E-9431-5280B656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CF1A-46CF-4F9C-8E00-0A32E03E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F509-8978-4F2A-A24A-D7D4DB54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508-D34F-46D8-B724-C1E7206D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E7A3-1929-47F0-A0DA-22E25AA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D83D-152D-421A-A48F-91C25DD9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B6789-7073-40D3-B5D7-B6E94F6A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BE46-B7B8-4D6F-82D0-11651D2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2C34-A77E-4EA4-80C4-11DD626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2C82-EE8E-4A59-8016-AA5306F5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04EB-B2AF-443E-B74E-4CA3A23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7234-945A-44FF-A828-2CB6AA79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7BDD-50A6-42BD-9C03-14C31F6B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9426-A838-447A-A5E5-8DFFB90F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232-32C0-4709-ABEF-BA015F03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9471-A9B5-4D17-B2D3-79BD1B55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6350-24FE-4C5B-A481-567EF6CF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6DA14-EC3B-4FE1-ABE9-88961830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086E-0514-49E3-AA8F-E902EAC8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60F3D-5670-4F11-BB2A-66A62E0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B9B7-F6B8-4BBC-B1FC-7F155301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B8AE-79B0-4F7A-ADEB-5C640443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0A06-AD70-44BE-92F8-346B39C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B210-3446-409F-9328-6D4284FF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6367-58E0-4CB4-B977-F95491B9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5A7-64A7-41B9-8FAD-5FB4B044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AEAA-86EE-4DC5-A5DA-B584F39B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DF575-2DA0-4D97-BE1E-2578F192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7581-72CC-4079-A4D5-4CA9FA3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8BEF2-2494-49CE-8086-117F1621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951D-4A82-4714-BA21-C19C2963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427E9-5608-4898-80AC-141B231C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A014-4F27-44E8-A01A-3FCE051E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06CF-7E63-4252-9BF9-CF0B6D9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A8A04-9281-4003-854F-103ABC94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0EDC3-7919-4FBC-8548-988218F8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450-7BB5-4EC5-89CD-1A488735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84492-13A1-46F3-8AF2-2D263AEC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1D942-B63F-4AFD-9F63-CC0D9260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FFB1-C915-4779-950E-BD53A449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B236-02E0-47BB-BA0C-52542BAC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7408E-C549-472E-B100-099C908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7F5F-1857-4877-9E91-E8C131CB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5D8D-AA1B-4936-899F-6CD7E8D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5F3E-BE5D-4CF4-9FAC-44ED985F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F8582-6BDF-430D-A95F-8DD4A759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D7016-795E-4E6D-B427-2B1549F5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729-CBB2-42E1-B640-AB0716B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8B31-3725-4EB7-93BD-62F61188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DAAF7-9C62-48CC-8121-E427E390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6CBE-8CF0-4389-8103-DB1472D3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9C02-2113-429F-A18A-C9C009AA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6CFF-B3A5-4238-8E2B-50907643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36EA-F758-4341-AD02-A700FF83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A4088-D908-4350-9264-8429376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576EF-3A3F-427C-8E7C-5AD369B8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CFA66-CB67-4AA5-9ADF-162DA3D8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60DB-F9DC-4EE4-8F7C-43DD4276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0C9-33B8-442C-AC16-8FC90B98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223C0-797D-40AA-96E6-CD3AF051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7C1B7-9A7F-4B30-90E5-B7058A8E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CBE7-B26D-43FA-B331-A50BBC2F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507CB-8A22-4DA1-9077-E7E6BB0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4E767-844F-45A6-9293-6376B092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628F6-44F9-4B92-889D-38E5C18E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E591-2C5D-4F11-8769-9249B05F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DC529-4AC7-4A6A-8D09-2EAAEC3A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E7A95-5427-4BC3-8E13-658AEDC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216F9-19D5-44DE-A500-F823D7E1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4466-2C53-4773-9AA4-68B9653814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E95-9D77-46B6-9360-DAD32E8A47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B408-0792-41E7-8FC0-1776FC9F9F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12CD-B42D-4F65-87B6-70FB9C6220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0C1-E9A9-4214-B023-E2461FA8E6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AD59-DB06-45D2-A517-6164885277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B022-9F9E-4E41-8995-E5DDF4BED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7D9F-B61B-4AE1-8D17-AF724DA172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ABD8-AD28-41C3-87B5-E26490C659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0DAA-71D6-4459-9E94-99BE069369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75B8-31CB-462B-8677-480D78D524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8404-D58B-4A89-A42D-72C1A11CEE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285840" y="248292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与技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组合 6"/>
          <p:cNvGrpSpPr/>
          <p:nvPr/>
        </p:nvGrpSpPr>
        <p:grpSpPr>
          <a:xfrm>
            <a:off x="101520" y="1068480"/>
            <a:ext cx="8929800" cy="4655880"/>
            <a:chOff x="101520" y="1068480"/>
            <a:chExt cx="8929800" cy="4655880"/>
          </a:xfrm>
        </p:grpSpPr>
        <p:pic>
          <p:nvPicPr>
            <p:cNvPr id="528" name="Picture 2" descr=""/>
            <p:cNvPicPr/>
            <p:nvPr/>
          </p:nvPicPr>
          <p:blipFill>
            <a:blip r:embed="rId1"/>
            <a:stretch/>
          </p:blipFill>
          <p:spPr>
            <a:xfrm>
              <a:off x="101520" y="1068480"/>
              <a:ext cx="8929800" cy="35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3" descr=""/>
            <p:cNvPicPr/>
            <p:nvPr/>
          </p:nvPicPr>
          <p:blipFill>
            <a:blip r:embed="rId2"/>
            <a:stretch/>
          </p:blipFill>
          <p:spPr>
            <a:xfrm>
              <a:off x="714240" y="5358240"/>
              <a:ext cx="7858440" cy="36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TextBox 7"/>
          <p:cNvSpPr/>
          <p:nvPr/>
        </p:nvSpPr>
        <p:spPr>
          <a:xfrm>
            <a:off x="500040" y="4643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1143000" y="5786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68400" y="1087560"/>
            <a:ext cx="9001080" cy="274788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"/>
          <p:cNvSpPr/>
          <p:nvPr/>
        </p:nvSpPr>
        <p:spPr>
          <a:xfrm>
            <a:off x="2357280" y="392904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6"/>
          <p:cNvSpPr/>
          <p:nvPr/>
        </p:nvSpPr>
        <p:spPr>
          <a:xfrm>
            <a:off x="857160" y="459576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"/>
          <p:cNvSpPr/>
          <p:nvPr/>
        </p:nvSpPr>
        <p:spPr>
          <a:xfrm>
            <a:off x="1000080" y="52624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高速公路收费站平均每小时通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汽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500040" y="1065240"/>
            <a:ext cx="7929720" cy="5506920"/>
          </a:xfrm>
          <a:prstGeom prst="rect">
            <a:avLst/>
          </a:prstGeom>
          <a:ln w="0">
            <a:noFill/>
          </a:ln>
        </p:spPr>
      </p:pic>
      <p:sp>
        <p:nvSpPr>
          <p:cNvPr id="541" name="矩形 5"/>
          <p:cNvSpPr/>
          <p:nvPr/>
        </p:nvSpPr>
        <p:spPr>
          <a:xfrm>
            <a:off x="2357280" y="3247920"/>
            <a:ext cx="500400" cy="2928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2244600" y="28004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7"/>
          <p:cNvSpPr/>
          <p:nvPr/>
        </p:nvSpPr>
        <p:spPr>
          <a:xfrm>
            <a:off x="3508200" y="3846600"/>
            <a:ext cx="500400" cy="2316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3406680" y="335772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9"/>
          <p:cNvSpPr/>
          <p:nvPr/>
        </p:nvSpPr>
        <p:spPr>
          <a:xfrm>
            <a:off x="4707000" y="5572080"/>
            <a:ext cx="500040" cy="5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4643280" y="510552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5854680" y="5000760"/>
            <a:ext cx="500040" cy="1177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5857920" y="44290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13"/>
          <p:cNvSpPr/>
          <p:nvPr/>
        </p:nvSpPr>
        <p:spPr>
          <a:xfrm>
            <a:off x="7020000" y="4429080"/>
            <a:ext cx="500040" cy="1733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6858000" y="39052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90360" y="1187280"/>
            <a:ext cx="8929800" cy="2586240"/>
          </a:xfrm>
          <a:prstGeom prst="rect">
            <a:avLst/>
          </a:prstGeom>
          <a:ln w="0">
            <a:noFill/>
          </a:ln>
        </p:spPr>
      </p:pic>
      <p:sp>
        <p:nvSpPr>
          <p:cNvPr id="554" name="TextBox 5"/>
          <p:cNvSpPr/>
          <p:nvPr/>
        </p:nvSpPr>
        <p:spPr>
          <a:xfrm>
            <a:off x="1571760" y="18572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6143760" y="185724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"/>
          <p:cNvSpPr/>
          <p:nvPr/>
        </p:nvSpPr>
        <p:spPr>
          <a:xfrm>
            <a:off x="1714680" y="31431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786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57240" y="1092240"/>
            <a:ext cx="9001080" cy="29541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6500880" y="2357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2643120" y="3333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7"/>
          <p:cNvSpPr/>
          <p:nvPr/>
        </p:nvSpPr>
        <p:spPr>
          <a:xfrm>
            <a:off x="2786040" y="2357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"/>
          <p:cNvSpPr/>
          <p:nvPr/>
        </p:nvSpPr>
        <p:spPr>
          <a:xfrm>
            <a:off x="6500880" y="2833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9"/>
          <p:cNvSpPr/>
          <p:nvPr/>
        </p:nvSpPr>
        <p:spPr>
          <a:xfrm>
            <a:off x="4000680" y="2928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6500880" y="3333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54579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3:17:56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50:13Z</dcterms:modified>
  <cp:revision>5</cp:revision>
  <dc:subject/>
  <dc:title/>
</cp:coreProperties>
</file>