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4C259-8D02-44BD-97A6-E2C6325CD4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C78D3-FDE2-433E-9963-2DA709AD74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DE1-5301-40B5-8D87-0116C8A0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CA7-EABB-4628-AB8F-065318E1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CD8-0D79-41B4-8E33-BF071D79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3AF-2011-4E39-994C-654554BA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301-9442-4872-B02E-9AAE9728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21F-F72E-4CB8-86E9-47974D1A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F23-08BF-4701-B250-C0A39C0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1DD-493B-4227-8E33-17FD4A92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F22-27E0-4C62-9DDF-E5D25930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106-D748-4443-9445-E90166F8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AE5-78EA-4FB5-8AD0-E58E7D0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0B1-E72B-40D9-A09C-D765D63E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01D1E-0039-4A78-B5E3-E6BF1819D7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hyperlink" Target="file:///6%20&#20391;&#38754;&#25551;&#20889;.mp4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4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333600" y="833400"/>
            <a:ext cx="44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最后的姿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圆角矩形 11"/>
          <p:cNvSpPr/>
          <p:nvPr/>
        </p:nvSpPr>
        <p:spPr>
          <a:xfrm>
            <a:off x="958680" y="17082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079720" y="760320"/>
            <a:ext cx="1181160" cy="1181160"/>
          </a:xfrm>
          <a:prstGeom prst="diamond">
            <a:avLst/>
          </a:prstGeom>
          <a:solidFill>
            <a:srgbClr val="236b2a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2363400" y="826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4"/>
          <a:stretch/>
        </p:blipFill>
        <p:spPr>
          <a:xfrm>
            <a:off x="1719360" y="2090880"/>
            <a:ext cx="5956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1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8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2"/>
          <p:cNvSpPr/>
          <p:nvPr/>
        </p:nvSpPr>
        <p:spPr>
          <a:xfrm>
            <a:off x="1003320" y="1479600"/>
            <a:ext cx="74772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但是，那短暂的几秒钟，哪里容得了所有的学生都能跑出去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反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教学楼即将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tān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塌的瞬间，还有四位同学冲不出去了！谭老师立即将他们拉到课桌底下，双手撑在课桌上，用自己的身体护住了四个学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拉”“撑”“护”，这一连串准确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生动地再现了谭老师置个人生死不顾，勇敢救护学生的伟大形象，表现了他对学生无私的大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9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903240" y="1438200"/>
            <a:ext cx="7597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发现他的时候，他双臂张开趴在课桌上，后脑被楼板砸得深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āo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去，血肉模糊，身下死死地护着四个学生。四个学生都还活着！”第一个发现谭老师的救援人员眼含热泪地说。谭老师誓死护卫学生的形象，让他永生难忘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边是血肉模糊，一边是安然无恙，如此鲜明的对比，可见谭老师在生死攸关的一刻，心中只有他的学生，完全没有考虑到自己的安危。作者引用救援人员的描述，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侧面烘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了谭老师誓死护卫学生的伟大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9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0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04" name="矩形 11"/>
          <p:cNvSpPr/>
          <p:nvPr/>
        </p:nvSpPr>
        <p:spPr>
          <a:xfrm>
            <a:off x="1203480" y="1635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说说写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1258920" y="21542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了课文，写出你想对谭千秋老师说的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图片 16" descr="花盆.png"/>
          <p:cNvPicPr/>
          <p:nvPr/>
        </p:nvPicPr>
        <p:blipFill>
          <a:blip r:embed="rId6"/>
          <a:stretch/>
        </p:blipFill>
        <p:spPr>
          <a:xfrm>
            <a:off x="949320" y="1790640"/>
            <a:ext cx="324000" cy="3682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7" descr=""/>
          <p:cNvPicPr/>
          <p:nvPr/>
        </p:nvPicPr>
        <p:blipFill>
          <a:blip r:embed="rId7"/>
          <a:stretch/>
        </p:blipFill>
        <p:spPr>
          <a:xfrm>
            <a:off x="969840" y="2346480"/>
            <a:ext cx="322560" cy="368280"/>
          </a:xfrm>
          <a:prstGeom prst="rect">
            <a:avLst/>
          </a:prstGeom>
          <a:ln w="0">
            <a:noFill/>
          </a:ln>
        </p:spPr>
      </p:pic>
      <p:sp>
        <p:nvSpPr>
          <p:cNvPr id="208" name="矩形 13"/>
          <p:cNvSpPr/>
          <p:nvPr/>
        </p:nvSpPr>
        <p:spPr>
          <a:xfrm>
            <a:off x="1262160" y="2759040"/>
            <a:ext cx="70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谭老师，在生死攸关的那一刻，您把生的希望留给了学生，用自己的血肉之躯阻挡了死神，您用生命诠释了“爱与责任”的师德灵魂，您“张开双臂，护住学生”的姿势，将永远定格在我心中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0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1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花盆.png"/>
          <p:cNvPicPr/>
          <p:nvPr/>
        </p:nvPicPr>
        <p:blipFill>
          <a:blip r:embed="rId5"/>
          <a:stretch/>
        </p:blipFill>
        <p:spPr>
          <a:xfrm>
            <a:off x="731880" y="1400040"/>
            <a:ext cx="323640" cy="370080"/>
          </a:xfrm>
          <a:prstGeom prst="rect">
            <a:avLst/>
          </a:prstGeom>
          <a:ln w="0">
            <a:noFill/>
          </a:ln>
        </p:spPr>
      </p:pic>
      <p:sp>
        <p:nvSpPr>
          <p:cNvPr id="215" name="内容占位符 2"/>
          <p:cNvSpPr/>
          <p:nvPr/>
        </p:nvSpPr>
        <p:spPr>
          <a:xfrm>
            <a:off x="974880" y="1236600"/>
            <a:ext cx="7416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读完课文，你读出了一个怎样废谭老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我读出了一个恪尽职守，一心想着学生，用生命诠释爱与责任的谭老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课文写了什么人什么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黑体"/>
              </a:rPr>
              <a:t>课文主要写地震来临时，谭千秋老师张开双臂，用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黑体"/>
              </a:rPr>
              <a:t>身体守护四个学生的感人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图片 1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grpSp>
        <p:nvGrpSpPr>
          <p:cNvPr id="217" name="组合 2"/>
          <p:cNvGrpSpPr/>
          <p:nvPr/>
        </p:nvGrpSpPr>
        <p:grpSpPr>
          <a:xfrm>
            <a:off x="733320" y="3424320"/>
            <a:ext cx="1664640" cy="642600"/>
            <a:chOff x="733320" y="3424320"/>
            <a:chExt cx="1664640" cy="642600"/>
          </a:xfrm>
        </p:grpSpPr>
        <p:pic>
          <p:nvPicPr>
            <p:cNvPr id="218" name="图片 21" descr="花盆.png"/>
            <p:cNvPicPr/>
            <p:nvPr/>
          </p:nvPicPr>
          <p:blipFill>
            <a:blip r:embed="rId7"/>
            <a:stretch/>
          </p:blipFill>
          <p:spPr>
            <a:xfrm>
              <a:off x="733320" y="3533040"/>
              <a:ext cx="3236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矩形 1"/>
            <p:cNvSpPr/>
            <p:nvPr/>
          </p:nvSpPr>
          <p:spPr>
            <a:xfrm>
              <a:off x="1302840" y="34243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串珠问题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2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25" name="内容占位符 2"/>
          <p:cNvSpPr/>
          <p:nvPr/>
        </p:nvSpPr>
        <p:spPr>
          <a:xfrm>
            <a:off x="722160" y="1379520"/>
            <a:ext cx="7848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 indent="-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后的姿势”是一个怎样的姿势？体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indent="-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张开双臂，护住学生”是谭老师生命中“最后的姿势”。就是这一姿势，挽救了四个学生的生命，体现了谭老师在危难之际把自己的生死置之度外，以学生的安危为重，恪尽职守、充满无私大爱的高尚品质；正是这一姿势，让人们深深震撼，永生难忘，并对谭老师产生崇高的敬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2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32" name="内容占位符 2"/>
          <p:cNvSpPr/>
          <p:nvPr/>
        </p:nvSpPr>
        <p:spPr>
          <a:xfrm>
            <a:off x="793800" y="1217520"/>
            <a:ext cx="7578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的环境描写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有四处重要的环境描写，这些描写渲染了人物出场的情境，推进了情节的发展，升华了人物的精神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文中引用三位人物的话语，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文第三部分引用了三位人物的最具说服力的话语，从侧面烘托了谭老师的英雄壮举，立体地展现了他恪尽职守，一心为学生的无私大爱，使谭老师的形象更加丰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19" descr=""/>
          <p:cNvPicPr/>
          <p:nvPr/>
        </p:nvPicPr>
        <p:blipFill>
          <a:blip r:embed="rId5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7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 19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3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图片 24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26"/>
          <p:cNvSpPr/>
          <p:nvPr/>
        </p:nvSpPr>
        <p:spPr>
          <a:xfrm>
            <a:off x="776880" y="2195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最后的姿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左大括号 27"/>
          <p:cNvSpPr/>
          <p:nvPr/>
        </p:nvSpPr>
        <p:spPr>
          <a:xfrm>
            <a:off x="2968560" y="2317680"/>
            <a:ext cx="217440" cy="14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3240 h 1463760"/>
              <a:gd name="textAreaBottom" fmla="*/ 1460520 h 14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2809080" y="160812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地震前：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日清晨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和平常一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左大括号 5"/>
          <p:cNvSpPr/>
          <p:nvPr/>
        </p:nvSpPr>
        <p:spPr>
          <a:xfrm>
            <a:off x="1557360" y="1617840"/>
            <a:ext cx="243000" cy="4487760"/>
          </a:xfrm>
          <a:custGeom>
            <a:avLst/>
            <a:gdLst>
              <a:gd name="textAreaLeft" fmla="*/ 155160 w 243000"/>
              <a:gd name="textAreaRight" fmla="*/ 243360 w 243000"/>
              <a:gd name="textAreaTop" fmla="*/ 6120 h 4487760"/>
              <a:gd name="textAreaBottom" fmla="*/ 4481640 h 448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"/>
                  <a:pt x="10800" y="97"/>
                </a:cubicBezTo>
                <a:lnTo>
                  <a:pt x="10800" y="10703"/>
                </a:lnTo>
                <a:cubicBezTo>
                  <a:pt x="10800" y="10752"/>
                  <a:pt x="5400" y="10800"/>
                  <a:pt x="0" y="10800"/>
                </a:cubicBezTo>
                <a:cubicBezTo>
                  <a:pt x="5400" y="10800"/>
                  <a:pt x="10800" y="10849"/>
                  <a:pt x="10800" y="10897"/>
                </a:cubicBezTo>
                <a:lnTo>
                  <a:pt x="10800" y="21503"/>
                </a:lnTo>
                <a:cubicBezTo>
                  <a:pt x="10800" y="2155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3"/>
          <p:cNvSpPr/>
          <p:nvPr/>
        </p:nvSpPr>
        <p:spPr>
          <a:xfrm>
            <a:off x="1933200" y="2840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地震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左大括号 24"/>
          <p:cNvSpPr/>
          <p:nvPr/>
        </p:nvSpPr>
        <p:spPr>
          <a:xfrm>
            <a:off x="2976480" y="4037040"/>
            <a:ext cx="217440" cy="14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3240 h 1463760"/>
              <a:gd name="textAreaBottom" fmla="*/ 1460520 h 14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30"/>
          <p:cNvSpPr/>
          <p:nvPr/>
        </p:nvSpPr>
        <p:spPr>
          <a:xfrm>
            <a:off x="3777480" y="2292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认真讲课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生的价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31"/>
          <p:cNvSpPr/>
          <p:nvPr/>
        </p:nvSpPr>
        <p:spPr>
          <a:xfrm>
            <a:off x="3461400" y="2835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组织学生逃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2"/>
          <p:cNvSpPr/>
          <p:nvPr/>
        </p:nvSpPr>
        <p:spPr>
          <a:xfrm>
            <a:off x="3460680" y="3397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保护四个学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33"/>
          <p:cNvSpPr/>
          <p:nvPr/>
        </p:nvSpPr>
        <p:spPr>
          <a:xfrm>
            <a:off x="1933200" y="452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地震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34"/>
          <p:cNvSpPr/>
          <p:nvPr/>
        </p:nvSpPr>
        <p:spPr>
          <a:xfrm>
            <a:off x="3574440" y="39387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救援人员 永生难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5"/>
          <p:cNvSpPr/>
          <p:nvPr/>
        </p:nvSpPr>
        <p:spPr>
          <a:xfrm>
            <a:off x="3574440" y="4491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获救学生 深情回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36"/>
          <p:cNvSpPr/>
          <p:nvPr/>
        </p:nvSpPr>
        <p:spPr>
          <a:xfrm>
            <a:off x="3976920" y="50436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位老师 把希望留给学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7"/>
          <p:cNvSpPr/>
          <p:nvPr/>
        </p:nvSpPr>
        <p:spPr>
          <a:xfrm>
            <a:off x="2475000" y="56466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深情赞颂 英雄不死 精神千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左大括号 38"/>
          <p:cNvSpPr/>
          <p:nvPr/>
        </p:nvSpPr>
        <p:spPr>
          <a:xfrm flipH="1">
            <a:off x="6901560" y="1617840"/>
            <a:ext cx="279720" cy="4487760"/>
          </a:xfrm>
          <a:custGeom>
            <a:avLst/>
            <a:gdLst>
              <a:gd name="textAreaLeft" fmla="*/ 178920 w 279720"/>
              <a:gd name="textAreaRight" fmla="*/ 280080 w 279720"/>
              <a:gd name="textAreaTop" fmla="*/ 7200 h 4487760"/>
              <a:gd name="textAreaBottom" fmla="*/ 4480560 h 448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39"/>
          <p:cNvSpPr/>
          <p:nvPr/>
        </p:nvSpPr>
        <p:spPr>
          <a:xfrm>
            <a:off x="7263000" y="2437920"/>
            <a:ext cx="12776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恪尽职守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私大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5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2" name="内容占位符 2"/>
          <p:cNvSpPr/>
          <p:nvPr/>
        </p:nvSpPr>
        <p:spPr>
          <a:xfrm>
            <a:off x="736560" y="1959120"/>
            <a:ext cx="763272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课文以感人的笔触，记叙了地震来临的瞬间，谭千秋老师张开双臂，用自己的身体守护四名学生的感人事迹，赞颂了他恪尽职守，一心为学生的无私大爱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11" descr=""/>
          <p:cNvPicPr/>
          <p:nvPr/>
        </p:nvPicPr>
        <p:blipFill>
          <a:blip r:embed="rId1"/>
          <a:stretch/>
        </p:blipFill>
        <p:spPr>
          <a:xfrm>
            <a:off x="17640" y="6480"/>
            <a:ext cx="9135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6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69" name="内容占位符 2"/>
          <p:cNvSpPr/>
          <p:nvPr/>
        </p:nvSpPr>
        <p:spPr>
          <a:xfrm>
            <a:off x="941400" y="1790640"/>
            <a:ext cx="76550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《爱的教育》——我们的先生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亚米契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q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从今天起，现在的先生也可爱起来了。我们进教室去的时候，先生已在位子上坐着。先生前学年教过的学生们都从门口探进头来和先生招呼。“先生早安！”“配巴尼先生早安！”大家这样说着。其中也有走进教室来和先生匆忙地握了手就出去的。可知大家都爱慕这先生，今年也想仍请他教。先生也说着“早安！”去拉学生伸着的手，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合 10"/>
          <p:cNvGrpSpPr/>
          <p:nvPr/>
        </p:nvGrpSpPr>
        <p:grpSpPr>
          <a:xfrm>
            <a:off x="652320" y="1028880"/>
            <a:ext cx="2641680" cy="668160"/>
            <a:chOff x="652320" y="1028880"/>
            <a:chExt cx="2641680" cy="668160"/>
          </a:xfrm>
        </p:grpSpPr>
        <p:sp>
          <p:nvSpPr>
            <p:cNvPr id="271" name="圆角矩形 11"/>
            <p:cNvSpPr/>
            <p:nvPr/>
          </p:nvSpPr>
          <p:spPr>
            <a:xfrm>
              <a:off x="1487160" y="1163520"/>
              <a:ext cx="18068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文本框 14"/>
            <p:cNvSpPr/>
            <p:nvPr/>
          </p:nvSpPr>
          <p:spPr>
            <a:xfrm>
              <a:off x="1765080" y="116352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图片 9" descr=""/>
            <p:cNvPicPr/>
            <p:nvPr/>
          </p:nvPicPr>
          <p:blipFill>
            <a:blip r:embed="rId6"/>
            <a:stretch/>
          </p:blipFill>
          <p:spPr>
            <a:xfrm>
              <a:off x="652320" y="1028880"/>
              <a:ext cx="108432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76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图片 16" descr=""/>
          <p:cNvPicPr/>
          <p:nvPr/>
        </p:nvPicPr>
        <p:blipFill>
          <a:blip r:embed="rId4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80" name="内容占位符 2"/>
          <p:cNvSpPr/>
          <p:nvPr/>
        </p:nvSpPr>
        <p:spPr>
          <a:xfrm>
            <a:off x="871560" y="1482840"/>
            <a:ext cx="76550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却是不看学生的脸。和他们招呼的时候，虽也现出笑容，额上皱纹一蹙（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ù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），脸孔就板起来，并且把脸对着窗外，注视着对面的屋顶，好像他和学生们招呼是很苦的。完了以后，先生又把我们一一地注视，叫我们默写，自己下了讲台在桌位间巡回。看见有一个面上生着红粒的学生，就让他中止默写，两手托了他的头查看，又摸他的额，问他有没有发热。这时先生后面有一个学生乘着先生不看见，跳上椅子玩起洋娃娃来。恰好先生回过头去，那学生就急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9" descr="荣德基.png"/>
          <p:cNvPicPr/>
          <p:nvPr/>
        </p:nvPicPr>
        <p:blipFill>
          <a:blip r:embed="rId2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" descr="学习目标.png"/>
          <p:cNvPicPr/>
          <p:nvPr/>
        </p:nvPicPr>
        <p:blipFill>
          <a:blip r:embed="rId3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" name="矩形 14"/>
          <p:cNvSpPr/>
          <p:nvPr/>
        </p:nvSpPr>
        <p:spPr>
          <a:xfrm>
            <a:off x="1093680" y="168120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1082520" y="2260440"/>
            <a:ext cx="446400" cy="44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6"/>
          <p:cNvSpPr/>
          <p:nvPr/>
        </p:nvSpPr>
        <p:spPr>
          <a:xfrm>
            <a:off x="1092240" y="34052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1082520" y="2840040"/>
            <a:ext cx="44640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1066680" y="1539720"/>
            <a:ext cx="7410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学习本课生字、新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课文内容，体会人物舍己救人的高尚品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领会“英雄不死，精神千秋”的深层含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19" descr=""/>
          <p:cNvPicPr/>
          <p:nvPr/>
        </p:nvPicPr>
        <p:blipFill>
          <a:blip r:embed="rId4"/>
          <a:stretch/>
        </p:blipFill>
        <p:spPr>
          <a:xfrm>
            <a:off x="6448320" y="6419880"/>
            <a:ext cx="2256120" cy="284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0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grpSp>
        <p:nvGrpSpPr>
          <p:cNvPr id="69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70" name="Picture 47" descr="연필"/>
            <p:cNvPicPr/>
            <p:nvPr/>
          </p:nvPicPr>
          <p:blipFill>
            <a:blip r:embed="rId6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3" descr="꽃"/>
            <p:cNvPicPr/>
            <p:nvPr/>
          </p:nvPicPr>
          <p:blipFill>
            <a:blip r:embed="rId7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矩形 18"/>
          <p:cNvSpPr/>
          <p:nvPr/>
        </p:nvSpPr>
        <p:spPr>
          <a:xfrm>
            <a:off x="7970040" y="283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19"/>
          <p:cNvSpPr/>
          <p:nvPr/>
        </p:nvSpPr>
        <p:spPr>
          <a:xfrm>
            <a:off x="7384320" y="340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347760" y="2401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副标题 2"/>
          <p:cNvSpPr/>
          <p:nvPr/>
        </p:nvSpPr>
        <p:spPr>
          <a:xfrm>
            <a:off x="135576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8"/>
          <a:stretch/>
        </p:blipFill>
        <p:spPr>
          <a:xfrm>
            <a:off x="-648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24"/>
          <p:cNvSpPr/>
          <p:nvPr/>
        </p:nvSpPr>
        <p:spPr>
          <a:xfrm>
            <a:off x="755640" y="19526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25"/>
          <p:cNvSpPr/>
          <p:nvPr/>
        </p:nvSpPr>
        <p:spPr>
          <a:xfrm>
            <a:off x="744480" y="253224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6"/>
          <p:cNvSpPr/>
          <p:nvPr/>
        </p:nvSpPr>
        <p:spPr>
          <a:xfrm>
            <a:off x="754200" y="36766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744480" y="31114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728640" y="1811160"/>
            <a:ext cx="7410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学习本课生字、新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课文内容，体会人物舍己救人的高尚品质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44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领会“英雄不死，精神千秋”的深层含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20" descr="热气球.png"/>
          <p:cNvPicPr/>
          <p:nvPr/>
        </p:nvPicPr>
        <p:blipFill>
          <a:blip r:embed="rId9"/>
          <a:stretch/>
        </p:blipFill>
        <p:spPr>
          <a:xfrm>
            <a:off x="8655120" y="6186600"/>
            <a:ext cx="4824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 21"/>
          <p:cNvGrpSpPr/>
          <p:nvPr/>
        </p:nvGrpSpPr>
        <p:grpSpPr>
          <a:xfrm>
            <a:off x="-385920" y="4589640"/>
            <a:ext cx="1660680" cy="2215800"/>
            <a:chOff x="-385920" y="4589640"/>
            <a:chExt cx="1660680" cy="2215800"/>
          </a:xfrm>
        </p:grpSpPr>
        <p:pic>
          <p:nvPicPr>
            <p:cNvPr id="84" name="Picture 47" descr="연필"/>
            <p:cNvPicPr/>
            <p:nvPr/>
          </p:nvPicPr>
          <p:blipFill>
            <a:blip r:embed="rId10"/>
            <a:stretch/>
          </p:blipFill>
          <p:spPr>
            <a:xfrm>
              <a:off x="81360" y="4589640"/>
              <a:ext cx="505440" cy="20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3" descr="꽃"/>
            <p:cNvPicPr/>
            <p:nvPr/>
          </p:nvPicPr>
          <p:blipFill>
            <a:blip r:embed="rId11"/>
            <a:stretch/>
          </p:blipFill>
          <p:spPr>
            <a:xfrm>
              <a:off x="-385920" y="5202720"/>
              <a:ext cx="1660680" cy="160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矩形 34"/>
          <p:cNvSpPr/>
          <p:nvPr/>
        </p:nvSpPr>
        <p:spPr>
          <a:xfrm>
            <a:off x="7632000" y="310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35"/>
          <p:cNvSpPr/>
          <p:nvPr/>
        </p:nvSpPr>
        <p:spPr>
          <a:xfrm>
            <a:off x="7046280" y="367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8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图片 16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87" name="内容占位符 2"/>
          <p:cNvSpPr/>
          <p:nvPr/>
        </p:nvSpPr>
        <p:spPr>
          <a:xfrm>
            <a:off x="901800" y="1522440"/>
            <a:ext cx="7561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忙坐下，俯了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头预备受罚。先生把手按在他的头上，只说：“下次不要再做这种事了！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默写完了，先生又沉默了，看着我们好一会儿，用粗大的亲切的声音这样说：“大家听我说！我们从此要同处一年，让我们好好地过这一年吧！大家要用功，要规矩。我没有一个家属，你们就是我的家属。去年以前，我还有母亲，母亲死了以后，我只有一个人了！你们以外，我没有别的家属在世界上，除了你们，我没有可爱的人！你们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图片 1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9" name="组 12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2" name="图片 16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294" name="内容占位符 2"/>
          <p:cNvSpPr/>
          <p:nvPr/>
        </p:nvSpPr>
        <p:spPr>
          <a:xfrm>
            <a:off x="901800" y="1382760"/>
            <a:ext cx="7561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是我的儿子，我爱你们，请你们也欢喜我！我一个都不愿责罚你们，请将你们的真心给我看看！请你们全班成为一家，给我慰藉（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è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i j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），给我荣耀！我现在并不要你们用口来答应我，我确已知道你们已在心里答应我，‘愿意’了。我感谢你们。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这时校役来通知放学，我们很静很静地离开座位。那个跳上椅子的学生走到先生的身旁，抖抖索索地说：“先生！饶了我这次！”先生用嘴亲着他的额说：“快回去！好孩子！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1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29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图片 26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01" name="圆角矩形 12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14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国学诵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304" name="内容占位符 2"/>
          <p:cNvSpPr/>
          <p:nvPr/>
        </p:nvSpPr>
        <p:spPr>
          <a:xfrm>
            <a:off x="1285920" y="2217600"/>
            <a:ext cx="69040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浩荡离愁白日斜，吟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biān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东指即天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落红不是无情物，化作春泥更护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己亥杂诗》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gō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相见时难别亦难，东风无力百花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春蚕到死丝方尽，蜡炬成灰泪始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4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无题》李商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6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 17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0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9" name="图片 25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11" name="圆角矩形 12"/>
          <p:cNvSpPr/>
          <p:nvPr/>
        </p:nvSpPr>
        <p:spPr>
          <a:xfrm>
            <a:off x="1195560" y="1486080"/>
            <a:ext cx="30542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14"/>
          <p:cNvSpPr/>
          <p:nvPr/>
        </p:nvSpPr>
        <p:spPr>
          <a:xfrm>
            <a:off x="1473120" y="14860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走进中国传统文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314" name="内容占位符 2"/>
          <p:cNvSpPr/>
          <p:nvPr/>
        </p:nvSpPr>
        <p:spPr>
          <a:xfrm>
            <a:off x="1036800" y="2176560"/>
            <a:ext cx="766764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赞教师趣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联：尺子一把，心中自有曲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联：粉笔几支，眼前早有横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联：站三尺讲台，传李杜韩柳诗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联：握一支粉笔，授孔孟老庄学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15" descr=""/>
          <p:cNvPicPr/>
          <p:nvPr/>
        </p:nvPicPr>
        <p:blipFill>
          <a:blip r:embed="rId1"/>
          <a:stretch/>
        </p:blipFill>
        <p:spPr>
          <a:xfrm>
            <a:off x="9360" y="-144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6" name="组 2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1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9" name="图片 24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21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3"/>
          <p:cNvGrpSpPr/>
          <p:nvPr/>
        </p:nvGrpSpPr>
        <p:grpSpPr>
          <a:xfrm>
            <a:off x="946080" y="1827360"/>
            <a:ext cx="7554960" cy="2837160"/>
            <a:chOff x="946080" y="1827360"/>
            <a:chExt cx="7554960" cy="2837160"/>
          </a:xfrm>
        </p:grpSpPr>
        <p:sp>
          <p:nvSpPr>
            <p:cNvPr id="323" name="矩形 19"/>
            <p:cNvSpPr/>
            <p:nvPr/>
          </p:nvSpPr>
          <p:spPr>
            <a:xfrm>
              <a:off x="946080" y="1920960"/>
              <a:ext cx="44604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矩形 9"/>
            <p:cNvSpPr/>
            <p:nvPr/>
          </p:nvSpPr>
          <p:spPr>
            <a:xfrm>
              <a:off x="1301400" y="1827360"/>
              <a:ext cx="71996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93880" indent="-89388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废墟：城市、村庄遭受破坏或灾难后变成的荒凉地方。本文指遭受地震破坏的地方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893880" indent="-89388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坍塌：倒下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893880" indent="-89388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震撼：震动；摇撼。本文指当人们看到谭千秋老师救护学生那一场景时，心灵受到的冲击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893880" indent="-89388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诠释：说明；解释。本文取本义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893880" indent="-89388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生死攸关：关系到人的生存和死亡。本文取本义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946080" y="1265400"/>
            <a:ext cx="7307280" cy="642600"/>
            <a:chOff x="946080" y="1265400"/>
            <a:chExt cx="7307280" cy="642600"/>
          </a:xfrm>
        </p:grpSpPr>
        <p:sp>
          <p:nvSpPr>
            <p:cNvPr id="326" name="矩形 17"/>
            <p:cNvSpPr/>
            <p:nvPr/>
          </p:nvSpPr>
          <p:spPr>
            <a:xfrm>
              <a:off x="946080" y="1395360"/>
              <a:ext cx="44604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矩形 1"/>
            <p:cNvSpPr/>
            <p:nvPr/>
          </p:nvSpPr>
          <p:spPr>
            <a:xfrm>
              <a:off x="1311120" y="1265400"/>
              <a:ext cx="694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12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9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3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图片 21" descr=""/>
          <p:cNvPicPr/>
          <p:nvPr/>
        </p:nvPicPr>
        <p:blipFill>
          <a:blip r:embed="rId4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组合 2"/>
          <p:cNvGrpSpPr/>
          <p:nvPr/>
        </p:nvGrpSpPr>
        <p:grpSpPr>
          <a:xfrm>
            <a:off x="582480" y="1174680"/>
            <a:ext cx="7358040" cy="551160"/>
            <a:chOff x="582480" y="1174680"/>
            <a:chExt cx="7358040" cy="551160"/>
          </a:xfrm>
        </p:grpSpPr>
        <p:sp>
          <p:nvSpPr>
            <p:cNvPr id="336" name="矩形 4"/>
            <p:cNvSpPr/>
            <p:nvPr/>
          </p:nvSpPr>
          <p:spPr>
            <a:xfrm>
              <a:off x="582480" y="1224360"/>
              <a:ext cx="446040" cy="44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矩形 1"/>
            <p:cNvSpPr/>
            <p:nvPr/>
          </p:nvSpPr>
          <p:spPr>
            <a:xfrm>
              <a:off x="998280" y="1174680"/>
              <a:ext cx="6942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略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14"/>
          <p:cNvGrpSpPr/>
          <p:nvPr/>
        </p:nvGrpSpPr>
        <p:grpSpPr>
          <a:xfrm>
            <a:off x="574560" y="1708200"/>
            <a:ext cx="7917120" cy="1465560"/>
            <a:chOff x="574560" y="1708200"/>
            <a:chExt cx="7917120" cy="1465560"/>
          </a:xfrm>
        </p:grpSpPr>
        <p:sp>
          <p:nvSpPr>
            <p:cNvPr id="339" name="矩形 15"/>
            <p:cNvSpPr/>
            <p:nvPr/>
          </p:nvSpPr>
          <p:spPr>
            <a:xfrm>
              <a:off x="574560" y="1778400"/>
              <a:ext cx="446040" cy="446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"/>
            <p:cNvSpPr/>
            <p:nvPr/>
          </p:nvSpPr>
          <p:spPr>
            <a:xfrm>
              <a:off x="979200" y="1708200"/>
              <a:ext cx="7512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人民教师张米亚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摘下我的翅膀，送给你飞翔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当汶川县映秀镇的群众徒手搬开垮塌的镇小学教学楼的一角时，被眼前的一幕惊呆了：一名男子跪扑在废墟上，双臂紧紧搂着两个孩子，两个孩子还活着，而他已经气绝！由于紧抱孩子的手臂已经僵硬，救援人员只得含泪将之锯掉才把孩子救出。这就是该校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2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岁的老师张米亚。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摘下我的翅膀，送给你飞翔。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多才多艺、最爱唱歌的张米亚老师用生命诠释了这句歌词，用血肉之躯为他的学生牢牢把守住了生命之门。飞翔。”多才多艺、最爱唱歌的张米亚老师用生命诠释了这句歌词，用血肉之躯为他的学生牢牢把守住了生命之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2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4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46" name="矩形 3"/>
          <p:cNvSpPr/>
          <p:nvPr/>
        </p:nvSpPr>
        <p:spPr>
          <a:xfrm>
            <a:off x="617400" y="1206360"/>
            <a:ext cx="7883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给划线字选择正确的读音，打“√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洗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h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下去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ā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诠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hì  s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塌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ān d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二、把下列词语补充完整，再选择合适的词语用到下面的句子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大公无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生死（   ）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地动山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血肉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场车祸是因为“酒驾”造成的，遇难者已被车轮碾压得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，惨不忍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托举着“神舟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号飞船的火箭，在（          ）的轰鸣声中腾空而起，直指苍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遵义会议是我党历史上（          ）的转折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2069280" y="178272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30"/>
          <p:cNvSpPr/>
          <p:nvPr/>
        </p:nvSpPr>
        <p:spPr>
          <a:xfrm>
            <a:off x="4286880" y="176220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31"/>
          <p:cNvSpPr/>
          <p:nvPr/>
        </p:nvSpPr>
        <p:spPr>
          <a:xfrm>
            <a:off x="2019240" y="222408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32"/>
          <p:cNvSpPr/>
          <p:nvPr/>
        </p:nvSpPr>
        <p:spPr>
          <a:xfrm>
            <a:off x="4105440" y="221292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√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33"/>
          <p:cNvSpPr/>
          <p:nvPr/>
        </p:nvSpPr>
        <p:spPr>
          <a:xfrm>
            <a:off x="1648800" y="3132000"/>
            <a:ext cx="5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34"/>
          <p:cNvSpPr/>
          <p:nvPr/>
        </p:nvSpPr>
        <p:spPr>
          <a:xfrm>
            <a:off x="3079080" y="3132000"/>
            <a:ext cx="5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35"/>
          <p:cNvSpPr/>
          <p:nvPr/>
        </p:nvSpPr>
        <p:spPr>
          <a:xfrm>
            <a:off x="5130000" y="3132000"/>
            <a:ext cx="5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36"/>
          <p:cNvSpPr/>
          <p:nvPr/>
        </p:nvSpPr>
        <p:spPr>
          <a:xfrm>
            <a:off x="6507360" y="3117960"/>
            <a:ext cx="5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37"/>
          <p:cNvSpPr/>
          <p:nvPr/>
        </p:nvSpPr>
        <p:spPr>
          <a:xfrm>
            <a:off x="1096200" y="4040280"/>
            <a:ext cx="98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sz="2000" spc="-1" strike="noStrike">
                <a:solidFill>
                  <a:srgbClr val="ff0000"/>
                </a:solidFill>
                <a:latin typeface="宋体"/>
                <a:ea typeface="宋体"/>
              </a:rPr>
              <a:t>血肉模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9"/>
          <p:cNvSpPr/>
          <p:nvPr/>
        </p:nvSpPr>
        <p:spPr>
          <a:xfrm>
            <a:off x="5437080" y="4419720"/>
            <a:ext cx="1484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地动山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20"/>
          <p:cNvSpPr/>
          <p:nvPr/>
        </p:nvSpPr>
        <p:spPr>
          <a:xfrm>
            <a:off x="4011480" y="5332320"/>
            <a:ext cx="1484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生死攸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0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61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3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64" name="矩形 3"/>
          <p:cNvSpPr/>
          <p:nvPr/>
        </p:nvSpPr>
        <p:spPr>
          <a:xfrm>
            <a:off x="965160" y="128592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搜集资料，回答问题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谭千秋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人，是四川绵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学的一名老师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年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月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日，汶川发生里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.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级大地震，波及绵竹。正在上课的谭老师双手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课桌上，护卫着课桌下的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名学生，学生得救了，谭老师却走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66" name="矩形 14"/>
          <p:cNvSpPr/>
          <p:nvPr/>
        </p:nvSpPr>
        <p:spPr>
          <a:xfrm>
            <a:off x="7015320" y="1811160"/>
            <a:ext cx="10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东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5"/>
          <p:cNvSpPr/>
          <p:nvPr/>
        </p:nvSpPr>
        <p:spPr>
          <a:xfrm>
            <a:off x="2496960" y="1808280"/>
            <a:ext cx="24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湖南省祁东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16"/>
          <p:cNvSpPr/>
          <p:nvPr/>
        </p:nvSpPr>
        <p:spPr>
          <a:xfrm>
            <a:off x="3589200" y="237168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17"/>
          <p:cNvSpPr/>
          <p:nvPr/>
        </p:nvSpPr>
        <p:spPr>
          <a:xfrm>
            <a:off x="5354640" y="2451240"/>
            <a:ext cx="3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18"/>
          <p:cNvSpPr/>
          <p:nvPr/>
        </p:nvSpPr>
        <p:spPr>
          <a:xfrm>
            <a:off x="6381720" y="2371680"/>
            <a:ext cx="6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19"/>
          <p:cNvSpPr/>
          <p:nvPr/>
        </p:nvSpPr>
        <p:spPr>
          <a:xfrm>
            <a:off x="1522440" y="347976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撑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0"/>
          <p:cNvSpPr/>
          <p:nvPr/>
        </p:nvSpPr>
        <p:spPr>
          <a:xfrm>
            <a:off x="6381720" y="3479760"/>
            <a:ext cx="3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4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7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7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78" name="矩形 3"/>
          <p:cNvSpPr/>
          <p:nvPr/>
        </p:nvSpPr>
        <p:spPr>
          <a:xfrm>
            <a:off x="785880" y="1249200"/>
            <a:ext cx="771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阅读课文片段，完成练习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生眼里，谭老师讲课绘声绘色，不仅妙语连珠，而且很有幽默感。然而，同学们再也听不到谭老师的声音了，讲台上再也见不到那个充满活力的身影了。张开双臂，护住学生，成了他生命中最后的姿势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谭千秋，一位普通的老师，他用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的宝贵生命诠释了爱与责任的师德灵魂。人们赞颂他：“英雄不死，精神千秋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图片 12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1" name="组 14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38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4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385" name="矩形 3"/>
          <p:cNvSpPr/>
          <p:nvPr/>
        </p:nvSpPr>
        <p:spPr>
          <a:xfrm>
            <a:off x="695160" y="1179360"/>
            <a:ext cx="79455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生命中最后的姿势”指的是什么？它蕴含了谭千秋怎样的精神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张开双臂，护住学生；蕴含了谭千秋舍己为人的精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请你分析“英雄不死，精神千秋”这句赞语妙在哪里？并说说你对这句话的理解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这句话既赞颂了谭千秋老师爱护学生、舍己为人的精神，又巧妙地把谭老师的名字“千秋”两个字融入其中，表达了他的精神千秋万世流传的意思；我对这句话的理解是：谭千秋老师用生命呵护学生、舍己为人的精神永远活在中国人民的心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图片 17" descr=""/>
          <p:cNvPicPr/>
          <p:nvPr/>
        </p:nvPicPr>
        <p:blipFill>
          <a:blip r:embed="rId5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0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组 21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28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94" name="圆角矩形 15"/>
          <p:cNvSpPr/>
          <p:nvPr/>
        </p:nvSpPr>
        <p:spPr>
          <a:xfrm>
            <a:off x="1195560" y="1486080"/>
            <a:ext cx="20890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16"/>
          <p:cNvSpPr/>
          <p:nvPr/>
        </p:nvSpPr>
        <p:spPr>
          <a:xfrm>
            <a:off x="1473120" y="1486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分类学生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1073160" y="2050920"/>
            <a:ext cx="7459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结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体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宋体"/>
                <a:ea typeface="Adobe 黑体 Std R"/>
              </a:rPr>
              <a:t>多音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</a:t>
            </a:r>
            <a:r>
              <a:rPr b="1" lang="it-IT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ó</a:t>
            </a:r>
            <a:r>
              <a:rPr b="1" lang="it-IT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ú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àn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ǎn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23" descr="花盆.png"/>
          <p:cNvPicPr/>
          <p:nvPr/>
        </p:nvPicPr>
        <p:blipFill>
          <a:blip r:embed="rId7"/>
          <a:stretch/>
        </p:blipFill>
        <p:spPr>
          <a:xfrm>
            <a:off x="853920" y="386388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99" name="矩形 18"/>
          <p:cNvSpPr/>
          <p:nvPr/>
        </p:nvSpPr>
        <p:spPr>
          <a:xfrm>
            <a:off x="3043800" y="218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谭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3528000" y="2179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漱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0"/>
          <p:cNvSpPr/>
          <p:nvPr/>
        </p:nvSpPr>
        <p:spPr>
          <a:xfrm>
            <a:off x="4007520" y="2182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吱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4480560" y="2185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嘘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2925000" y="272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7"/>
          <p:cNvSpPr/>
          <p:nvPr/>
        </p:nvSpPr>
        <p:spPr>
          <a:xfrm>
            <a:off x="3165120" y="4863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散心、散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6350760" y="4344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装模作样、模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9"/>
          <p:cNvSpPr/>
          <p:nvPr/>
        </p:nvSpPr>
        <p:spPr>
          <a:xfrm>
            <a:off x="3105000" y="4321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模范、模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4306680" y="218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4905360" y="2182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撼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349600" y="21844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诠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5753160" y="2176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释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6207120" y="2178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塌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6494400" y="2179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4"/>
          <p:cNvSpPr/>
          <p:nvPr/>
        </p:nvSpPr>
        <p:spPr>
          <a:xfrm>
            <a:off x="2595600" y="3282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7"/>
          <p:cNvSpPr/>
          <p:nvPr/>
        </p:nvSpPr>
        <p:spPr>
          <a:xfrm>
            <a:off x="5920200" y="489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散文、散漫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1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图片 23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理解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4"/>
          <p:cNvSpPr/>
          <p:nvPr/>
        </p:nvSpPr>
        <p:spPr>
          <a:xfrm>
            <a:off x="1073160" y="2050920"/>
            <a:ext cx="759780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废墟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针锋相对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绘声绘色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妙语连珠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诠释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1881360" y="2077920"/>
            <a:ext cx="6580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城市、村庄遭受破坏或灾害后变成的荒凉地方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针尖对针尖，比喻双方策略、论点等尖锐地对立。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形容叙述、描写生动逼真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形容精彩的话语一句接着一句，好像珠子串在一起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说明，解释。本课指谭千秋老师用生命解释了爱与责任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7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 23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28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图片 26" descr=""/>
          <p:cNvPicPr/>
          <p:nvPr/>
        </p:nvPicPr>
        <p:blipFill>
          <a:blip r:embed="rId4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32" name="圆角矩形 19"/>
          <p:cNvSpPr/>
          <p:nvPr/>
        </p:nvSpPr>
        <p:spPr>
          <a:xfrm>
            <a:off x="1195560" y="1486080"/>
            <a:ext cx="180648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20"/>
          <p:cNvSpPr/>
          <p:nvPr/>
        </p:nvSpPr>
        <p:spPr>
          <a:xfrm>
            <a:off x="1473120" y="1486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辨析词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9" descr=""/>
          <p:cNvPicPr/>
          <p:nvPr/>
        </p:nvPicPr>
        <p:blipFill>
          <a:blip r:embed="rId6"/>
          <a:stretch/>
        </p:blipFill>
        <p:spPr>
          <a:xfrm>
            <a:off x="360360" y="135108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35" name="矩形 1"/>
          <p:cNvSpPr/>
          <p:nvPr/>
        </p:nvSpPr>
        <p:spPr>
          <a:xfrm>
            <a:off x="3048840" y="218772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震撼       　震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2"/>
          <p:cNvSpPr/>
          <p:nvPr/>
        </p:nvSpPr>
        <p:spPr>
          <a:xfrm>
            <a:off x="2122560" y="2684520"/>
            <a:ext cx="75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都有“撼动”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 15" descr=""/>
          <p:cNvPicPr/>
          <p:nvPr/>
        </p:nvPicPr>
        <p:blipFill>
          <a:blip r:embed="rId7"/>
          <a:stretch/>
        </p:blipFill>
        <p:spPr>
          <a:xfrm>
            <a:off x="731880" y="2841480"/>
            <a:ext cx="322200" cy="370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6" descr=""/>
          <p:cNvPicPr/>
          <p:nvPr/>
        </p:nvPicPr>
        <p:blipFill>
          <a:blip r:embed="rId8"/>
          <a:stretch/>
        </p:blipFill>
        <p:spPr>
          <a:xfrm>
            <a:off x="731880" y="3340080"/>
            <a:ext cx="322200" cy="3700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6" descr=""/>
          <p:cNvPicPr/>
          <p:nvPr/>
        </p:nvPicPr>
        <p:blipFill>
          <a:blip r:embed="rId9"/>
          <a:stretch/>
        </p:blipFill>
        <p:spPr>
          <a:xfrm>
            <a:off x="731880" y="498960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1860480" y="4890960"/>
            <a:ext cx="6183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房屋震动了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舍己为人的精神令人震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1185480" y="495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造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2023920" y="3179880"/>
            <a:ext cx="664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震动”指受外力的影响而颤动，或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重大事情、消息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使人心不平静；而“震撼”着重指某事物或某场景对人们或世界造成的影响之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1247760" y="33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同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1247760" y="276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相同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4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 15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4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图片 22" descr="热气球.png"/>
          <p:cNvPicPr/>
          <p:nvPr/>
        </p:nvPicPr>
        <p:blipFill>
          <a:blip r:embed="rId4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7"/>
          <p:cNvSpPr/>
          <p:nvPr/>
        </p:nvSpPr>
        <p:spPr>
          <a:xfrm>
            <a:off x="-1015920" y="2085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24" descr="花盆.png"/>
          <p:cNvPicPr/>
          <p:nvPr/>
        </p:nvPicPr>
        <p:blipFill>
          <a:blip r:embed="rId5"/>
          <a:stretch/>
        </p:blipFill>
        <p:spPr>
          <a:xfrm>
            <a:off x="789120" y="1789200"/>
            <a:ext cx="322200" cy="369720"/>
          </a:xfrm>
          <a:prstGeom prst="rect">
            <a:avLst/>
          </a:prstGeom>
          <a:ln w="0">
            <a:noFill/>
          </a:ln>
        </p:spPr>
      </p:pic>
      <p:sp>
        <p:nvSpPr>
          <p:cNvPr id="152" name="内容占位符 2"/>
          <p:cNvSpPr/>
          <p:nvPr/>
        </p:nvSpPr>
        <p:spPr>
          <a:xfrm>
            <a:off x="1057320" y="1187280"/>
            <a:ext cx="741348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  <a:ea typeface="Adobe 楷体 Std R"/>
              </a:rPr>
              <a:t>请同学们带着以下问题读课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读完课文，你读出了一个怎样废谭老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课文写了什么人什么事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最后的姿势”是一个怎样的姿势？体现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中的环境描写有什么作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文中引用三位人物的话语，有什么作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39" descr=""/>
          <p:cNvPicPr/>
          <p:nvPr/>
        </p:nvPicPr>
        <p:blipFill>
          <a:blip r:embed="rId6"/>
          <a:stretch/>
        </p:blipFill>
        <p:spPr>
          <a:xfrm>
            <a:off x="2308320" y="363600"/>
            <a:ext cx="4538520" cy="5349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4" descr="花盆.png"/>
          <p:cNvPicPr/>
          <p:nvPr/>
        </p:nvPicPr>
        <p:blipFill>
          <a:blip r:embed="rId7"/>
          <a:stretch/>
        </p:blipFill>
        <p:spPr>
          <a:xfrm>
            <a:off x="792000" y="2841480"/>
            <a:ext cx="3225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6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5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61" name="圆角矩形 19"/>
          <p:cNvSpPr/>
          <p:nvPr/>
        </p:nvSpPr>
        <p:spPr>
          <a:xfrm>
            <a:off x="3502080" y="1386000"/>
            <a:ext cx="235116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ddbe9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fce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20"/>
          <p:cNvSpPr/>
          <p:nvPr/>
        </p:nvSpPr>
        <p:spPr>
          <a:xfrm>
            <a:off x="3781440" y="1386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课文理解品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图片 9" descr=""/>
          <p:cNvPicPr/>
          <p:nvPr/>
        </p:nvPicPr>
        <p:blipFill>
          <a:blip r:embed="rId6"/>
          <a:stretch/>
        </p:blipFill>
        <p:spPr>
          <a:xfrm>
            <a:off x="2666880" y="125100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"/>
          <p:cNvSpPr/>
          <p:nvPr/>
        </p:nvSpPr>
        <p:spPr>
          <a:xfrm>
            <a:off x="1003320" y="2050920"/>
            <a:ext cx="74772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下午两点多，谭老师在教室上课。这堂课上，他给学生们讲“人生的价值”。“人生的价值是什么？是大公无私，是为他人着想，为集体着想，为国家着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谭老师给学生讲述“人生的价值”这段话，是他的“言传”，既是他对学生进行的思想教育，也为下文写他的“身教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危难之际作出的抉择埋下了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伏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他用自己的生命诠释了“人生的价值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5" descr="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6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图片 20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1"/>
          <p:cNvSpPr/>
          <p:nvPr/>
        </p:nvSpPr>
        <p:spPr>
          <a:xfrm>
            <a:off x="914400" y="1216080"/>
            <a:ext cx="750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判断伏笔的方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23"/>
          <p:cNvSpPr/>
          <p:nvPr/>
        </p:nvSpPr>
        <p:spPr>
          <a:xfrm>
            <a:off x="1087560" y="2206800"/>
            <a:ext cx="7462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章或文艺作品中，前面某些段落为后段所作的提示或暗示，是谋篇布局上的技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效果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文章前后照应，结构严谨；让读者看到下文时，不至于感到突兀、疑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窍门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从形式来看，伏笔一般言语不多，有隐含性，不注意看不出来，所以，伏笔一般是“细节”； 从运用来看，运用伏笔的上文与下文照应的“点”有一段距离，甚至是文首与文尾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7"/>
          <p:cNvSpPr/>
          <p:nvPr/>
        </p:nvSpPr>
        <p:spPr>
          <a:xfrm>
            <a:off x="878040" y="2023920"/>
            <a:ext cx="7472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片 24" descr="花盆.png"/>
          <p:cNvPicPr/>
          <p:nvPr/>
        </p:nvPicPr>
        <p:blipFill>
          <a:blip r:embed="rId6"/>
          <a:stretch/>
        </p:blipFill>
        <p:spPr>
          <a:xfrm>
            <a:off x="866880" y="231444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25" descr="花盆.png"/>
          <p:cNvPicPr/>
          <p:nvPr/>
        </p:nvPicPr>
        <p:blipFill>
          <a:blip r:embed="rId7"/>
          <a:stretch/>
        </p:blipFill>
        <p:spPr>
          <a:xfrm>
            <a:off x="878040" y="33274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25" descr="花盆.png"/>
          <p:cNvPicPr/>
          <p:nvPr/>
        </p:nvPicPr>
        <p:blipFill>
          <a:blip r:embed="rId8"/>
          <a:stretch/>
        </p:blipFill>
        <p:spPr>
          <a:xfrm>
            <a:off x="853920" y="4354560"/>
            <a:ext cx="3225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5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 16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179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图片 24" descr=""/>
          <p:cNvPicPr/>
          <p:nvPr/>
        </p:nvPicPr>
        <p:blipFill>
          <a:blip r:embed="rId4"/>
          <a:stretch/>
        </p:blipFill>
        <p:spPr>
          <a:xfrm>
            <a:off x="3284640" y="33192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2" descr="热气球.png"/>
          <p:cNvPicPr/>
          <p:nvPr/>
        </p:nvPicPr>
        <p:blipFill>
          <a:blip r:embed="rId5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2"/>
          <p:cNvSpPr/>
          <p:nvPr/>
        </p:nvSpPr>
        <p:spPr>
          <a:xfrm>
            <a:off x="1003320" y="1479600"/>
            <a:ext cx="74772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楼房摇晃得越来越厉害了，并伴随着刺耳的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zhī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吱声，外面阵阵尘埃腾空而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感觉、听觉、视觉三个角度，再现了地震发生时的环境，突出了灾情的危急，从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宋体"/>
                <a:hlinkClick r:id="rId6"/>
              </a:rPr>
              <a:t>侧面烘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谭老师的光辉形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pple apple</dc:creator>
  <dc:description/>
  <cp:keywords/>
  <dc:language>en-US</dc:language>
  <cp:lastModifiedBy>chicken君</cp:lastModifiedBy>
  <dcterms:modified xsi:type="dcterms:W3CDTF">2017-11-11T10:16:23Z</dcterms:modified>
  <cp:revision>2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