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8496-7F5F-40BB-81A5-87263A06B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641C-3331-4C18-A36A-5D96427C03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E5AE-2A2A-4F7B-997F-8C21FE916E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F353-2C72-4CB9-B0ED-582BF4DDD9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F51EB-40A9-4C34-A4C1-1E7065EBC7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25C-6867-4765-B9A0-C00E8837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9F9-A618-4113-9689-353CE686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6D1-36B7-497D-B460-30D06E4E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5FD-3468-4EB4-98AF-0F795563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119-1582-4105-AD01-5359E843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B56-2484-4BC5-84B8-59294306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AFB-2ABC-4902-95EE-BE0E5CD8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8E2-0D6F-4C67-90BF-ABCC17A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E4C-CF03-45AD-B191-E8BB969D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5C6-805C-49A3-81C4-3F18DF8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266-B07D-44F1-880A-CB8D561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B0F-926E-4DB4-A4BE-890E885F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728A-0352-4CD9-8C28-A9158835A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2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287440" y="934920"/>
            <a:ext cx="623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Calibri"/>
                <a:ea typeface="黑体"/>
              </a:rPr>
              <a:t>养成读报的好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1"/>
          <p:cNvSpPr/>
          <p:nvPr/>
        </p:nvSpPr>
        <p:spPr>
          <a:xfrm>
            <a:off x="958680" y="17082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1081080" y="685800"/>
            <a:ext cx="1281240" cy="1295280"/>
          </a:xfrm>
          <a:prstGeom prst="diamond">
            <a:avLst/>
          </a:prstGeom>
          <a:solidFill>
            <a:srgbClr val="236b2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1242000" y="863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2" descr=""/>
          <p:cNvPicPr/>
          <p:nvPr/>
        </p:nvPicPr>
        <p:blipFill>
          <a:blip r:embed="rId4"/>
          <a:stretch/>
        </p:blipFill>
        <p:spPr>
          <a:xfrm>
            <a:off x="1944720" y="2017800"/>
            <a:ext cx="57974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6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图片 17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2"/>
          <p:cNvSpPr/>
          <p:nvPr/>
        </p:nvSpPr>
        <p:spPr>
          <a:xfrm>
            <a:off x="838080" y="11430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经常读报的人都知道，我们并不需要每天去细读每个版面。拿到报纸，我们可以先扫描式地将重要新闻和主要标题过一过目，然后再选择自己感兴趣的内容细读一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然后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一表示承接关系的句子，写出了读报的次序。让我们知道：面对报纸那么多的版面，在阅读时要讲究方法，并不需要面面俱到，可以根据自己的兴趣和需要进行选择，将精读和略读结合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9" descr="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组 2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7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图片 24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74" name="矩形 11"/>
          <p:cNvSpPr/>
          <p:nvPr/>
        </p:nvSpPr>
        <p:spPr>
          <a:xfrm>
            <a:off x="1224000" y="1603440"/>
            <a:ext cx="70819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65a"/>
                </a:solidFill>
                <a:latin typeface="宋体"/>
                <a:ea typeface="Adobe 黑体 Std R"/>
              </a:rPr>
              <a:t>拓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觉得还要培养哪些好习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6" descr="花盆.png"/>
          <p:cNvPicPr/>
          <p:nvPr/>
        </p:nvPicPr>
        <p:blipFill>
          <a:blip r:embed="rId6"/>
          <a:stretch/>
        </p:blipFill>
        <p:spPr>
          <a:xfrm>
            <a:off x="880920" y="1758960"/>
            <a:ext cx="324000" cy="36828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7" descr=""/>
          <p:cNvPicPr/>
          <p:nvPr/>
        </p:nvPicPr>
        <p:blipFill>
          <a:blip r:embed="rId7"/>
          <a:stretch/>
        </p:blipFill>
        <p:spPr>
          <a:xfrm>
            <a:off x="839880" y="298440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77" name="矩形 1"/>
          <p:cNvSpPr/>
          <p:nvPr/>
        </p:nvSpPr>
        <p:spPr>
          <a:xfrm>
            <a:off x="1189080" y="2852640"/>
            <a:ext cx="566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主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积极独立思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每天预习复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有自己的独立见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阅读科普读物与文学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9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8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1" descr="花盆.png"/>
          <p:cNvPicPr/>
          <p:nvPr/>
        </p:nvPicPr>
        <p:blipFill>
          <a:blip r:embed="rId5"/>
          <a:stretch/>
        </p:blipFill>
        <p:spPr>
          <a:xfrm>
            <a:off x="731880" y="1666800"/>
            <a:ext cx="323640" cy="37008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990720" y="1519200"/>
            <a:ext cx="7416720" cy="42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6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sp>
        <p:nvSpPr>
          <p:cNvPr id="186" name="矩形 1"/>
          <p:cNvSpPr/>
          <p:nvPr/>
        </p:nvSpPr>
        <p:spPr>
          <a:xfrm>
            <a:off x="960480" y="2057400"/>
            <a:ext cx="75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为什么要养成读报的好习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读报不但可以丰富我们的知识，开阔我们的眼界，而且每天报纸的新内容都会给我们新的感受、新的启示。让我们养成读报的好习惯，在读报中开阔视野、在读报中陶冶性情，让报纸伴随我们走向文明，走向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8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92" name="内容占位符 2"/>
          <p:cNvSpPr/>
          <p:nvPr/>
        </p:nvSpPr>
        <p:spPr>
          <a:xfrm>
            <a:off x="1050840" y="1082520"/>
            <a:ext cx="7002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19" descr=""/>
          <p:cNvPicPr/>
          <p:nvPr/>
        </p:nvPicPr>
        <p:blipFill>
          <a:blip r:embed="rId5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1" descr="花盆.png"/>
          <p:cNvPicPr/>
          <p:nvPr/>
        </p:nvPicPr>
        <p:blipFill>
          <a:blip r:embed="rId6"/>
          <a:stretch/>
        </p:blipFill>
        <p:spPr>
          <a:xfrm>
            <a:off x="762120" y="1235160"/>
            <a:ext cx="323640" cy="3697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790560" y="1590840"/>
            <a:ext cx="778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报纸上有什么东西令人着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</a:rPr>
              <a:t>报纸上形形色色的消息，五花八门的知识，能满足人们的不同需求，所以十分令人着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应该怎样读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</a:rPr>
              <a:t>拿到报纸，我们可以先扫描式地将重要新闻和主要标题过一过目，然后再选择自己感兴趣的内容细读一番。读报的时候还要注意文明，爱护报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经常读报有哪些好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</a:rPr>
              <a:t>经常读报，不仅乐趣无穷，而且能开阔视野，陶冶性情，有的人因此走上了成功之路。同时会和大千世界息息相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7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组 19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9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图片 24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26"/>
          <p:cNvSpPr/>
          <p:nvPr/>
        </p:nvSpPr>
        <p:spPr>
          <a:xfrm>
            <a:off x="1076040" y="107928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养成读报的好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"/>
          <p:cNvSpPr/>
          <p:nvPr/>
        </p:nvSpPr>
        <p:spPr>
          <a:xfrm>
            <a:off x="1913040" y="2013120"/>
            <a:ext cx="20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读报的重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左大括号 2"/>
          <p:cNvSpPr/>
          <p:nvPr/>
        </p:nvSpPr>
        <p:spPr>
          <a:xfrm>
            <a:off x="1766880" y="2114640"/>
            <a:ext cx="146160" cy="2857320"/>
          </a:xfrm>
          <a:custGeom>
            <a:avLst/>
            <a:gdLst>
              <a:gd name="textAreaLeft" fmla="*/ 93600 w 146160"/>
              <a:gd name="textAreaRight" fmla="*/ 146520 w 146160"/>
              <a:gd name="textAreaTop" fmla="*/ 3600 h 2857320"/>
              <a:gd name="textAreaBottom" fmla="*/ 2853720 h 28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08"/>
                </a:lnTo>
                <a:cubicBezTo>
                  <a:pt x="10800" y="10754"/>
                  <a:pt x="5400" y="10800"/>
                  <a:pt x="0" y="10800"/>
                </a:cubicBezTo>
                <a:cubicBezTo>
                  <a:pt x="5400" y="10800"/>
                  <a:pt x="10800" y="10846"/>
                  <a:pt x="10800" y="1089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"/>
          <p:cNvSpPr/>
          <p:nvPr/>
        </p:nvSpPr>
        <p:spPr>
          <a:xfrm>
            <a:off x="2223360" y="3505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读报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左大括号 25"/>
          <p:cNvSpPr/>
          <p:nvPr/>
        </p:nvSpPr>
        <p:spPr>
          <a:xfrm>
            <a:off x="3630600" y="3432240"/>
            <a:ext cx="76320" cy="758880"/>
          </a:xfrm>
          <a:custGeom>
            <a:avLst/>
            <a:gdLst>
              <a:gd name="textAreaLeft" fmla="*/ 48960 w 76320"/>
              <a:gd name="textAreaRight" fmla="*/ 76320 w 76320"/>
              <a:gd name="textAreaTop" fmla="*/ 1080 h 758880"/>
              <a:gd name="textAreaBottom" fmla="*/ 757800 h 75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1"/>
                </a:cubicBezTo>
                <a:lnTo>
                  <a:pt x="10800" y="10689"/>
                </a:lnTo>
                <a:cubicBezTo>
                  <a:pt x="10800" y="10745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1"/>
                </a:cubicBezTo>
                <a:lnTo>
                  <a:pt x="10800" y="21489"/>
                </a:lnTo>
                <a:cubicBezTo>
                  <a:pt x="10800" y="2154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9"/>
          <p:cNvSpPr/>
          <p:nvPr/>
        </p:nvSpPr>
        <p:spPr>
          <a:xfrm>
            <a:off x="4525560" y="1676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想吃饭一样必不可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9"/>
          <p:cNvSpPr/>
          <p:nvPr/>
        </p:nvSpPr>
        <p:spPr>
          <a:xfrm>
            <a:off x="3962520" y="2246400"/>
            <a:ext cx="35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内容丰富  不可不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"/>
          <p:cNvSpPr/>
          <p:nvPr/>
        </p:nvSpPr>
        <p:spPr>
          <a:xfrm>
            <a:off x="1857240" y="4724280"/>
            <a:ext cx="17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养成好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9"/>
          <p:cNvSpPr/>
          <p:nvPr/>
        </p:nvSpPr>
        <p:spPr>
          <a:xfrm>
            <a:off x="3678120" y="315288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精度与略读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9"/>
          <p:cNvSpPr/>
          <p:nvPr/>
        </p:nvSpPr>
        <p:spPr>
          <a:xfrm>
            <a:off x="3656160" y="3733920"/>
            <a:ext cx="45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讲究文明：爱护报纸、卫生读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左大括号 32"/>
          <p:cNvSpPr/>
          <p:nvPr/>
        </p:nvSpPr>
        <p:spPr>
          <a:xfrm>
            <a:off x="3924360" y="1927080"/>
            <a:ext cx="81000" cy="739800"/>
          </a:xfrm>
          <a:custGeom>
            <a:avLst/>
            <a:gdLst>
              <a:gd name="textAreaLeft" fmla="*/ 51840 w 81000"/>
              <a:gd name="textAreaRight" fmla="*/ 81000 w 81000"/>
              <a:gd name="textAreaTop" fmla="*/ 1080 h 739800"/>
              <a:gd name="textAreaBottom" fmla="*/ 738720 h 7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9"/>
          <p:cNvSpPr/>
          <p:nvPr/>
        </p:nvSpPr>
        <p:spPr>
          <a:xfrm>
            <a:off x="3581280" y="4648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终生受益  其乐无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" descr=""/>
          <p:cNvPicPr/>
          <p:nvPr/>
        </p:nvPicPr>
        <p:blipFill>
          <a:blip r:embed="rId2"/>
          <a:stretch/>
        </p:blipFill>
        <p:spPr>
          <a:xfrm>
            <a:off x="841320" y="1206360"/>
            <a:ext cx="7693200" cy="4889520"/>
          </a:xfrm>
          <a:prstGeom prst="rect">
            <a:avLst/>
          </a:prstGeom>
          <a:ln w="0">
            <a:noFill/>
          </a:ln>
        </p:spPr>
      </p:pic>
      <p:sp>
        <p:nvSpPr>
          <p:cNvPr id="216" name="内容占位符 2"/>
          <p:cNvSpPr/>
          <p:nvPr/>
        </p:nvSpPr>
        <p:spPr>
          <a:xfrm>
            <a:off x="1143000" y="2362320"/>
            <a:ext cx="6934320" cy="1904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6350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通过介绍读报的重要性以及如何读报，向我们讲解了读报的常识和方法，号召我们在生活中要养成勤读报、会读报的好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19" name="Picture 47" descr="연필"/>
            <p:cNvPicPr/>
            <p:nvPr/>
          </p:nvPicPr>
          <p:blipFill>
            <a:blip r:embed="rId4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3" descr="꽃"/>
            <p:cNvPicPr/>
            <p:nvPr/>
          </p:nvPicPr>
          <p:blipFill>
            <a:blip r:embed="rId5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图片 22" descr="热气球.png"/>
          <p:cNvPicPr/>
          <p:nvPr/>
        </p:nvPicPr>
        <p:blipFill>
          <a:blip r:embed="rId6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21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 23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2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图片 2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31" name="圆角矩形 12"/>
          <p:cNvSpPr/>
          <p:nvPr/>
        </p:nvSpPr>
        <p:spPr>
          <a:xfrm>
            <a:off x="1195560" y="1295280"/>
            <a:ext cx="18064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4"/>
          <p:cNvSpPr/>
          <p:nvPr/>
        </p:nvSpPr>
        <p:spPr>
          <a:xfrm>
            <a:off x="1473120" y="12780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推荐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9" descr=""/>
          <p:cNvPicPr/>
          <p:nvPr/>
        </p:nvPicPr>
        <p:blipFill>
          <a:blip r:embed="rId6"/>
          <a:stretch/>
        </p:blipFill>
        <p:spPr>
          <a:xfrm>
            <a:off x="360360" y="114300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34" name="内容占位符 2"/>
          <p:cNvSpPr/>
          <p:nvPr/>
        </p:nvSpPr>
        <p:spPr>
          <a:xfrm>
            <a:off x="1066680" y="1719360"/>
            <a:ext cx="72504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走遍天下书为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尤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艾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果你独自驾舟环绕世界旅行，如果你只能带一样东西供自己娱乐，你选择哪一样？一幅美丽的图画，一本书，一盒扑克牌，织毛衣的扦子和毛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个八音盒或一只口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很难作出选择。至于我个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不要蛋糕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东西一吃就没了。我也不要扑克牌，风一吹那些牌就全飞了。毛线弄不好会弄湿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相信我会选择书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 23"/>
          <p:cNvGrpSpPr/>
          <p:nvPr/>
        </p:nvGrpSpPr>
        <p:grpSpPr>
          <a:xfrm>
            <a:off x="-290520" y="4641840"/>
            <a:ext cx="1660680" cy="2216160"/>
            <a:chOff x="-290520" y="4641840"/>
            <a:chExt cx="1660680" cy="2216160"/>
          </a:xfrm>
        </p:grpSpPr>
        <p:pic>
          <p:nvPicPr>
            <p:cNvPr id="23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76760" y="46418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90520" y="525492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图片 2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41" name="内容占位符 2"/>
          <p:cNvSpPr/>
          <p:nvPr/>
        </p:nvSpPr>
        <p:spPr>
          <a:xfrm>
            <a:off x="914400" y="1165320"/>
            <a:ext cx="75438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200" spc="-1" strike="noStrike">
                <a:solidFill>
                  <a:srgbClr val="000000"/>
                </a:solidFill>
                <a:latin typeface="宋体"/>
              </a:rPr>
              <a:t>一本书！我听到有人感叹了：如果你坐船周游世界，这一趟下来，你可以把它读上一百遍，最终你能背诵下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200" spc="-1" strike="noStrike">
                <a:solidFill>
                  <a:srgbClr val="000000"/>
                </a:solidFill>
                <a:latin typeface="宋体"/>
              </a:rPr>
              <a:t>对此，我的回答是：是的，我愿意读上一百遍，我愿意读到能背诵的程度。那没什么关系。你不会因为以前见过你的朋友就不愿再见到他们了吧？你不会因为熟悉家中的一切就弃家而去吧？你喜爱的书就像一个朋友，就像你的家。你已经见过朋友一百次了，可第一百零一次再见面时，你还会说：“真想不到你懂这个！”你每天都回家，可不管过了多少年，你还会说：“我怎么没注意过，灯光照着那个角落，光线怎么那么美！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内容占位符 2"/>
          <p:cNvSpPr/>
          <p:nvPr/>
        </p:nvSpPr>
        <p:spPr>
          <a:xfrm>
            <a:off x="4964040" y="2365200"/>
            <a:ext cx="301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 23"/>
          <p:cNvGrpSpPr/>
          <p:nvPr/>
        </p:nvGrpSpPr>
        <p:grpSpPr>
          <a:xfrm>
            <a:off x="-290520" y="4641840"/>
            <a:ext cx="1660680" cy="2216160"/>
            <a:chOff x="-290520" y="4641840"/>
            <a:chExt cx="1660680" cy="2216160"/>
          </a:xfrm>
        </p:grpSpPr>
        <p:pic>
          <p:nvPicPr>
            <p:cNvPr id="24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76760" y="46418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90520" y="525492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图片 2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49" name="内容占位符 2"/>
          <p:cNvSpPr/>
          <p:nvPr/>
        </p:nvSpPr>
        <p:spPr>
          <a:xfrm>
            <a:off x="914400" y="1241280"/>
            <a:ext cx="776916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200" spc="-1" strike="noStrike">
                <a:solidFill>
                  <a:srgbClr val="000000"/>
                </a:solidFill>
                <a:latin typeface="宋体"/>
              </a:rPr>
              <a:t>你总能从一本书中发现新东西，不管你看过多少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200" spc="-1" strike="noStrike">
                <a:solidFill>
                  <a:srgbClr val="000000"/>
                </a:solidFill>
                <a:latin typeface="宋体"/>
              </a:rPr>
              <a:t>所以，我愿意坐在自己的船里，一遍又一遍地读那本书。首先我会思考，故事中的人为什么这样做，作家为什么要写这个故事。然后，我会在脑子里继续把这个故事编下去，回过头来品味我最欣赏的一些片段，并问问自己为什么喜欢它们。我还会再读其他部分，并从中找到我以前忽略的东西。做完这些，我会把从书中学到的东西列个单子。最后，我会想象作者是什么样的，他会有怎样的生活经历……这真像与另一个人同船而行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内容占位符 2"/>
          <p:cNvSpPr/>
          <p:nvPr/>
        </p:nvSpPr>
        <p:spPr>
          <a:xfrm>
            <a:off x="4964040" y="2365200"/>
            <a:ext cx="301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组 23"/>
          <p:cNvGrpSpPr/>
          <p:nvPr/>
        </p:nvGrpSpPr>
        <p:grpSpPr>
          <a:xfrm>
            <a:off x="-290520" y="4641840"/>
            <a:ext cx="1660680" cy="2216160"/>
            <a:chOff x="-290520" y="4641840"/>
            <a:chExt cx="1660680" cy="2216160"/>
          </a:xfrm>
        </p:grpSpPr>
        <p:pic>
          <p:nvPicPr>
            <p:cNvPr id="25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76760" y="46418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90520" y="525492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图片 2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57" name="内容占位符 2"/>
          <p:cNvSpPr/>
          <p:nvPr/>
        </p:nvSpPr>
        <p:spPr>
          <a:xfrm>
            <a:off x="838080" y="1165320"/>
            <a:ext cx="762012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200" spc="-1" strike="noStrike">
                <a:solidFill>
                  <a:srgbClr val="000000"/>
                </a:solidFill>
                <a:latin typeface="宋体"/>
              </a:rPr>
              <a:t>一本你喜爱的书就是一位朋友，也是一处你随时想去就去的故地。从某种意义上说，它是你自己的东西，因为世上没有两个人会用同一种方式读同一本书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200" spc="-1" strike="noStrike">
                <a:solidFill>
                  <a:srgbClr val="000000"/>
                </a:solidFill>
                <a:latin typeface="宋体"/>
              </a:rPr>
              <a:t>　　如果世上每个人都有一本书，即使一本书（当然他们要能读懂），我相信，世界上就会少点麻烦。 只要人手一本书。这不难做到吧？我们怎么开始做起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内容占位符 2"/>
          <p:cNvSpPr/>
          <p:nvPr/>
        </p:nvSpPr>
        <p:spPr>
          <a:xfrm>
            <a:off x="4964040" y="2365200"/>
            <a:ext cx="301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1" descr="一本书"/>
          <p:cNvPicPr/>
          <p:nvPr/>
        </p:nvPicPr>
        <p:blipFill>
          <a:blip r:embed="rId6"/>
          <a:stretch/>
        </p:blipFill>
        <p:spPr>
          <a:xfrm>
            <a:off x="5310360" y="4311720"/>
            <a:ext cx="2538360" cy="190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0" descr="学习目标.png"/>
          <p:cNvPicPr/>
          <p:nvPr/>
        </p:nvPicPr>
        <p:blipFill>
          <a:blip r:embed="rId2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990720" y="1612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、会写本课生字，并理解由生字组成的词语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重点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熟读课文，理解文章所表达的思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懂得读报的意义，了解读报的方法及应注意的事项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难点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感悟课文在强调读报的重要性、该怎样读报时语言准确、明白、严密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0" descr="热气球.png"/>
          <p:cNvPicPr/>
          <p:nvPr/>
        </p:nvPicPr>
        <p:blipFill>
          <a:blip r:embed="rId3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 21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62" name="Picture 47" descr="연필"/>
            <p:cNvPicPr/>
            <p:nvPr/>
          </p:nvPicPr>
          <p:blipFill>
            <a:blip r:embed="rId4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3" descr="꽃"/>
            <p:cNvPicPr/>
            <p:nvPr/>
          </p:nvPicPr>
          <p:blipFill>
            <a:blip r:embed="rId5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矩形 2"/>
          <p:cNvSpPr/>
          <p:nvPr/>
        </p:nvSpPr>
        <p:spPr>
          <a:xfrm>
            <a:off x="992160" y="1752480"/>
            <a:ext cx="36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>
            <a:off x="979200" y="2890800"/>
            <a:ext cx="36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979200" y="3424320"/>
            <a:ext cx="36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914400" y="4414680"/>
            <a:ext cx="493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1" name="组 23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6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4" name="图片 2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66" name="圆角矩形 12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4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国学诵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69" name="内容占位符 2"/>
          <p:cNvSpPr/>
          <p:nvPr/>
        </p:nvSpPr>
        <p:spPr>
          <a:xfrm>
            <a:off x="1197000" y="2274840"/>
            <a:ext cx="6956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少成若天性，习惯如自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班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贾谊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读书之法，在循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xún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序而渐进，熟读而精思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朱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xī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书之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读书须用意，一字值千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广贤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6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1" name="组 17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7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图片 25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76" name="圆角矩形 12"/>
          <p:cNvSpPr/>
          <p:nvPr/>
        </p:nvSpPr>
        <p:spPr>
          <a:xfrm>
            <a:off x="1195560" y="1486080"/>
            <a:ext cx="30542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4"/>
          <p:cNvSpPr/>
          <p:nvPr/>
        </p:nvSpPr>
        <p:spPr>
          <a:xfrm>
            <a:off x="1473120" y="14860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走进中国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内容占位符 2"/>
          <p:cNvSpPr/>
          <p:nvPr/>
        </p:nvSpPr>
        <p:spPr>
          <a:xfrm>
            <a:off x="1143000" y="2286000"/>
            <a:ext cx="6858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谜语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位好朋友，天天世上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啥都告诉你，就是不开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谜底：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80" name="矩形 2"/>
          <p:cNvSpPr/>
          <p:nvPr/>
        </p:nvSpPr>
        <p:spPr>
          <a:xfrm>
            <a:off x="5322600" y="4075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报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2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8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图片 10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87" name="矩形 3"/>
          <p:cNvSpPr/>
          <p:nvPr/>
        </p:nvSpPr>
        <p:spPr>
          <a:xfrm>
            <a:off x="849240" y="1917720"/>
            <a:ext cx="672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在画线字正确的读音下面画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ǐn  wě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佳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iāo  yá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惑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òu  xi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ě    zh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í    z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uī   du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7"/>
          <p:cNvSpPr/>
          <p:nvPr/>
        </p:nvSpPr>
        <p:spPr>
          <a:xfrm>
            <a:off x="266688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7"/>
          <p:cNvSpPr/>
          <p:nvPr/>
        </p:nvSpPr>
        <p:spPr>
          <a:xfrm>
            <a:off x="655308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7"/>
          <p:cNvSpPr/>
          <p:nvPr/>
        </p:nvSpPr>
        <p:spPr>
          <a:xfrm>
            <a:off x="2666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7"/>
          <p:cNvSpPr/>
          <p:nvPr/>
        </p:nvSpPr>
        <p:spPr>
          <a:xfrm>
            <a:off x="54864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7"/>
          <p:cNvSpPr/>
          <p:nvPr/>
        </p:nvSpPr>
        <p:spPr>
          <a:xfrm>
            <a:off x="25146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7"/>
          <p:cNvSpPr/>
          <p:nvPr/>
        </p:nvSpPr>
        <p:spPr>
          <a:xfrm>
            <a:off x="64771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5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9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8" name="图片 10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00" name="矩形 3"/>
          <p:cNvSpPr/>
          <p:nvPr/>
        </p:nvSpPr>
        <p:spPr>
          <a:xfrm>
            <a:off x="617400" y="1457280"/>
            <a:ext cx="8294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我会辨字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肴（     ）    霄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希（     ）    宵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稍（     ）    冶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捎（     ）    治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瘾（     ）    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稳（     ）    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4"/>
          <p:cNvSpPr/>
          <p:nvPr/>
        </p:nvSpPr>
        <p:spPr>
          <a:xfrm>
            <a:off x="1523880" y="2273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90"/>
                </a:cubicBezTo>
                <a:lnTo>
                  <a:pt x="10800" y="9010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90"/>
                </a:cubicBezTo>
                <a:lnTo>
                  <a:pt x="10800" y="19810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220968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佳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2209680" y="265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希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7"/>
          <p:cNvSpPr/>
          <p:nvPr/>
        </p:nvSpPr>
        <p:spPr>
          <a:xfrm>
            <a:off x="3797280" y="2273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90"/>
                </a:cubicBezTo>
                <a:lnTo>
                  <a:pt x="10800" y="9010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90"/>
                </a:cubicBezTo>
                <a:lnTo>
                  <a:pt x="10800" y="19810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4559400" y="214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云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9"/>
          <p:cNvSpPr/>
          <p:nvPr/>
        </p:nvSpPr>
        <p:spPr>
          <a:xfrm>
            <a:off x="4559400" y="265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夜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0"/>
          <p:cNvSpPr/>
          <p:nvPr/>
        </p:nvSpPr>
        <p:spPr>
          <a:xfrm>
            <a:off x="1523880" y="334008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90"/>
                </a:cubicBezTo>
                <a:lnTo>
                  <a:pt x="10800" y="9010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90"/>
                </a:cubicBezTo>
                <a:lnTo>
                  <a:pt x="10800" y="19810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1"/>
          <p:cNvSpPr/>
          <p:nvPr/>
        </p:nvSpPr>
        <p:spPr>
          <a:xfrm>
            <a:off x="3797280" y="334008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90"/>
                </a:cubicBezTo>
                <a:lnTo>
                  <a:pt x="10800" y="9010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90"/>
                </a:cubicBezTo>
                <a:lnTo>
                  <a:pt x="10800" y="19810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2"/>
          <p:cNvSpPr/>
          <p:nvPr/>
        </p:nvSpPr>
        <p:spPr>
          <a:xfrm>
            <a:off x="2209680" y="3187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稍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2209680" y="3759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捎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4559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陶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4572000" y="3772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0"/>
          <p:cNvSpPr/>
          <p:nvPr/>
        </p:nvSpPr>
        <p:spPr>
          <a:xfrm>
            <a:off x="1523880" y="44258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90"/>
                </a:cubicBezTo>
                <a:lnTo>
                  <a:pt x="10800" y="9010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90"/>
                </a:cubicBezTo>
                <a:lnTo>
                  <a:pt x="10800" y="19810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1"/>
          <p:cNvSpPr/>
          <p:nvPr/>
        </p:nvSpPr>
        <p:spPr>
          <a:xfrm>
            <a:off x="3797280" y="444492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90"/>
                </a:cubicBezTo>
                <a:lnTo>
                  <a:pt x="10800" y="9010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90"/>
                </a:cubicBezTo>
                <a:lnTo>
                  <a:pt x="10800" y="19810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2209680" y="4292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2209680" y="48639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安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4559400" y="4305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45720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贯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2" descr="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2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图片 17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25" name="矩形 11"/>
          <p:cNvSpPr/>
          <p:nvPr/>
        </p:nvSpPr>
        <p:spPr>
          <a:xfrm>
            <a:off x="765000" y="1143000"/>
            <a:ext cx="761688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选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启发     启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老师的话对他的（      ）很大，因此他下定决心要痛改前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历史会给我们一些（      ），我们要以史为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层出不穷    花样百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学校的好人好事可真是（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奸诈贪婪的人玩的鬼把戏可真是（         ），让人防不胜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2"/>
          <p:cNvSpPr/>
          <p:nvPr/>
        </p:nvSpPr>
        <p:spPr>
          <a:xfrm>
            <a:off x="4354200" y="235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启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7"/>
          <p:cNvSpPr/>
          <p:nvPr/>
        </p:nvSpPr>
        <p:spPr>
          <a:xfrm>
            <a:off x="4705920" y="343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启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"/>
          <p:cNvSpPr/>
          <p:nvPr/>
        </p:nvSpPr>
        <p:spPr>
          <a:xfrm>
            <a:off x="591912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层出不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"/>
          <p:cNvSpPr/>
          <p:nvPr/>
        </p:nvSpPr>
        <p:spPr>
          <a:xfrm>
            <a:off x="6452640" y="5100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花样百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12" descr="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1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3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图片 17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36" name="矩形 11"/>
          <p:cNvSpPr/>
          <p:nvPr/>
        </p:nvSpPr>
        <p:spPr>
          <a:xfrm>
            <a:off x="841320" y="1527120"/>
            <a:ext cx="731196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26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如果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都   不仅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而且    只有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3880" indent="-26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忠实的读者经常读报，（      ）乐趣无穷，（      ）开阔了视野，陶冶了性情。有的人因此而走上成功之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3880" indent="-26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是看集体或别人的报纸，看完后（      ）应该想到还有人要看，所以要稍加整理，并放在一定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22"/>
          <p:cNvSpPr/>
          <p:nvPr/>
        </p:nvSpPr>
        <p:spPr>
          <a:xfrm>
            <a:off x="5310000" y="2212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7"/>
          <p:cNvSpPr/>
          <p:nvPr/>
        </p:nvSpPr>
        <p:spPr>
          <a:xfrm>
            <a:off x="2261880" y="2741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"/>
          <p:cNvSpPr/>
          <p:nvPr/>
        </p:nvSpPr>
        <p:spPr>
          <a:xfrm>
            <a:off x="2223720" y="3822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2270160" y="436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 12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2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4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5" name="图片 17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47" name="矩形 1"/>
          <p:cNvSpPr/>
          <p:nvPr/>
        </p:nvSpPr>
        <p:spPr>
          <a:xfrm>
            <a:off x="668160" y="1170000"/>
            <a:ext cx="786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我会改写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报纸的诱惑力如此之大，怎可一日不读它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成陈述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成双重否定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报，你就会和世界息息相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扩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"/>
          <p:cNvSpPr/>
          <p:nvPr/>
        </p:nvSpPr>
        <p:spPr>
          <a:xfrm>
            <a:off x="1616040" y="2279520"/>
            <a:ext cx="62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报纸的诱惑力如此之大，必须天天读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"/>
          <p:cNvSpPr/>
          <p:nvPr/>
        </p:nvSpPr>
        <p:spPr>
          <a:xfrm>
            <a:off x="1658880" y="3365640"/>
            <a:ext cx="63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报纸的诱惑力如此之大，不能一日不读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2"/>
          <p:cNvSpPr/>
          <p:nvPr/>
        </p:nvSpPr>
        <p:spPr>
          <a:xfrm>
            <a:off x="1677960" y="5024520"/>
            <a:ext cx="63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勤读报，会读报，你就会和大千世界息息相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20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组 21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7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图片 28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74" name="圆角矩形 15"/>
          <p:cNvSpPr/>
          <p:nvPr/>
        </p:nvSpPr>
        <p:spPr>
          <a:xfrm>
            <a:off x="1195560" y="1486080"/>
            <a:ext cx="20890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6"/>
          <p:cNvSpPr/>
          <p:nvPr/>
        </p:nvSpPr>
        <p:spPr>
          <a:xfrm>
            <a:off x="1473120" y="1486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分类学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"/>
          <p:cNvSpPr/>
          <p:nvPr/>
        </p:nvSpPr>
        <p:spPr>
          <a:xfrm>
            <a:off x="1073160" y="2028960"/>
            <a:ext cx="735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下结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半包围结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8"/>
          <p:cNvSpPr/>
          <p:nvPr/>
        </p:nvSpPr>
        <p:spPr>
          <a:xfrm>
            <a:off x="307656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338112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3"/>
          <p:cNvSpPr/>
          <p:nvPr/>
        </p:nvSpPr>
        <p:spPr>
          <a:xfrm>
            <a:off x="3657600" y="40384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4" descr="花盆.png"/>
          <p:cNvPicPr/>
          <p:nvPr/>
        </p:nvPicPr>
        <p:blipFill>
          <a:blip r:embed="rId7"/>
          <a:stretch/>
        </p:blipFill>
        <p:spPr>
          <a:xfrm>
            <a:off x="990720" y="3279600"/>
            <a:ext cx="323640" cy="368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0"/>
          <p:cNvSpPr/>
          <p:nvPr/>
        </p:nvSpPr>
        <p:spPr>
          <a:xfrm>
            <a:off x="1295280" y="3262320"/>
            <a:ext cx="38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Arial"/>
                <a:ea typeface="黑体"/>
              </a:rPr>
              <a:t>多音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1380960" y="4022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1"/>
          <p:cNvSpPr/>
          <p:nvPr/>
        </p:nvSpPr>
        <p:spPr>
          <a:xfrm>
            <a:off x="1981080" y="3657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2"/>
          <p:cNvSpPr/>
          <p:nvPr/>
        </p:nvSpPr>
        <p:spPr>
          <a:xfrm>
            <a:off x="198108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1428840" y="5192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7"/>
          <p:cNvSpPr/>
          <p:nvPr/>
        </p:nvSpPr>
        <p:spPr>
          <a:xfrm>
            <a:off x="2038320" y="4867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ǎ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2038320" y="5477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à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29718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假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28195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请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6"/>
          <p:cNvSpPr/>
          <p:nvPr/>
        </p:nvSpPr>
        <p:spPr>
          <a:xfrm>
            <a:off x="2952720" y="4867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扫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7"/>
          <p:cNvSpPr/>
          <p:nvPr/>
        </p:nvSpPr>
        <p:spPr>
          <a:xfrm>
            <a:off x="2952720" y="54770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扫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7"/>
          <p:cNvSpPr/>
          <p:nvPr/>
        </p:nvSpPr>
        <p:spPr>
          <a:xfrm>
            <a:off x="1905120" y="3859200"/>
            <a:ext cx="48960" cy="762120"/>
          </a:xfrm>
          <a:custGeom>
            <a:avLst/>
            <a:gdLst>
              <a:gd name="textAreaLeft" fmla="*/ 31320 w 48960"/>
              <a:gd name="textAreaRight" fmla="*/ 49320 w 48960"/>
              <a:gd name="textAreaTop" fmla="*/ 15840 h 762120"/>
              <a:gd name="textAreaBottom" fmla="*/ 7462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2"/>
                  <a:pt x="10800" y="1464"/>
                </a:cubicBezTo>
                <a:lnTo>
                  <a:pt x="10800" y="9336"/>
                </a:lnTo>
                <a:cubicBezTo>
                  <a:pt x="10800" y="10068"/>
                  <a:pt x="5400" y="10800"/>
                  <a:pt x="0" y="10800"/>
                </a:cubicBezTo>
                <a:cubicBezTo>
                  <a:pt x="5400" y="10800"/>
                  <a:pt x="10800" y="11532"/>
                  <a:pt x="10800" y="12264"/>
                </a:cubicBezTo>
                <a:lnTo>
                  <a:pt x="10800" y="20136"/>
                </a:lnTo>
                <a:cubicBezTo>
                  <a:pt x="10800" y="208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7"/>
          <p:cNvSpPr/>
          <p:nvPr/>
        </p:nvSpPr>
        <p:spPr>
          <a:xfrm>
            <a:off x="1906560" y="505944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761760"/>
              <a:gd name="textAreaBottom" fmla="*/ 73620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9"/>
                  <a:pt x="10800" y="2317"/>
                </a:cubicBezTo>
                <a:lnTo>
                  <a:pt x="10800" y="8483"/>
                </a:lnTo>
                <a:cubicBezTo>
                  <a:pt x="10800" y="9642"/>
                  <a:pt x="5400" y="10800"/>
                  <a:pt x="0" y="10800"/>
                </a:cubicBezTo>
                <a:cubicBezTo>
                  <a:pt x="5400" y="10800"/>
                  <a:pt x="10800" y="11959"/>
                  <a:pt x="10800" y="13117"/>
                </a:cubicBezTo>
                <a:lnTo>
                  <a:pt x="10800" y="19283"/>
                </a:lnTo>
                <a:cubicBezTo>
                  <a:pt x="10800" y="204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4648320" y="39830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5248440" y="3618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ò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5248440" y="4227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ó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4"/>
          <p:cNvSpPr/>
          <p:nvPr/>
        </p:nvSpPr>
        <p:spPr>
          <a:xfrm>
            <a:off x="6504120" y="363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重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5"/>
          <p:cNvSpPr/>
          <p:nvPr/>
        </p:nvSpPr>
        <p:spPr>
          <a:xfrm>
            <a:off x="6351480" y="42465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重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7"/>
          <p:cNvSpPr/>
          <p:nvPr/>
        </p:nvSpPr>
        <p:spPr>
          <a:xfrm>
            <a:off x="5181480" y="3809880"/>
            <a:ext cx="76320" cy="7891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789120"/>
              <a:gd name="textAreaBottom" fmla="*/ 76356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9"/>
                  <a:pt x="10800" y="2238"/>
                </a:cubicBezTo>
                <a:lnTo>
                  <a:pt x="10800" y="8562"/>
                </a:lnTo>
                <a:cubicBezTo>
                  <a:pt x="10800" y="9681"/>
                  <a:pt x="5400" y="10800"/>
                  <a:pt x="0" y="10800"/>
                </a:cubicBezTo>
                <a:cubicBezTo>
                  <a:pt x="5400" y="10800"/>
                  <a:pt x="10800" y="11919"/>
                  <a:pt x="10800" y="13038"/>
                </a:cubicBezTo>
                <a:lnTo>
                  <a:pt x="10800" y="19362"/>
                </a:lnTo>
                <a:cubicBezTo>
                  <a:pt x="10800" y="2048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20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0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图片 23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4"/>
          <p:cNvSpPr/>
          <p:nvPr/>
        </p:nvSpPr>
        <p:spPr>
          <a:xfrm>
            <a:off x="1201680" y="2286000"/>
            <a:ext cx="7256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陶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九霄云外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回肠荡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五花八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出不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息息相通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19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0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理解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11" name="矩形 1"/>
          <p:cNvSpPr/>
          <p:nvPr/>
        </p:nvSpPr>
        <p:spPr>
          <a:xfrm>
            <a:off x="1949400" y="2295360"/>
            <a:ext cx="6356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烧制陶器和冶炼金属，比喻给人的思想、性格以有益的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2425680" y="3668760"/>
            <a:ext cx="5823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形容文章、乐曲等十分动人。本课形容故事动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0"/>
          <p:cNvSpPr/>
          <p:nvPr/>
        </p:nvSpPr>
        <p:spPr>
          <a:xfrm>
            <a:off x="2425680" y="3230640"/>
            <a:ext cx="4114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形容远得无影无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6"/>
          <p:cNvSpPr/>
          <p:nvPr/>
        </p:nvSpPr>
        <p:spPr>
          <a:xfrm>
            <a:off x="2425680" y="4178160"/>
            <a:ext cx="55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比喻花样繁多或变幻多端。本课指知识繁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7"/>
          <p:cNvSpPr/>
          <p:nvPr/>
        </p:nvSpPr>
        <p:spPr>
          <a:xfrm>
            <a:off x="2425680" y="4616280"/>
            <a:ext cx="5568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接连不断地出现，没有穷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8"/>
          <p:cNvSpPr/>
          <p:nvPr/>
        </p:nvSpPr>
        <p:spPr>
          <a:xfrm>
            <a:off x="2425680" y="5054760"/>
            <a:ext cx="5411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形容关系极为密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1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4" descr="花盆.png"/>
          <p:cNvPicPr/>
          <p:nvPr/>
        </p:nvPicPr>
        <p:blipFill>
          <a:blip r:embed="rId5"/>
          <a:stretch/>
        </p:blipFill>
        <p:spPr>
          <a:xfrm>
            <a:off x="961920" y="2070000"/>
            <a:ext cx="322200" cy="37008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1015920" y="1363680"/>
            <a:ext cx="713448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请同学们带着以下问题读课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dobe 黑体 Std R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要养成读报的好习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dobe 黑体 Std R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报纸上有什么东西令人着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该怎样读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经常读报有哪些好处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39" descr=""/>
          <p:cNvPicPr/>
          <p:nvPr/>
        </p:nvPicPr>
        <p:blipFill>
          <a:blip r:embed="rId6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4" descr="花盆.png"/>
          <p:cNvPicPr/>
          <p:nvPr/>
        </p:nvPicPr>
        <p:blipFill>
          <a:blip r:embed="rId7"/>
          <a:stretch/>
        </p:blipFill>
        <p:spPr>
          <a:xfrm>
            <a:off x="992160" y="3170160"/>
            <a:ext cx="3222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5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 2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2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图片 10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33" name="圆角矩形 19"/>
          <p:cNvSpPr/>
          <p:nvPr/>
        </p:nvSpPr>
        <p:spPr>
          <a:xfrm>
            <a:off x="3592440" y="1303200"/>
            <a:ext cx="235116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0"/>
          <p:cNvSpPr/>
          <p:nvPr/>
        </p:nvSpPr>
        <p:spPr>
          <a:xfrm>
            <a:off x="3781440" y="12952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课文整体感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9" descr=""/>
          <p:cNvPicPr/>
          <p:nvPr/>
        </p:nvPicPr>
        <p:blipFill>
          <a:blip r:embed="rId6"/>
          <a:stretch/>
        </p:blipFill>
        <p:spPr>
          <a:xfrm>
            <a:off x="2666880" y="114300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2"/>
          <p:cNvSpPr/>
          <p:nvPr/>
        </p:nvSpPr>
        <p:spPr>
          <a:xfrm>
            <a:off x="668160" y="2217600"/>
            <a:ext cx="78663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第一部分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-3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自然段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介绍了读报的重要性，即每天读报，“几乎和吃饭一样必不可少”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第二部分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自然段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写怎样读报，读报既要讲方法又要讲文明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第三部分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自然段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说明勤读报、会读报的好习惯使人受益，应该从小养成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组 1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3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图片 24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43" name="圆角矩形 19"/>
          <p:cNvSpPr/>
          <p:nvPr/>
        </p:nvSpPr>
        <p:spPr>
          <a:xfrm>
            <a:off x="3502080" y="1227240"/>
            <a:ext cx="235116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0"/>
          <p:cNvSpPr/>
          <p:nvPr/>
        </p:nvSpPr>
        <p:spPr>
          <a:xfrm>
            <a:off x="3733920" y="121932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课文理解品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9" descr=""/>
          <p:cNvPicPr/>
          <p:nvPr/>
        </p:nvPicPr>
        <p:blipFill>
          <a:blip r:embed="rId6"/>
          <a:stretch/>
        </p:blipFill>
        <p:spPr>
          <a:xfrm>
            <a:off x="2666880" y="106668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2"/>
          <p:cNvSpPr/>
          <p:nvPr/>
        </p:nvSpPr>
        <p:spPr>
          <a:xfrm>
            <a:off x="752400" y="2071800"/>
            <a:ext cx="7858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爱读报纸的人都有这样的体会：假使这一天没有看报，就会感到浑身不自在。看报看到上瘾的程度，可真算是养成读报的习惯了。有位名人说得好：“读报这件事，对于千百万人来说，几乎和吃饭一样必不可少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引用名人说的话，印证了人们的生活离不开报纸，说明这种精神需求已经同吃饭这一生存需求一样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8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4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图片 17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2"/>
          <p:cNvSpPr/>
          <p:nvPr/>
        </p:nvSpPr>
        <p:spPr>
          <a:xfrm>
            <a:off x="942840" y="1523880"/>
            <a:ext cx="746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报纸上有什么东西这样令人着迷呢？惊天动地的新闻，回肠荡气的故事，是不会天天有的。不过，形形色色的消息，五花八门的知识，同样会像磁铁一样吸引着人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又是一个设问句，激起读者阅读和探究的兴趣。“形形色色”“五花八门”说明报纸上的内容种类繁多，能满足人们的不同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5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图片 17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884160" y="1314360"/>
            <a:ext cx="756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世界天天在变化，社会天天在发展，新人新事新科技层出不穷。这样，报纸就天天有新内容，每天都会使你有新的感受，给你新的启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先用三个带“新”字的词语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新人”“新事”“新科技”写出了世界的日新月异、飞速发展；再用三个“新”字，既表示报纸的时效快，紧跟社会和时代，又说明人们能通过阅读报纸不断了解社会的发展，跟上时代前进的步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04:44:00Z</dcterms:created>
  <dc:creator/>
  <dc:description/>
  <cp:keywords/>
  <dc:language>en-US</dc:language>
  <cp:lastModifiedBy>User</cp:lastModifiedBy>
  <dcterms:modified xsi:type="dcterms:W3CDTF">2017-11-05T10:36:38Z</dcterms:modified>
  <cp:revision>4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