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200-C5CE-44F7-AA3D-C80422F6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5AD-ACDD-4585-AD1D-0ED09282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6A4-641E-4684-AEBF-F6A58A5F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402-BDC9-49B0-B5B0-59FBF3D6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FAC3-5778-4EA6-BA68-7A016E89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EFE8-51BA-4C4C-ACCC-25F31AEE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EC43-FB4E-4BB0-8336-96528B8A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D0A5-72E7-4458-BA9D-013EFE58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8B96-F997-4036-ABFD-23FAFF21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3BF0-FD8E-4428-853B-C0D1B897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6794-DC48-4CA3-897C-0FC8D2B4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860-9589-4ABD-8A54-E62C34BF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774D-1FB6-47E7-9FD1-51C3C6B3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85BC-F260-49C2-8D3A-B1AD867B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6764-58B3-4591-A33D-92714CA7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FE8F-5ABE-4B1F-B41E-8042B1FE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9920-7659-4639-9BCC-3A0B668D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64DDB-77C0-424F-BD5A-22C5FE35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55136-CC72-47B8-86BB-85CF3275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AA57-FB87-4F65-868B-81681BBD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7E89-67CB-431F-BC22-7D00E87D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0EEB8-3437-4034-B614-B402FA60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EBB-45F9-456B-B895-35548702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1401-E13C-4FF6-A4E2-101BF217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F8E9-CBFB-4AA0-8DBF-2A479106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B85A9-BE79-4B71-8268-E3575C43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5B26-7B1F-4ED8-B67E-6E651A89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E3541-638D-4ECE-BCEB-66B207D3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F8987-257C-4698-B095-F2576825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49644-DD91-4060-AD57-21D47CE7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79661-3E70-4B63-95A9-C1EC804E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99C4-EE3B-483A-B76F-044BD3B4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9CEC8-6FAF-44C3-ACD2-644E9355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A0B-D295-48DC-AFC5-50341DB5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252B2-2386-43FB-9A71-B11F3E65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7B8EB-6B51-43B5-93EF-1C348DAB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3C537-FC5F-4F94-8150-5BE182F8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97197-8EF9-48D1-9198-841693E2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337D7-3ED5-4E74-8282-858A6B00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17C0-06E6-450D-A028-1186658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EB7A5-3F73-45B2-94A4-44B78837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EA38-CCD4-40D8-9C88-66219715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CDBF0-81C0-4E7C-90D8-E0E09BD0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4D953-344E-46CF-B67C-129372E5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7CF-C3F8-4063-8476-273974DF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6AC08-AED8-47CB-AEA4-024D1768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B43B9-9826-4800-A3E8-F9C0FCBE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F9472-1A88-4336-B5F8-EE2D4FE2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E629-9ED7-4A3A-96F3-05744A0D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D77DB-6CB0-4FBB-9D4B-676AF851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69CA3-5703-43EA-8754-D20AFCEB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9544-B929-4E29-B66C-56381E43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A4B16-02F0-416F-A225-1513674E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B04EF-B3C1-4E38-936B-2D485A45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7DA1F-7B73-415D-A398-3D4DF110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EE8-B5A9-4D41-B430-307D6136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C9BC8-6BF1-4CA0-951C-861AC462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F2650-7696-4532-80A7-59C90758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6C6FA-249D-434D-B31A-D9E81AED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EFBCC-B98D-47C2-BE12-37402FFC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CB37E-35EA-4BD6-AC9C-2048A0F6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6B5BF-28B9-46E5-B7BC-9F9F9E06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5258F-A9E5-4E40-8D2A-0BA8EDDE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17405-982B-48A8-9322-3EDA62E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B9155-8976-41A2-85AF-0CA7B5C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01679-CDD0-4522-8928-1394BFC0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9C3-913F-4E5B-97A4-1C632753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3D114-3F01-4312-BE04-5CA73AAF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B57C2-3BD0-4E92-A3D6-8F9E478E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3959F-7814-4FB2-9E86-848A250B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1FD-155D-413F-A38E-CC5255DC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B40-8CCE-4451-B77E-414984C3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BE86-CA64-4CA3-B790-8782B509D2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DD93-1B26-479D-9DAD-4CB646F354F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8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AAAE-2E27-43CC-A159-C292DE143BE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8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BDDE-0214-4E47-B736-50F3CFF187D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5175-2E82-413C-948A-E5394F2A919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9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0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3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257F-35DC-42A2-B561-06765D9715D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5"/>
          <p:cNvSpPr txBox="1"/>
          <p:nvPr/>
        </p:nvSpPr>
        <p:spPr>
          <a:xfrm>
            <a:off x="1295280" y="1066680"/>
            <a:ext cx="6248520" cy="25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"/>
              </a:rPr>
              <a:t>埃及金字塔见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"/>
              <a:ea typeface="楷体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Constantia"/>
              </a:rPr>
              <a:t>1</a:t>
            </a:r>
            <a:r>
              <a:rPr b="0" lang="zh-CN" sz="4000" spc="-1" strike="noStrike">
                <a:solidFill>
                  <a:srgbClr val="9900ff"/>
                </a:solidFill>
                <a:latin typeface="Constantia"/>
              </a:rPr>
              <a:t>、为了给一个帝王建造陵寝，有多少人陪葬在沙漠中啊！你认为这样的牺牲值得吗？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Constantia"/>
              </a:rPr>
              <a:t>2</a:t>
            </a:r>
            <a:r>
              <a:rPr b="0" lang="zh-CN" sz="4000" spc="-1" strike="noStrike">
                <a:solidFill>
                  <a:srgbClr val="9900ff"/>
                </a:solidFill>
                <a:latin typeface="Constantia"/>
              </a:rPr>
              <a:t>、 你想对埃及法老们说些什么？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在漫长的历史上没有任何帝王的身体和声名能够不朽，想通过金字塔使自己万世不朽只能是一场黄粱美梦，真正流芳百世的只有劳动者无限智慧与创造力的结晶。古埃及金字塔，数千年后仍然接受着全世界无数游人的赞叹与膜拜，它是人类创造史上真正的奇迹和一个难以破解的历史之谜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无标题"/>
          <p:cNvPicPr/>
          <p:nvPr/>
        </p:nvPicPr>
        <p:blipFill>
          <a:blip r:embed="rId1"/>
          <a:stretch/>
        </p:blipFill>
        <p:spPr>
          <a:xfrm>
            <a:off x="1417680" y="1143000"/>
            <a:ext cx="7726320" cy="43815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304920" y="29718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埃及金字塔见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19520" y="1219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2666880" y="3809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191120" y="2743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观：巨大宏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4267080" y="3352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构：坚固精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4419720" y="40384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筑方法：说法不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7238880" y="26668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勤劳智慧金字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幸命运留见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76212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金字塔是古代埃及、美洲的一种方锥形建筑物。形似汉字“金”字，故称“金字塔”。古代埃及金字塔是法老（国王）的陵墓。其中以古王国第四王朝（前２６世纪）胡夫的金字塔最大，今仍存于开罗近郊吉萨。塔内有甬道、石阶、墓室等，据说由农民、奴隶历时３０年筑成。塔近处有法老哈夫拉的金字塔（规模仅次于前者）和他所建的斯芬克司石雕像。古代美洲金字塔是宗教建筑，塔呈阶梯形，塔顶有庙宇。墨西哥特奥蒂互坎城的太阳金字塔，是美洲现存金字塔中最大者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本文所介绍的是古埃及的金字塔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见闻”表明本文介绍的除了所见之外，还有关于金字塔的所闻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9900ff"/>
                </a:solidFill>
                <a:uFillTx/>
                <a:latin typeface="Calibri"/>
                <a:ea typeface="楷体"/>
              </a:rPr>
              <a:t>想一想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ff00"/>
                </a:solidFill>
                <a:uFillTx/>
                <a:latin typeface="Constantia"/>
              </a:rPr>
              <a:t>为什么说“巍峨的金字塔，是世界古代建筑的一个奇迹，是埃及的象征”呢？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336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jinzita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nstantia"/>
              </a:rPr>
              <a:t>它的宏伟和巨大表现在哪些方面？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我们先站在高处远看，巨大的金字塔矗立在一片沙海之中，塔的周围依稀可见的人和骆驼，看起来像是一些移动的黑点。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此句为远望金字塔所见。在浩渺的沙海之中，一切都会显得渺小，而金字塔却依然是巨大的。而与它的巨大相对照，它周围的人和骆驼只能模模糊糊地看见。在巨大的金字塔衬托下，他们只像是一些移动的黑点。此句运用对比、衬托等写法，将金字塔与沙漠与人和骆驼相比照，更显出金字塔的宏伟巨大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而且建筑水平相当高，石块之间不用任何黏合物。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甚至要想插进一根针去也很难。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这句用看到的两个现象：“石块之间不用任何黏合物”和“要想插进一根针去也很难”，生动形象地说明了金字塔建筑技艺之高超绝伦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nstantia"/>
              </a:rPr>
              <a:t>如此精巧的金字塔是怎样建成的？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65520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首先采石，工匠们把加工过的平整光滑的巨石用人或牛拉的木橇运往现场。由于木橇运行需一条平坦的道路，这就需要先修路，据估计仅这项工程就花去了将近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年的时间。可是，他们又是如何把一块块巨石一直垒到百米以上的高度呢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据传，工匠们先把地面一层砌好，然后堆起一个与第一层一样高的土坡，这样，就可以沿着土坡把石块拉上第二层。以此类推，等到塔建成后，再将土坡移走，让金字塔显露出来。在技术非常落后的古代，进行这样巨大的工程是异常艰苦的。这些金字塔的建成，充分显示出建造者已经掌握了相当丰富的物理学和数学知识，表现了古代埃及劳动人民的聪明才智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u=2100876393,2870888335&amp;fm=52&amp;gp=0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72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如果你是修埃及金字塔的一个干体力的劳工，你会怎么想？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ndows 用户</cp:lastModifiedBy>
  <dcterms:modified xsi:type="dcterms:W3CDTF">2015-09-14T03:22:46Z</dcterms:modified>
  <cp:revision>4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