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D51-A962-443B-8914-5DF5535A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545-D136-4C16-8916-2074F145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E29-0334-4E7A-891E-67B06856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CCA-CCDD-452A-A07E-33942B27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95E-B5D4-4901-8E82-524D172C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754-1C67-4FDA-A9C4-5C99DC6B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85A-DA1E-40C9-8284-F6D14FAE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623-4784-403B-A15A-32AEC0A5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EBA-7402-4224-9123-D9701C86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9B7-CCF8-4961-87E8-8E62AB6B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453-CB23-410F-91D8-F519821A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17F-2948-409A-BBA8-0A06E847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223B-0F74-42E6-AC15-4750A197D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914400"/>
            <a:ext cx="579096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北极熊的故乡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500280"/>
            <a:ext cx="734364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隶书"/>
              </a:rPr>
              <a:t>北极熊的故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ccff"/>
                </a:solidFill>
                <a:latin typeface="Times New Roman"/>
              </a:rPr>
              <a:t>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eara.jpg (9295 bytes)"/>
          <p:cNvPicPr/>
          <p:nvPr/>
        </p:nvPicPr>
        <p:blipFill>
          <a:blip r:embed="rId2"/>
          <a:stretch/>
        </p:blipFill>
        <p:spPr>
          <a:xfrm>
            <a:off x="1187280" y="333360"/>
            <a:ext cx="7620120" cy="158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1680" y="3429000"/>
            <a:ext cx="73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76360" y="47628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繁殖：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2133720"/>
            <a:ext cx="7772400" cy="43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北极熊一般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月至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月怀孕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怀孕的母亲转移到陆地上的洞穴中分娩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正常情况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母熊一窝生两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窝一胎的也常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窝三胎的比较少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80"/>
                </a:solidFill>
                <a:latin typeface="Times New Roman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741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导游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907920"/>
            <a:ext cx="784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游客们，欢迎来到丘吉尔村。这里一年之中有半年是冬天，气候条件非常适合北极熊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北极熊是一种濒于灭绝的哺乳动物，目前仅有不到一万二千头，分布在美国、加拿大、挪威、丹麦和白俄罗斯五个国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北极熊全身覆盖着雪白的长毛，力大无穷，嗅觉灵敏，捕猎时很会动脑筋，主要食物是海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66680" y="404280"/>
            <a:ext cx="78487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隆冬季节，它们躲在洞穴中靠体内存储的脂肪度日，它们能几个月不吃东西而安然无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至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是北极熊繁殖后代的时间，它们在洞穴中分娩，大多一窝生两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了保护北极熊，五个国家已联合制订了一系列保护措施，我们丘吉尔村也被划入了自然保护区。希望游客们能和北极熊成为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2286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学生网上找资料，说说北极熊的将来的命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3623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生存危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352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能生存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4343400"/>
            <a:ext cx="7543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小结：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北极熊能否生存下去，与人类对它的生存环境能否保护，能否对它关爱，有密切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276360" cy="198144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4419720" y="26668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lastslide"/>
          </p:cNvPr>
          <p:cNvSpPr/>
          <p:nvPr/>
        </p:nvSpPr>
        <p:spPr>
          <a:xfrm>
            <a:off x="46483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66680" y="6094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学生上网查资料共同完成一份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981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7432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以六人一小组，选定一组内共同喜欢的动物，报上课题名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3886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组内学生分工查资料。例如：查动物的外形特征、产地、生存环境、生活习惯、生存现状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54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汇总组内资料，写成一份动物介绍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95280" y="5335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               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2514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Times New Roman"/>
              </a:rPr>
              <a:t>组内共同完成一份动物介绍报告，互相交流，评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95280" y="4724280"/>
            <a:ext cx="2210040" cy="1733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114800" y="48006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705720" y="472428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8153280" y="64008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6094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生存危险的原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2362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由于受到北极地区土著居民的过度捕猎，北极熊已很稀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36576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人类往空气中排放了大量的温室气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44956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工业对环境的污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7543800" y="57150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95280" y="60948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能生存下去的理由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7432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们现在对北极熊的生存环境越来越关心，对北极的污染越来越重视，经过人们的努力，北极熊的生存环境会得到改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001000" y="5638680"/>
            <a:ext cx="380880" cy="228600"/>
          </a:xfrm>
          <a:prstGeom prst="leftArrow">
            <a:avLst>
              <a:gd name="adj1" fmla="val 50000"/>
              <a:gd name="adj2" fmla="val 4165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208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338436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00720" y="2205000"/>
            <a:ext cx="46432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5335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514600"/>
            <a:ext cx="752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学会关心动物、关爱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学习本文科学、准确的语言风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学习有条理地简洁地说明一种动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87280" y="260280"/>
            <a:ext cx="79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考：课文中介绍了北极熊哪些情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9810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生存环境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加拿大哈得逊湾的西    海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328464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捕食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最喜欢吃海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4005360"/>
            <a:ext cx="8688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繁殖情况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般深入到雪地 九米至       十米生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保护情况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五国联合制订保护措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北极熊具有雍容华贵的仪表，全身长满雪白的长毛，一直长到脚底，以防止它的脚冻伤，并且使它们便于在溜滑的冰面上行走。它们力大无穷，一只公熊，体重要比老虎或狮子重两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143000" y="569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奇特的外貌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569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栖息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北极熊的栖息地在世界的顶端，它们活动受着浮冰和海流的影响和支配。他们领地的南部疆界就是浮冰块的最远端。世界上五个国家的部分地区拥有这种珍贵动物：美国、加拿大、挪威、丹麦和白俄罗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569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猎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北极熊在浮冰上猎食，它们的主要食物是海豹，偶尔也捕食海象。北极熊能敏锐地嗅出海豹的藏身之地，一只北极熊每隔几天就要杀死一只海豹，它们的脖子异常粗壮，能轻而易举的拖动上百公斤的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59220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过冬与度夏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844280"/>
            <a:ext cx="78487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由于处于北极，在隆冬季节，北极熊几乎生活在一个完全黑暗的世界里。它们依靠嗅觉和冰雪的反光四处觅食。它们还会挖临时的洞穴以躲避狂虐的暴风雪。夏天的时候冰雪消融，北极熊被迫转到海岸上。在岸上很长的一段时间它们无法捕捉到主要的食物海豹。这时，北极熊只能依靠自己身体里存储的脂肪度日。它们能几个月不吃东西而安然无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/>
  <dc:language>en-US</dc:language>
  <cp:lastModifiedBy>USER</cp:lastModifiedBy>
  <dcterms:modified xsi:type="dcterms:W3CDTF">2015-08-04T23:05:41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