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type.wav" ContentType="audio/x-wav"/>
  <Override PartName="/ppt/media/push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88D-66E3-466F-856E-E8201202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45E-D02F-4CD8-A3E8-282291E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E41-D9D8-4D8F-86EF-4A4A718E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468-A44C-48B4-9A78-A3EF4CCE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6DB-A507-4A58-AAC6-70839E6F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33E-5EA7-4002-A12C-71721AFA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A94-6D1D-427A-AE4E-16206012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723-011D-4789-8F07-FAF23731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19D-8BAC-48A0-B812-A37A7DB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4B0-4EE7-4C92-B555-29C0BE4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F44-0587-4FBE-AB8B-C24DF0A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AA9-441B-4101-8270-550D0C37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C31-5B5D-4326-9004-0795B381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47640" y="2205000"/>
            <a:ext cx="640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成全一棵树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332000" y="1989000"/>
            <a:ext cx="58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灼灼的光芒     拎水桶     绰号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轿车        纳闷儿         怔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564000" y="1557360"/>
            <a:ext cx="49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讲的是一位母亲在春天里将几棵树苗栽在门前，她那有腿残疾的小儿子请求母亲种下了一棵被丢弃、快枯萎的小树苗。在孩子的精心照料下，小树苗茁壮成长，母亲也改变了想法，将儿子送到了学校。小树成材了，那孩子也取得了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03560" y="620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读课文，把握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91184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4638600" y="3321000"/>
            <a:ext cx="403200" cy="40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649620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6308640" y="3789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84020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8126280" y="4149720"/>
            <a:ext cx="3621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512748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 flipH="1">
            <a:off x="4531680" y="4998960"/>
            <a:ext cx="471240" cy="40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176560" y="1452600"/>
            <a:ext cx="60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默读课文，思考：在这个感人的故事中，谁成全了谁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25131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孩子成全了小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63480" y="3232080"/>
            <a:ext cx="801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那树苗是她丢弃的，又细又小，甚至还有一些枯萎”。“孩子举着树苗，满眼都是渴求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孩子挖的坑比母亲挖的要大、要深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孩子小心翼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它浇水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孩子经常给小树浇水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了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塘和树之间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那树长得高，长得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捡牛粪喂它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759400" y="134136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母亲成全了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71640" y="2205000"/>
            <a:ext cx="76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望着孩子，犹豫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但看到孩子眼里那灼灼的目光，母亲点点头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那棵树能长大吗？母亲的目光是复杂的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年冬天，母亲做出了一项重大决定，送她这个残疾的孩子去读书。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89548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132000" y="1413000"/>
            <a:ext cx="32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拐一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411280" y="2924280"/>
            <a:ext cx="50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身残志坚      快乐阳光乐观自信      自强不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116000" y="206064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你怎样理解成全一颗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7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了课文，你有什么启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42920" y="2781360"/>
            <a:ext cx="67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现实生活中，我们要学会，面对困境快乐、健康地生活，要学会关爱，学会自强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268360" y="1989000"/>
            <a:ext cx="4535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2:51:57Z</dcterms:created>
  <dc:creator>微软用户</dc:creator>
  <dc:description/>
  <dc:language>en-US</dc:language>
  <cp:lastModifiedBy>dreamsummit</cp:lastModifiedBy>
  <dcterms:modified xsi:type="dcterms:W3CDTF">2015-12-31T09:47:00Z</dcterms:modified>
  <cp:revision>9</cp:revision>
  <dc:subject/>
  <dc:title>幻灯片 1</dc:title>
</cp:coreProperties>
</file>