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camera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3DD-92C8-4A50-8188-442A3653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CC8-2B17-452A-A82A-F05CF06A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B04-C6AA-4281-87B5-5BF9DE80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2DA6-2DFF-4D52-B91D-7217352B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7322-5711-4C63-92F8-D3D55303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F51-E055-4D59-B6F4-C44FB76E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AD7-A659-41C5-8B84-2934F1BD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41C-713E-4025-8892-FB441EE5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71E-8775-4B79-AAAE-1D25AB99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033-97DF-4603-A328-62D6C7A5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CFD-0309-4B69-9073-3CC3AF64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B15-AFDB-4CD2-AFE9-4798A4C9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2812-A255-4601-8BE9-D69F0669D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E:\&#35821;&#25991;&#20845;&#24180;&#32423;&#19978;&#20876; (G)\start.exe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4248000" cy="26370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寓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5000"/>
            <a:ext cx="8820000" cy="3024360"/>
          </a:xfrm>
          <a:prstGeom prst="cloudCallout">
            <a:avLst>
              <a:gd name="adj1" fmla="val 25106"/>
              <a:gd name="adj2" fmla="val 65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则寓言通过达官显贵们束腰以求宠信的丑陋举止，讽刺了那些投其所好者，描述了他们的可悲下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1197000"/>
            <a:ext cx="8424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7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解释下列词语的意思：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好（        ）昔者（           ）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皆（        ）期年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                  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27280" y="2997360"/>
            <a:ext cx="4824360" cy="1041120"/>
          </a:xfrm>
          <a:prstGeom prst="wedgeRoundRectCallout">
            <a:avLst>
              <a:gd name="adj1" fmla="val 28314"/>
              <a:gd name="adj2" fmla="val 7408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以致用（用学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60280"/>
            <a:ext cx="822960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喜欢                   从前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           都                      第二年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549360"/>
            <a:ext cx="80852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、同桌间相互用自己的话说说本则寓言的意思和寓意。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、小组间相互背诵本则寓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32000" y="3357720"/>
            <a:ext cx="4248000" cy="1401480"/>
          </a:xfrm>
          <a:prstGeom prst="wedgeEllipseCallout">
            <a:avLst>
              <a:gd name="adj1" fmla="val 68199"/>
              <a:gd name="adj2" fmla="val 164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互帮互助（测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－－－－－－－－－－－－－－－－－－－－－－－－－－－－－－－－－－－－－－－－－－－－－－－－－－－－－－－－－－－－－－－－－－－－－－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35280" y="2708280"/>
            <a:ext cx="4321080" cy="1584360"/>
          </a:xfrm>
          <a:prstGeom prst="wedgeEllipseCallout">
            <a:avLst>
              <a:gd name="adj1" fmla="val 61902"/>
              <a:gd name="adj2" fmla="val 525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思故我在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思学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32720" cy="63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17360"/>
            <a:ext cx="8820000" cy="65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1268280"/>
            <a:ext cx="64008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33ff"/>
                </a:solidFill>
                <a:latin typeface="Arial"/>
                <a:ea typeface="楷体_GB2312"/>
              </a:rPr>
              <a:t>楚王好细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Arial"/>
                <a:ea typeface="楷体_GB2312"/>
              </a:rPr>
              <a:t>                           </a:t>
            </a:r>
            <a:r>
              <a:rPr b="0" lang="zh-CN" sz="4000" spc="-1" strike="noStrike">
                <a:solidFill>
                  <a:srgbClr val="9933ff"/>
                </a:solidFill>
                <a:latin typeface="Arial"/>
                <a:ea typeface="楷体_GB2312"/>
              </a:rPr>
              <a:t>《墨子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矢志不渝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学习目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通过反复读课文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道本文主要讲了一件什么事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会古汉语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掌握文中重点词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理解寓言的寓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能为本则寓言续写一个结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顺藤摸瓜（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自学方法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以自己喜欢的方式反复读文，把本文的行文方式和自己以前所学的现代文进行对比，体会古文的语言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画出文中不懂的生字新词，结合资料和译文弄懂其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桌谈谈对本则寓言寓意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众志成城（量学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能声情并茂地为我们展现古文的韵律美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能用自己的话说说本文的意思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臣们知道了楚灵王的爱好后，心里是怎样想的？他们在瘦腰的过程中会不会感到痛苦？他们会怎样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能为本则寓言续写一个结尾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昔者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楚灵王好士细腰，故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灵王之臣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皆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一饭为节，胁息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带，扶墙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起。比期年，朝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黧黑之色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众志成城（量学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能用自己的话说说本文的意思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924280"/>
            <a:ext cx="8229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"/>
          </p:cNvPr>
          <p:cNvSpPr/>
          <p:nvPr/>
        </p:nvSpPr>
        <p:spPr>
          <a:xfrm>
            <a:off x="8028000" y="1700280"/>
            <a:ext cx="719280" cy="395280"/>
          </a:xfrm>
          <a:custGeom>
            <a:avLst/>
            <a:gdLst>
              <a:gd name="textAreaLeft" fmla="*/ 24480 w 719280"/>
              <a:gd name="textAreaRight" fmla="*/ 694800 w 719280"/>
              <a:gd name="textAreaTop" fmla="*/ 24480 h 395280"/>
              <a:gd name="textAreaBottom" fmla="*/ 370800 h 395280"/>
            </a:gdLst>
            <a:ahLst/>
            <a:rect l="textAreaLeft" t="textAreaTop" r="textAreaRight" b="textAreaBottom"/>
            <a:pathLst>
              <a:path w="39289" h="21600">
                <a:moveTo>
                  <a:pt x="0" y="0"/>
                </a:moveTo>
                <a:lnTo>
                  <a:pt x="39289" y="0"/>
                </a:lnTo>
                <a:lnTo>
                  <a:pt x="39289" y="21600"/>
                </a:lnTo>
                <a:lnTo>
                  <a:pt x="0" y="21600"/>
                </a:lnTo>
                <a:close/>
              </a:path>
              <a:path fill="lightenLess" w="39289" h="21600">
                <a:moveTo>
                  <a:pt x="0" y="0"/>
                </a:moveTo>
                <a:lnTo>
                  <a:pt x="39289" y="0"/>
                </a:lnTo>
                <a:lnTo>
                  <a:pt x="37939" y="1350"/>
                </a:lnTo>
                <a:lnTo>
                  <a:pt x="1350" y="1350"/>
                </a:lnTo>
                <a:close/>
              </a:path>
              <a:path fill="darken" w="39289" h="21600">
                <a:moveTo>
                  <a:pt x="39289" y="0"/>
                </a:moveTo>
                <a:lnTo>
                  <a:pt x="39289" y="21600"/>
                </a:lnTo>
                <a:lnTo>
                  <a:pt x="37939" y="20250"/>
                </a:lnTo>
                <a:lnTo>
                  <a:pt x="37939" y="1350"/>
                </a:lnTo>
                <a:close/>
              </a:path>
              <a:path fill="darkenLess" w="39289" h="21600">
                <a:moveTo>
                  <a:pt x="3928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939" y="20250"/>
                </a:lnTo>
                <a:close/>
              </a:path>
              <a:path fill="lighten" w="3928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289" h="21600">
                <a:moveTo>
                  <a:pt x="12601" y="3756"/>
                </a:moveTo>
                <a:lnTo>
                  <a:pt x="26688" y="10800"/>
                </a:lnTo>
                <a:lnTo>
                  <a:pt x="1260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2637000"/>
            <a:ext cx="8351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臣们知道了楚灵王的爱好后，心里是怎样想的？他们在瘦腰的过程中会不会感到痛苦？他们会怎样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能为本则寓言续写一个结尾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0:04:52Z</dcterms:created>
  <dc:creator>Administrator</dc:creator>
  <dc:description/>
  <dc:language>en-US</dc:language>
  <cp:lastModifiedBy/>
  <dcterms:modified xsi:type="dcterms:W3CDTF">2015-07-23T06:45:32Z</dcterms:modified>
  <cp:revision>8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