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chimes.wav" ContentType="audio/x-wav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5F92-2E88-4C53-8982-E5C97CA4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496-858B-4122-911F-858B84BF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2FF-1BF0-48F4-BD5D-70462C0D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44A-E5D5-439B-B38B-BB9E9A19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5DE-30D1-4D76-A460-48D4AB81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946A-30CA-4BF4-B409-85CF58D7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515F-AF3C-4756-847C-531D559D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AC3-1579-40E4-ACB6-C9EDC60F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908C-44E8-4EB8-BEA0-95AC5705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DF15-1129-4989-AAA6-85268E18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A31-4878-4E33-850D-B231CBFA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3CA3-C68D-4CB7-A6A9-DE25DBCA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0CAB-5387-4060-84B3-9340D8FF9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844720" y="2133720"/>
            <a:ext cx="3168720" cy="1434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e0024"/>
                </a:solidFill>
                <a:latin typeface="华文行楷"/>
                <a:ea typeface="华文行楷"/>
              </a:rPr>
              <a:t> </a:t>
            </a:r>
            <a:r>
              <a:rPr b="0" lang="zh-CN" sz="8800" spc="-1" strike="noStrike">
                <a:solidFill>
                  <a:srgbClr val="fe0024"/>
                </a:solidFill>
                <a:latin typeface="华文行楷"/>
                <a:ea typeface="华文行楷"/>
              </a:rPr>
              <a:t>匆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912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Brush Script MT"/>
                <a:ea typeface="方正舒体"/>
              </a:rPr>
              <a:t>总　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755640" y="1557360"/>
            <a:ext cx="73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一开始就向我们提出问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但并没有直接作出回答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而是通过具体例子向我们描述了日子来去匆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zh-CN" sz="4000" spc="-1" strike="noStrike">
                <a:solidFill>
                  <a:srgbClr val="9900ff"/>
                </a:solidFill>
                <a:latin typeface="华文琥珀"/>
                <a:ea typeface="华文琥珀"/>
              </a:rPr>
              <a:t>花有重开日</a:t>
            </a:r>
            <a:r>
              <a:rPr b="0" i="1" lang="en-US" sz="4000" spc="-1" strike="noStrike">
                <a:solidFill>
                  <a:srgbClr val="9900ff"/>
                </a:solidFill>
                <a:latin typeface="华文琥珀"/>
                <a:ea typeface="华文琥珀"/>
              </a:rPr>
              <a:t>,</a:t>
            </a:r>
            <a:r>
              <a:rPr b="0" i="1" lang="zh-CN" sz="4000" spc="-1" strike="noStrike">
                <a:solidFill>
                  <a:srgbClr val="9900ff"/>
                </a:solidFill>
                <a:latin typeface="华文琥珀"/>
                <a:ea typeface="华文琥珀"/>
              </a:rPr>
              <a:t>人无再少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希望同学们</a:t>
            </a:r>
            <a:r>
              <a:rPr b="0" lang="zh-CN" sz="4000" spc="-1" strike="noStrike">
                <a:solidFill>
                  <a:srgbClr val="2020de"/>
                </a:solidFill>
                <a:latin typeface="华文琥珀"/>
                <a:ea typeface="华文琥珀"/>
              </a:rPr>
              <a:t>珍惜美好时光</a:t>
            </a:r>
            <a:r>
              <a:rPr b="0" lang="en-US" sz="4000" spc="-1" strike="noStrike">
                <a:solidFill>
                  <a:srgbClr val="2020de"/>
                </a:solidFill>
                <a:latin typeface="华文琥珀"/>
                <a:ea typeface="华文琥珀"/>
              </a:rPr>
              <a:t>,</a:t>
            </a:r>
            <a:r>
              <a:rPr b="0" lang="zh-CN" sz="4000" spc="-1" strike="noStrike">
                <a:solidFill>
                  <a:srgbClr val="2020de"/>
                </a:solidFill>
                <a:latin typeface="华文琥珀"/>
                <a:ea typeface="华文琥珀"/>
              </a:rPr>
              <a:t>抓紧时间</a:t>
            </a:r>
            <a:r>
              <a:rPr b="0" lang="en-US" sz="4000" spc="-1" strike="noStrike">
                <a:solidFill>
                  <a:srgbClr val="2020de"/>
                </a:solidFill>
                <a:latin typeface="华文琥珀"/>
                <a:ea typeface="华文琥珀"/>
              </a:rPr>
              <a:t>,</a:t>
            </a:r>
            <a:r>
              <a:rPr b="0" lang="zh-CN" sz="4000" spc="-1" strike="noStrike">
                <a:solidFill>
                  <a:srgbClr val="2020de"/>
                </a:solidFill>
                <a:latin typeface="华文琥珀"/>
                <a:ea typeface="华文琥珀"/>
              </a:rPr>
              <a:t>努力学习</a:t>
            </a:r>
            <a:r>
              <a:rPr b="0" lang="en-US" sz="4000" spc="-1" strike="noStrike">
                <a:solidFill>
                  <a:srgbClr val="2020de"/>
                </a:solidFill>
                <a:latin typeface="华文琥珀"/>
                <a:ea typeface="华文琥珀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考上你们理想的学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01ec9"/>
                </a:solidFill>
                <a:latin typeface="华文琥珀"/>
                <a:ea typeface="华文琥珀"/>
              </a:rPr>
              <a:t>读  与  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2020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20de"/>
                </a:solidFill>
                <a:latin typeface="Arial"/>
                <a:ea typeface="华文新魏"/>
              </a:rPr>
              <a:t>把你喜欢的句子读给你的好朋友听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2020de"/>
                </a:solidFill>
                <a:latin typeface="华文新魏"/>
                <a:ea typeface="华文新魏"/>
              </a:rPr>
              <a:t>作者是怎样具体描述日子去来匆匆的 </a:t>
            </a:r>
            <a:r>
              <a:rPr b="1" lang="en-US" sz="3600" spc="-1" strike="noStrike">
                <a:solidFill>
                  <a:srgbClr val="2020de"/>
                </a:solidFill>
                <a:latin typeface="华文新魏"/>
                <a:ea typeface="华文新魏"/>
              </a:rPr>
              <a:t>?</a:t>
            </a:r>
            <a:r>
              <a:rPr b="1" lang="zh-CN" sz="3600" spc="-1" strike="noStrike">
                <a:solidFill>
                  <a:srgbClr val="2020de"/>
                </a:solidFill>
                <a:latin typeface="华文新魏"/>
                <a:ea typeface="华文新魏"/>
              </a:rPr>
              <a:t>你能仿照这样的写法</a:t>
            </a:r>
            <a:r>
              <a:rPr b="1" lang="en-US" sz="3600" spc="-1" strike="noStrike">
                <a:solidFill>
                  <a:srgbClr val="2020de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2020de"/>
                </a:solidFill>
                <a:latin typeface="华文新魏"/>
                <a:ea typeface="华文新魏"/>
              </a:rPr>
              <a:t>再写上几句吗</a:t>
            </a:r>
            <a:r>
              <a:rPr b="1" lang="en-US" sz="3600" spc="-1" strike="noStrike">
                <a:solidFill>
                  <a:srgbClr val="2020de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j0292020"/>
          <p:cNvPicPr/>
          <p:nvPr/>
        </p:nvPicPr>
        <p:blipFill>
          <a:blip r:embed="rId1"/>
          <a:stretch/>
        </p:blipFill>
        <p:spPr>
          <a:xfrm>
            <a:off x="468360" y="476280"/>
            <a:ext cx="280836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540640" cy="26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00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0024"/>
                </a:solidFill>
                <a:latin typeface="Arial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朱自清，现代著名散文家、诗人、学者、民主战士。其散文以朴素缜密，清隽沉郁、语言洗炼，文笔清丽著称，极富有真情实感。代表作《荷塘月色》、《背影》、《桨声灯影里的秦淮河》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21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0" y="1916280"/>
            <a:ext cx="4102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燕子可再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杨柳可再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花儿可再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5943600" y="281952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逝去的日子不再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3581280" y="3581280"/>
            <a:ext cx="2362320" cy="533520"/>
          </a:xfrm>
          <a:prstGeom prst="leftRightArrow">
            <a:avLst>
              <a:gd name="adj1" fmla="val 50000"/>
              <a:gd name="adj2" fmla="val 88556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038480" y="2743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Times New Roman"/>
                <a:ea typeface="华文行楷"/>
              </a:rPr>
              <a:t>对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143240" y="0"/>
            <a:ext cx="4572000" cy="2276640"/>
          </a:xfrm>
          <a:prstGeom prst="cloudCallout">
            <a:avLst>
              <a:gd name="adj1" fmla="val -49615"/>
              <a:gd name="adj2" fmla="val 79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0024"/>
                </a:solidFill>
                <a:latin typeface="Times New Roman"/>
                <a:ea typeface="黑体"/>
              </a:rPr>
              <a:t>用形象化的对比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57200" y="5229360"/>
            <a:ext cx="814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引出对时光和人生的</a:t>
            </a:r>
            <a:r>
              <a:rPr b="1" lang="zh-CN" sz="4800" spc="-1" strike="noStrike" u="sng">
                <a:solidFill>
                  <a:srgbClr val="cc0099"/>
                </a:solidFill>
                <a:uFillTx/>
                <a:latin typeface="Times New Roman"/>
                <a:ea typeface="楷体_GB2312"/>
              </a:rPr>
              <a:t>思考</a:t>
            </a: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9640" y="191628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不知道他们给了我多少日子；但我的手确乎是渐渐空虚了。在默默里算着，八千多日子已经从我手中溜去；</a:t>
            </a:r>
            <a:r>
              <a:rPr b="1" lang="zh-CN" sz="4000" spc="-1" strike="noStrike">
                <a:solidFill>
                  <a:srgbClr val="cc3300"/>
                </a:solidFill>
                <a:latin typeface="华文楷体"/>
                <a:ea typeface="华文楷体"/>
              </a:rPr>
              <a:t>像针尖上一滴水滴在大海里，我的日子滴在时间的流里，没有声音，也没有影子。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不禁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</a:rPr>
              <a:t>头涔涔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而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</a:rPr>
              <a:t>泪潸潸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4211640" y="-243000"/>
            <a:ext cx="4114800" cy="2438640"/>
          </a:xfrm>
          <a:prstGeom prst="cloudCallout">
            <a:avLst>
              <a:gd name="adj1" fmla="val -67439"/>
              <a:gd name="adj2" fmla="val 102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400b4"/>
                </a:solidFill>
                <a:latin typeface="Times New Roman"/>
                <a:ea typeface="华文行楷"/>
              </a:rPr>
              <a:t>你是怎样理解这句话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28600" y="304920"/>
            <a:ext cx="18288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品读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30492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八千多日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581280" y="30492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像针尖上一滴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80880" y="175248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时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352680" y="175248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流    大海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7848720" y="609480"/>
            <a:ext cx="304560" cy="1828800"/>
          </a:xfrm>
          <a:custGeom>
            <a:avLst/>
            <a:gdLst>
              <a:gd name="textAreaLeft" fmla="*/ 0 w 304560"/>
              <a:gd name="textAreaRight" fmla="*/ 109800 w 3045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8153280" y="10666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黑体"/>
              </a:rPr>
              <a:t>对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39640" y="3141720"/>
            <a:ext cx="715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        </a:t>
            </a: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时间就是这样无声无息地溜走的</a:t>
            </a: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.</a:t>
            </a: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那么请同学们计算一下一天中又从我们手中溜走了多少时间呢</a:t>
            </a: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7467480" y="2362320"/>
            <a:ext cx="1524240" cy="312408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553320 h 3124080"/>
              <a:gd name="textAreaBottom" fmla="*/ 194616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52" stAng="-5400000" swAng="5400000"/>
                <a:lnTo>
                  <a:pt x="21600" y="9630"/>
                </a:lnTo>
                <a:arcTo wR="21600" hR="7652" stAng="0" swAng="3528389"/>
                <a:lnTo>
                  <a:pt x="4530" y="21430"/>
                </a:lnTo>
                <a:lnTo>
                  <a:pt x="0" y="16293"/>
                </a:lnTo>
                <a:lnTo>
                  <a:pt x="4530" y="10816"/>
                </a:lnTo>
                <a:lnTo>
                  <a:pt x="4530" y="15134"/>
                </a:lnTo>
                <a:arcTo wR="21600" hR="7652" stAng="3528389" swAng="-3369766"/>
                <a:lnTo>
                  <a:pt x="21419" y="8641"/>
                </a:lnTo>
                <a:arcTo wR="21600" hR="7652" stAng="-158623" swAng="-5241377"/>
                <a:close/>
              </a:path>
              <a:path fill="darkenLess" w="21600" h="21600">
                <a:moveTo>
                  <a:pt x="0" y="0"/>
                </a:moveTo>
                <a:arcTo wR="21600" hR="7652" stAng="-5400000" swAng="5400000"/>
                <a:lnTo>
                  <a:pt x="21600" y="9630"/>
                </a:lnTo>
                <a:arcTo wR="21600" hR="7652" stAng="0" swAng="-158623"/>
                <a:lnTo>
                  <a:pt x="21419" y="8641"/>
                </a:lnTo>
                <a:arcTo wR="21600" hR="7652" stAng="-158623" swAng="-5241377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648320" y="9144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比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17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5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838080" y="0"/>
            <a:ext cx="830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去的尽管去了，来的尽管来着；去来的中间，又怎样地匆匆呢？早上我起来的时候，小屋里射进两三方斜斜的太阳。太阳他有脚啊，轻轻悄悄地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挪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；我也茫茫然跟着旋转。于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华文行楷"/>
              </a:rPr>
              <a:t>洗手的时候，日子从水盆里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华文行楷"/>
              </a:rPr>
              <a:t>过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华文行楷"/>
              </a:rPr>
              <a:t>；吃饭的时候，日子从饭碗里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华文行楷"/>
              </a:rPr>
              <a:t>过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华文行楷"/>
              </a:rPr>
              <a:t>；默默时，便从凝然的双眼前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华文行楷"/>
              </a:rPr>
              <a:t>过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华文行楷"/>
              </a:rPr>
              <a:t>。我觉察他去的匆匆了，伸出手遮挽时，他又从遮挽着的手边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华文行楷"/>
              </a:rPr>
              <a:t>过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华文行楷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黑时，我躺在床上，他便伶伶俐俐地从我身上</a:t>
            </a:r>
            <a:r>
              <a:rPr b="1" lang="zh-CN" sz="3200" spc="-1" strike="noStrike">
                <a:solidFill>
                  <a:srgbClr val="cc3300"/>
                </a:solidFill>
                <a:latin typeface="华文行楷"/>
                <a:ea typeface="华文行楷"/>
              </a:rPr>
              <a:t>跨过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从我脚边</a:t>
            </a:r>
            <a:r>
              <a:rPr b="1" lang="zh-CN" sz="3200" spc="-1" strike="noStrike">
                <a:solidFill>
                  <a:srgbClr val="cc3300"/>
                </a:solidFill>
                <a:latin typeface="华文行楷"/>
                <a:ea typeface="华文行楷"/>
              </a:rPr>
              <a:t>飞去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华文行楷"/>
              </a:rPr>
              <a:t>等我睁开眼和太阳再见，这算又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华文行楷"/>
              </a:rPr>
              <a:t>溜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华文行楷"/>
              </a:rPr>
              <a:t>了一日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掩着面叹息。但是新来的日子的影儿又开始在叹息里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闪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600" y="0"/>
            <a:ext cx="667800" cy="256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品读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914400" y="1371600"/>
            <a:ext cx="7772400" cy="825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时间是抽象的，但作者却把它写得形象可感。说说作者采用了什么样的写作手法呢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332360" y="764640"/>
            <a:ext cx="547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b400b4"/>
                </a:solidFill>
                <a:latin typeface="Arial"/>
              </a:rPr>
              <a:t>思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6080" y="275868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想一想， </a:t>
            </a:r>
            <a:r>
              <a:rPr b="0" lang="zh-CN" sz="3200" spc="-1" strike="noStrike">
                <a:solidFill>
                  <a:srgbClr val="fe0024"/>
                </a:solidFill>
                <a:latin typeface="Arial"/>
              </a:rPr>
              <a:t>“日子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怎样在你毫不注意的时候去来匆匆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你身边的人的</a:t>
            </a:r>
            <a:r>
              <a:rPr b="0" lang="zh-CN" sz="3200" spc="-1" strike="noStrike">
                <a:solidFill>
                  <a:srgbClr val="fe0024"/>
                </a:solidFill>
                <a:latin typeface="Arial"/>
              </a:rPr>
              <a:t>“日子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又是怎样去来匆匆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4356000" y="5445000"/>
            <a:ext cx="1008000" cy="64800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7236000" y="5229360"/>
            <a:ext cx="914400" cy="914400"/>
          </a:xfrm>
          <a:custGeom>
            <a:avLst/>
            <a:gdLst>
              <a:gd name="textAreaLeft" fmla="*/ 214560 w 914400"/>
              <a:gd name="textAreaRight" fmla="*/ 699840 w 914400"/>
              <a:gd name="textAreaTop" fmla="*/ 214560 h 914400"/>
              <a:gd name="textAreaBottom" fmla="*/ 699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3492360" y="620640"/>
            <a:ext cx="1154160" cy="8636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 rot="616800">
            <a:off x="6443280" y="692280"/>
            <a:ext cx="576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 flipH="1">
            <a:off x="1403280" y="5300640"/>
            <a:ext cx="935280" cy="792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250920" y="2492280"/>
            <a:ext cx="627120" cy="647640"/>
          </a:xfrm>
          <a:custGeom>
            <a:avLst/>
            <a:gdLst>
              <a:gd name="textAreaLeft" fmla="*/ 258480 w 627120"/>
              <a:gd name="textAreaRight" fmla="*/ 368640 w 62712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179280" y="4221000"/>
            <a:ext cx="574920" cy="649440"/>
          </a:xfrm>
          <a:custGeom>
            <a:avLst/>
            <a:gdLst>
              <a:gd name="textAreaLeft" fmla="*/ 236880 w 574920"/>
              <a:gd name="textAreaRight" fmla="*/ 338040 w 574920"/>
              <a:gd name="textAreaTop" fmla="*/ 267480 h 649440"/>
              <a:gd name="textAreaBottom" fmla="*/ 38196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340000" y="476280"/>
            <a:ext cx="61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赤裸裸来到这世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转眼间也将赤裸裸的回去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但不能平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为什么偏要白白走这一遭啊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j0299125"/>
          <p:cNvPicPr/>
          <p:nvPr/>
        </p:nvPicPr>
        <p:blipFill>
          <a:blip r:embed="rId1"/>
          <a:stretch/>
        </p:blipFill>
        <p:spPr>
          <a:xfrm>
            <a:off x="611280" y="404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1403280" y="3141720"/>
            <a:ext cx="640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0024"/>
                </a:solidFill>
                <a:latin typeface="Verdana"/>
              </a:rPr>
              <a:t>读到这里，你想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042920" y="450864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　　我们不能白白地浪费日子，不能白白地浪费时间、浪费生命，不能什么也没做，什么贡献也没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ree"/>
          <p:cNvSpPr/>
          <p:nvPr/>
        </p:nvSpPr>
        <p:spPr>
          <a:xfrm>
            <a:off x="6588000" y="24210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250920" y="3068640"/>
            <a:ext cx="1047600" cy="914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9T03:21:35Z</dcterms:created>
  <dc:creator>Administrator</dc:creator>
  <dc:description/>
  <dc:language>en-US</dc:language>
  <cp:lastModifiedBy/>
  <dcterms:modified xsi:type="dcterms:W3CDTF">2016-04-19T03:21:5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