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30498-5448-4FDA-8ED5-D507C4DE32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43201-3153-4DD5-B378-8867CF6012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8DB-419F-4FD0-8638-88578B8E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2C9-19EB-4917-924B-763C16B4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277-0E5C-4C9D-81ED-9DE3FD16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92F-3C57-4050-90FB-593B99FA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8ED-BC63-4C18-8634-F5FB69A5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AA9-3EE9-4701-96B6-5E6D6BD3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CDC-30CC-4B63-8D5A-3B0E291A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7CA-FBB3-4638-8C91-B7E01F8C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65B-36A0-4B84-9C6A-63325CA1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487-0153-44DE-A0E8-912CF107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E7E-C1D0-4599-BE64-22C3F956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8A1-F551-4DC4-8FCC-8C21BDD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EDA1E-29E8-4963-A4F0-7FF89D2105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5" descr=""/>
          <p:cNvPicPr/>
          <p:nvPr/>
        </p:nvPicPr>
        <p:blipFill>
          <a:blip r:embed="rId1"/>
          <a:stretch/>
        </p:blipFill>
        <p:spPr>
          <a:xfrm>
            <a:off x="0" y="4836960"/>
            <a:ext cx="9144000" cy="2011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956040" y="833400"/>
            <a:ext cx="35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郑成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圆角矩形 11"/>
          <p:cNvSpPr/>
          <p:nvPr/>
        </p:nvSpPr>
        <p:spPr>
          <a:xfrm>
            <a:off x="958680" y="17082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2571840" y="760320"/>
            <a:ext cx="1181160" cy="1181160"/>
          </a:xfrm>
          <a:prstGeom prst="diamond">
            <a:avLst/>
          </a:prstGeom>
          <a:solidFill>
            <a:srgbClr val="236b2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2864880" y="847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5"/>
          <p:cNvGrpSpPr/>
          <p:nvPr/>
        </p:nvGrpSpPr>
        <p:grpSpPr>
          <a:xfrm>
            <a:off x="-2863800" y="4581360"/>
            <a:ext cx="5395680" cy="486720"/>
            <a:chOff x="-2863800" y="4581360"/>
            <a:chExt cx="5395680" cy="486720"/>
          </a:xfrm>
        </p:grpSpPr>
        <p:grpSp>
          <p:nvGrpSpPr>
            <p:cNvPr id="57" name="组合 1"/>
            <p:cNvGrpSpPr/>
            <p:nvPr/>
          </p:nvGrpSpPr>
          <p:grpSpPr>
            <a:xfrm>
              <a:off x="-2863800" y="4581360"/>
              <a:ext cx="5395680" cy="465120"/>
              <a:chOff x="-2863800" y="4581360"/>
              <a:chExt cx="5395680" cy="465120"/>
            </a:xfrm>
          </p:grpSpPr>
          <p:sp>
            <p:nvSpPr>
              <p:cNvPr id="58" name="圆角矩形 15"/>
              <p:cNvSpPr/>
              <p:nvPr/>
            </p:nvSpPr>
            <p:spPr>
              <a:xfrm>
                <a:off x="928800" y="4647600"/>
                <a:ext cx="1603080" cy="372960"/>
              </a:xfrm>
              <a:prstGeom prst="roundRect">
                <a:avLst>
                  <a:gd name="adj" fmla="val 47574"/>
                </a:avLst>
              </a:prstGeom>
              <a:solidFill>
                <a:srgbClr val="fdeada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矩形 3"/>
              <p:cNvSpPr/>
              <p:nvPr/>
            </p:nvSpPr>
            <p:spPr>
              <a:xfrm>
                <a:off x="-2863800" y="4581360"/>
                <a:ext cx="160020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1"/>
            <p:cNvSpPr/>
            <p:nvPr/>
          </p:nvSpPr>
          <p:spPr>
            <a:xfrm>
              <a:off x="1323000" y="46083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70d13"/>
                  </a:solidFill>
                  <a:latin typeface="黑体"/>
                  <a:ea typeface="黑体"/>
                </a:rPr>
                <a:t>课题解读</a:t>
              </a:r>
              <a:r>
                <a:rPr b="1" lang="zh-CN" sz="1800" spc="-1" strike="noStrike">
                  <a:solidFill>
                    <a:srgbClr val="070d13"/>
                  </a:solidFill>
                  <a:latin typeface="黑体"/>
                  <a:ea typeface="黑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矩形 2"/>
          <p:cNvSpPr/>
          <p:nvPr/>
        </p:nvSpPr>
        <p:spPr>
          <a:xfrm>
            <a:off x="2471760" y="44895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郑成功，本名森，又名福松，字明俨、大木。 福建泉州南安人，祖籍河南固始。汉族，明末清初军事家，抗清名将，民族英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5" descr="10080613067b98e731eaed16d9"/>
          <p:cNvPicPr/>
          <p:nvPr/>
        </p:nvPicPr>
        <p:blipFill>
          <a:blip r:embed="rId4"/>
          <a:stretch/>
        </p:blipFill>
        <p:spPr>
          <a:xfrm>
            <a:off x="2700360" y="1981080"/>
            <a:ext cx="4376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0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7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图片 17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2"/>
          <p:cNvSpPr/>
          <p:nvPr/>
        </p:nvSpPr>
        <p:spPr>
          <a:xfrm>
            <a:off x="984240" y="1862280"/>
            <a:ext cx="73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荷兰侵略者凭借高大坚固的铁甲舰和舰上的大炮，企图负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yú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顽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负隅顽抗”这个贬义词写出了荷兰侵略者垂死挣扎的丑恶嘴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5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 1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7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图片 20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21"/>
          <p:cNvSpPr/>
          <p:nvPr/>
        </p:nvSpPr>
        <p:spPr>
          <a:xfrm>
            <a:off x="1255680" y="1397160"/>
            <a:ext cx="72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词语的感情色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23"/>
          <p:cNvSpPr/>
          <p:nvPr/>
        </p:nvSpPr>
        <p:spPr>
          <a:xfrm>
            <a:off x="1147680" y="2408400"/>
            <a:ext cx="746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概念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词语在某种语言环境中带有赞扬、喜爱或贬斥、憎恶等感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3880" indent="-893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分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褒义词表示赞扬、喜爱、尊敬等感情；贬义词表示贬斥、憎恶、鄙视等感情。中性词不带褒贬的感情色彩，好的、不好的都可以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3880" indent="-893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效果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鲜明地表明立场、态度和情感，增强文字的感染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线连接符 7"/>
          <p:cNvSpPr/>
          <p:nvPr/>
        </p:nvSpPr>
        <p:spPr>
          <a:xfrm>
            <a:off x="1085760" y="2225520"/>
            <a:ext cx="701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图片 24" descr="花盆.png"/>
          <p:cNvPicPr/>
          <p:nvPr/>
        </p:nvPicPr>
        <p:blipFill>
          <a:blip r:embed="rId6"/>
          <a:stretch/>
        </p:blipFill>
        <p:spPr>
          <a:xfrm>
            <a:off x="917640" y="258588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5" descr="花盆.png"/>
          <p:cNvPicPr/>
          <p:nvPr/>
        </p:nvPicPr>
        <p:blipFill>
          <a:blip r:embed="rId7"/>
          <a:stretch/>
        </p:blipFill>
        <p:spPr>
          <a:xfrm>
            <a:off x="917640" y="365112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6" descr="花盆.png"/>
          <p:cNvPicPr/>
          <p:nvPr/>
        </p:nvPicPr>
        <p:blipFill>
          <a:blip r:embed="rId8"/>
          <a:stretch/>
        </p:blipFill>
        <p:spPr>
          <a:xfrm>
            <a:off x="917640" y="5303880"/>
            <a:ext cx="3222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9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 2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9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图片 24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95" name="矩形 11"/>
          <p:cNvSpPr/>
          <p:nvPr/>
        </p:nvSpPr>
        <p:spPr>
          <a:xfrm>
            <a:off x="1101600" y="1133640"/>
            <a:ext cx="730908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965a"/>
                </a:solidFill>
                <a:latin typeface="黑体"/>
                <a:ea typeface="黑体"/>
              </a:rPr>
              <a:t>说说写写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台湾同胞听说郑成功的部队到了，个个喜出望外，他们可能会说些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示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位饱经沧桑的老人感慨万千地说：“苍天有眼，我终于盼到台湾光复的这一天了！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个年轻小伙兴高采烈地说：“我们自由啦，再也不用被那些强盗压迫了！”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顽皮的孩子欢呼着：“太好了，太好了，侵略者被消灭啦！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图片 16" descr="花盆.png"/>
          <p:cNvPicPr/>
          <p:nvPr/>
        </p:nvPicPr>
        <p:blipFill>
          <a:blip r:embed="rId6"/>
          <a:stretch/>
        </p:blipFill>
        <p:spPr>
          <a:xfrm>
            <a:off x="819000" y="1289160"/>
            <a:ext cx="324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8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9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02" name="内容占位符 2"/>
          <p:cNvSpPr/>
          <p:nvPr/>
        </p:nvSpPr>
        <p:spPr>
          <a:xfrm>
            <a:off x="974880" y="1317600"/>
            <a:ext cx="741672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称郑成功是一位民族英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郑成功励精图治，矢志不渝，成功收复被荷兰殖民者侵占的我国领土台湾，并在台湾大力发展生产，兴办教育，加强了台湾与内地的联系，他在中国人民反对外国侵略的斗争历史上写下了光辉的一页，是名副其实的民族英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图片 19" descr=""/>
          <p:cNvPicPr/>
          <p:nvPr/>
        </p:nvPicPr>
        <p:blipFill>
          <a:blip r:embed="rId5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grpSp>
        <p:nvGrpSpPr>
          <p:cNvPr id="204" name="组合 1"/>
          <p:cNvGrpSpPr/>
          <p:nvPr/>
        </p:nvGrpSpPr>
        <p:grpSpPr>
          <a:xfrm>
            <a:off x="711360" y="1262160"/>
            <a:ext cx="1663920" cy="642600"/>
            <a:chOff x="711360" y="1262160"/>
            <a:chExt cx="1663920" cy="642600"/>
          </a:xfrm>
        </p:grpSpPr>
        <p:pic>
          <p:nvPicPr>
            <p:cNvPr id="205" name="图片 21" descr="花盆.png"/>
            <p:cNvPicPr/>
            <p:nvPr/>
          </p:nvPicPr>
          <p:blipFill>
            <a:blip r:embed="rId6"/>
            <a:stretch/>
          </p:blipFill>
          <p:spPr>
            <a:xfrm>
              <a:off x="711360" y="1420200"/>
              <a:ext cx="3236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矩形 2"/>
            <p:cNvSpPr/>
            <p:nvPr/>
          </p:nvSpPr>
          <p:spPr>
            <a:xfrm>
              <a:off x="1280160" y="12621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核心问题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0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12" name="内容占位符 2"/>
          <p:cNvSpPr/>
          <p:nvPr/>
        </p:nvSpPr>
        <p:spPr>
          <a:xfrm>
            <a:off x="843120" y="1146240"/>
            <a:ext cx="76784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郑成功为什么要收复台湾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一是因为台湾自古以来就是中国的领土；二是荷兰侵略者在台湾作威作福，台湾同胞饱受欺凌，生活在水深火热之中，出于对祖国、对台湾人民的热爱，郑成功决心收复台湾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郑军战胜侵略者，靠的是什么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郑军战胜侵略者，靠的是以下几点：①郑军官兵在战前做了充分、周密的准备；②同时郑军官兵训练严格刻苦，作风英勇顽强；③最重要的是郑成功指挥有方，郑军官兵与台湾民众军民一心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5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grpSp>
        <p:nvGrpSpPr>
          <p:cNvPr id="214" name="组合 1"/>
          <p:cNvGrpSpPr/>
          <p:nvPr/>
        </p:nvGrpSpPr>
        <p:grpSpPr>
          <a:xfrm>
            <a:off x="861840" y="1150920"/>
            <a:ext cx="1633320" cy="642600"/>
            <a:chOff x="861840" y="1150920"/>
            <a:chExt cx="1633320" cy="642600"/>
          </a:xfrm>
        </p:grpSpPr>
        <p:pic>
          <p:nvPicPr>
            <p:cNvPr id="215" name="图片 21" descr="花盆.png"/>
            <p:cNvPicPr/>
            <p:nvPr/>
          </p:nvPicPr>
          <p:blipFill>
            <a:blip r:embed="rId6"/>
            <a:stretch/>
          </p:blipFill>
          <p:spPr>
            <a:xfrm>
              <a:off x="861840" y="1308960"/>
              <a:ext cx="32364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矩形 2"/>
            <p:cNvSpPr/>
            <p:nvPr/>
          </p:nvSpPr>
          <p:spPr>
            <a:xfrm>
              <a:off x="1400040" y="11509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串珠问题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1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22" name="内容占位符 2"/>
          <p:cNvSpPr/>
          <p:nvPr/>
        </p:nvSpPr>
        <p:spPr>
          <a:xfrm>
            <a:off x="884160" y="1144440"/>
            <a:ext cx="776628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郑成功是如何建设台湾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郑成功建设台湾主要做了两件实事：发展生产和兴办教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课文写了哪件事？略写了哪件事？作者为什么要这样处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课文详写了收复台湾的经过，略写了建设台湾的内容。因为收复台湾是郑成功最大的功绩，把这件事作为重点，详细描述，更能够充分地表现郑成功的爱国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5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7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 19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2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图片 24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26"/>
          <p:cNvSpPr/>
          <p:nvPr/>
        </p:nvSpPr>
        <p:spPr>
          <a:xfrm>
            <a:off x="1571400" y="25232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郑成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2829240" y="251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收复台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左大括号 5"/>
          <p:cNvSpPr/>
          <p:nvPr/>
        </p:nvSpPr>
        <p:spPr>
          <a:xfrm>
            <a:off x="2381400" y="2592360"/>
            <a:ext cx="183960" cy="2619360"/>
          </a:xfrm>
          <a:custGeom>
            <a:avLst/>
            <a:gdLst>
              <a:gd name="textAreaLeft" fmla="*/ 117720 w 183960"/>
              <a:gd name="textAreaRight" fmla="*/ 184320 w 183960"/>
              <a:gd name="textAreaTop" fmla="*/ 4680 h 2619360"/>
              <a:gd name="textAreaBottom" fmla="*/ 2614680 h 26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7"/>
                </a:cubicBezTo>
                <a:lnTo>
                  <a:pt x="10800" y="10673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4"/>
                  <a:pt x="10800" y="10927"/>
                </a:cubicBezTo>
                <a:lnTo>
                  <a:pt x="10800" y="21473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左大括号 7"/>
          <p:cNvSpPr/>
          <p:nvPr/>
        </p:nvSpPr>
        <p:spPr>
          <a:xfrm>
            <a:off x="4010040" y="1701720"/>
            <a:ext cx="76320" cy="220500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2205000"/>
              <a:gd name="textAreaBottom" fmla="*/ 2203200 h 22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"/>
                  <a:pt x="10800" y="62"/>
                </a:cubicBezTo>
                <a:lnTo>
                  <a:pt x="10800" y="10738"/>
                </a:lnTo>
                <a:cubicBezTo>
                  <a:pt x="10800" y="10769"/>
                  <a:pt x="5400" y="10800"/>
                  <a:pt x="0" y="10800"/>
                </a:cubicBezTo>
                <a:cubicBezTo>
                  <a:pt x="5400" y="10800"/>
                  <a:pt x="10800" y="10831"/>
                  <a:pt x="10800" y="10862"/>
                </a:cubicBezTo>
                <a:lnTo>
                  <a:pt x="10800" y="21538"/>
                </a:lnTo>
                <a:cubicBezTo>
                  <a:pt x="10800" y="2156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439524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下定决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1"/>
          <p:cNvSpPr/>
          <p:nvPr/>
        </p:nvSpPr>
        <p:spPr>
          <a:xfrm>
            <a:off x="4395240" y="2219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充分准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1"/>
          <p:cNvSpPr/>
          <p:nvPr/>
        </p:nvSpPr>
        <p:spPr>
          <a:xfrm>
            <a:off x="4395240" y="2892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激烈战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1"/>
          <p:cNvSpPr/>
          <p:nvPr/>
        </p:nvSpPr>
        <p:spPr>
          <a:xfrm>
            <a:off x="439524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欢庆胜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文本框 1"/>
          <p:cNvSpPr/>
          <p:nvPr/>
        </p:nvSpPr>
        <p:spPr>
          <a:xfrm>
            <a:off x="2829960" y="489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建设台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左大括号 13"/>
          <p:cNvSpPr/>
          <p:nvPr/>
        </p:nvSpPr>
        <p:spPr>
          <a:xfrm>
            <a:off x="3960720" y="4683240"/>
            <a:ext cx="146160" cy="1104840"/>
          </a:xfrm>
          <a:custGeom>
            <a:avLst/>
            <a:gdLst>
              <a:gd name="textAreaLeft" fmla="*/ 93600 w 146160"/>
              <a:gd name="textAreaRight" fmla="*/ 146520 w 146160"/>
              <a:gd name="textAreaTop" fmla="*/ 3600 h 1104840"/>
              <a:gd name="textAreaBottom" fmla="*/ 1101240 h 110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"/>
                  <a:pt x="10800" y="238"/>
                </a:cubicBezTo>
                <a:lnTo>
                  <a:pt x="10800" y="10562"/>
                </a:lnTo>
                <a:cubicBezTo>
                  <a:pt x="10800" y="10681"/>
                  <a:pt x="5400" y="10800"/>
                  <a:pt x="0" y="10800"/>
                </a:cubicBezTo>
                <a:cubicBezTo>
                  <a:pt x="5400" y="10800"/>
                  <a:pt x="10800" y="10919"/>
                  <a:pt x="10800" y="11038"/>
                </a:cubicBezTo>
                <a:lnTo>
                  <a:pt x="10800" y="21362"/>
                </a:lnTo>
                <a:cubicBezTo>
                  <a:pt x="10800" y="2148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4395240" y="4608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发展生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4395240" y="5380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兴办教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左大括号 16"/>
          <p:cNvSpPr/>
          <p:nvPr/>
        </p:nvSpPr>
        <p:spPr>
          <a:xfrm rot="10800000">
            <a:off x="5618160" y="1736280"/>
            <a:ext cx="92160" cy="4078440"/>
          </a:xfrm>
          <a:custGeom>
            <a:avLst/>
            <a:gdLst>
              <a:gd name="textAreaLeft" fmla="*/ 59040 w 92160"/>
              <a:gd name="textAreaRight" fmla="*/ 92520 w 92160"/>
              <a:gd name="textAreaTop" fmla="*/ 2160 h 4078440"/>
              <a:gd name="textAreaBottom" fmla="*/ 407628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"/>
                  <a:pt x="10800" y="40"/>
                </a:cubicBezTo>
                <a:lnTo>
                  <a:pt x="10800" y="10760"/>
                </a:lnTo>
                <a:cubicBezTo>
                  <a:pt x="10800" y="10780"/>
                  <a:pt x="5400" y="10800"/>
                  <a:pt x="0" y="10800"/>
                </a:cubicBezTo>
                <a:cubicBezTo>
                  <a:pt x="5400" y="10800"/>
                  <a:pt x="10800" y="10820"/>
                  <a:pt x="10800" y="10840"/>
                </a:cubicBezTo>
                <a:lnTo>
                  <a:pt x="10800" y="21560"/>
                </a:lnTo>
                <a:cubicBezTo>
                  <a:pt x="10800" y="2158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1"/>
          <p:cNvSpPr/>
          <p:nvPr/>
        </p:nvSpPr>
        <p:spPr>
          <a:xfrm>
            <a:off x="6058080" y="2536200"/>
            <a:ext cx="1277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丰功伟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永不忘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4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图片 16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50" name="内容占位符 2"/>
          <p:cNvSpPr/>
          <p:nvPr/>
        </p:nvSpPr>
        <p:spPr>
          <a:xfrm>
            <a:off x="736560" y="1959120"/>
            <a:ext cx="763272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一篇历史故事，记述了明朝末年民族英雄郑成功收复台湾、建设台湾的史实，歌颂了郑成功的爱国热情和民族气节，表达了人们对他的敬仰和怀念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5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图片 16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57" name="内容占位符 2"/>
          <p:cNvSpPr/>
          <p:nvPr/>
        </p:nvSpPr>
        <p:spPr>
          <a:xfrm>
            <a:off x="841320" y="1962000"/>
            <a:ext cx="76550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民族英雄戚继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明朝嘉靖（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jiājìnɡ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）年间，日本海盗经常在我国浙江、福建沿海一带烧杀抢掠，无恶不作。老百姓十分痛恨他们，管他们叫倭寇（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wōkòu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当时，有个叫戚继光的将领，看到倭寇横行，百姓受苦，朝廷腐败，非常愤慨。他决心招募农民、矿工，组织军队，抗击倭寇。招兵的布告刚一贴出，就有很多人前来报名。戚继光组建的军队很快就发展到三千多人。这支军队经过戚继光的严格训练，纪律严明，战斗力很强，人称“戚家军”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圆角矩形 10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14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推荐阅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6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图片 16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67" name="内容占位符 2"/>
          <p:cNvSpPr/>
          <p:nvPr/>
        </p:nvSpPr>
        <p:spPr>
          <a:xfrm>
            <a:off x="874800" y="1251000"/>
            <a:ext cx="76168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打仗的时候，戚继光总是身先士卒，冲锋在前。士兵们见主将这样勇敢，斗志倍（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bèi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）增，奋不顾身，杀得倭寇东逃西窜。有的倭寇一边逃跑，一边抛撒抢来的财宝，想用这个办法阻挡后面的追杀。可是，“戚家军”官兵对金银珠宝连看都不看一眼，一心杀敌。就这样，戚家军军威大振，令倭寇闻风丧胆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戚继光不但作战英勇，而且很有智谋。有一次，进犯福建的倭寇占据了一个小岛。小岛和海岸之间有一片浅滩。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涨潮时，浅滩没入水中，小岛四周一片汪洋；落潮时，水退滩出，又是一片泥泞，人马一踏上去，就会陷进烂泥里。倭寇以为占据了这样险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图片 3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0" descr="学习目标.png"/>
          <p:cNvPicPr/>
          <p:nvPr/>
        </p:nvPicPr>
        <p:blipFill>
          <a:blip r:embed="rId2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7" name="矩形 14"/>
          <p:cNvSpPr/>
          <p:nvPr/>
        </p:nvSpPr>
        <p:spPr>
          <a:xfrm>
            <a:off x="1098720" y="1730520"/>
            <a:ext cx="446040" cy="466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1098720" y="228456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6"/>
          <p:cNvSpPr/>
          <p:nvPr/>
        </p:nvSpPr>
        <p:spPr>
          <a:xfrm>
            <a:off x="1098720" y="285264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7"/>
          <p:cNvSpPr/>
          <p:nvPr/>
        </p:nvSpPr>
        <p:spPr>
          <a:xfrm>
            <a:off x="1098720" y="3965400"/>
            <a:ext cx="446040" cy="44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1511280" y="1620720"/>
            <a:ext cx="719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本课的生字新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朗读课文，复述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郑成功这位民族英雄收复台湾、建设台湾的伟大功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郑成功的历史功绩，懂得自古以来台湾就是我国的领土，激发热爱祖国的情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20" descr="热气球.png"/>
          <p:cNvPicPr/>
          <p:nvPr/>
        </p:nvPicPr>
        <p:blipFill>
          <a:blip r:embed="rId3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grpSp>
        <p:nvGrpSpPr>
          <p:cNvPr id="73" name="组 21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74" name="Picture 47" descr="연필"/>
            <p:cNvPicPr/>
            <p:nvPr/>
          </p:nvPicPr>
          <p:blipFill>
            <a:blip r:embed="rId4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3" descr="꽃"/>
            <p:cNvPicPr/>
            <p:nvPr/>
          </p:nvPicPr>
          <p:blipFill>
            <a:blip r:embed="rId5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矩形 18"/>
          <p:cNvSpPr/>
          <p:nvPr/>
        </p:nvSpPr>
        <p:spPr>
          <a:xfrm>
            <a:off x="2756880" y="3382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9"/>
          <p:cNvSpPr/>
          <p:nvPr/>
        </p:nvSpPr>
        <p:spPr>
          <a:xfrm>
            <a:off x="6146280" y="4465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7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图片 16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74" name="内容占位符 2"/>
          <p:cNvSpPr/>
          <p:nvPr/>
        </p:nvSpPr>
        <p:spPr>
          <a:xfrm>
            <a:off x="874800" y="1251000"/>
            <a:ext cx="76168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的地方，绝对安全。戚继光仔细察看了地形后，命令士兵每人准备一捆干草，在一个大雨滂沱（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pānɡtuó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）的晚上，士兵们坐船来到小岛附近。趁着落潮，他们把准备好的干草扔到烂泥里，铺成了一条路，奋勇冲上小岛，不到半天工夫，就把倭寇全部歼（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jiān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）灭了。还有一次，正值中秋节，城中主力部队正外出作战，倭寇又趁机进犯。戚继光就让全城百姓，用绳子拖着石头满街穿行。倭寇听到城中轰隆轰隆作响，以为是千军万马正在调防，吓得掉头就跑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戚家军和其他抗倭军队一起，经过多年奋战，终于解除了我国东南沿海的倭患（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huàn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77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8" name="组 23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7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图片 26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83" name="圆角矩形 12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14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国学诵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86" name="内容占位符 2"/>
          <p:cNvSpPr/>
          <p:nvPr/>
        </p:nvSpPr>
        <p:spPr>
          <a:xfrm>
            <a:off x="328680" y="2335320"/>
            <a:ext cx="813096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弓背霞明剑照霜，秋风走马出咸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未收天子河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huá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地，不拟回头望故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令狐楚《少年行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寸寸山河寸寸金，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(kuǎ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离分裂力谁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杜鹃再拜忧天泪，精卫无穷填海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黄遵宪《题梁任父同年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89" name="图片 16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0" name="组 17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9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图片 25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95" name="圆角矩形 12"/>
          <p:cNvSpPr/>
          <p:nvPr/>
        </p:nvSpPr>
        <p:spPr>
          <a:xfrm>
            <a:off x="1195560" y="1486080"/>
            <a:ext cx="30542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14"/>
          <p:cNvSpPr/>
          <p:nvPr/>
        </p:nvSpPr>
        <p:spPr>
          <a:xfrm>
            <a:off x="1473120" y="14860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走进中国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98" name="内容占位符 2"/>
          <p:cNvSpPr/>
          <p:nvPr/>
        </p:nvSpPr>
        <p:spPr>
          <a:xfrm>
            <a:off x="1036800" y="2347920"/>
            <a:ext cx="7667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国历史上著名的民族英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林则徐、郑成功、戚继光、邓世昌。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赞颂郑成功的对联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上联：开辟荆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(zhēn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千秋功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下联：驱除荷虏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(lǔ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代英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01" name="图片 15" descr=""/>
          <p:cNvPicPr/>
          <p:nvPr/>
        </p:nvPicPr>
        <p:blipFill>
          <a:blip r:embed="rId1"/>
          <a:stretch/>
        </p:blipFill>
        <p:spPr>
          <a:xfrm>
            <a:off x="792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2" name="组 2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0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5" name="图片 24" descr=""/>
          <p:cNvPicPr/>
          <p:nvPr/>
        </p:nvPicPr>
        <p:blipFill>
          <a:blip r:embed="rId4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804960" y="4767120"/>
            <a:ext cx="7735680" cy="642600"/>
            <a:chOff x="804960" y="4767120"/>
            <a:chExt cx="7735680" cy="642600"/>
          </a:xfrm>
        </p:grpSpPr>
        <p:sp>
          <p:nvSpPr>
            <p:cNvPr id="309" name="矩形 19"/>
            <p:cNvSpPr/>
            <p:nvPr/>
          </p:nvSpPr>
          <p:spPr>
            <a:xfrm>
              <a:off x="804960" y="4886280"/>
              <a:ext cx="446040" cy="446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矩形 9"/>
            <p:cNvSpPr/>
            <p:nvPr/>
          </p:nvSpPr>
          <p:spPr>
            <a:xfrm>
              <a:off x="1341360" y="4767120"/>
              <a:ext cx="719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宋体"/>
                </a:rPr>
                <a:t>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组合 2"/>
          <p:cNvGrpSpPr/>
          <p:nvPr/>
        </p:nvGrpSpPr>
        <p:grpSpPr>
          <a:xfrm>
            <a:off x="804960" y="1436760"/>
            <a:ext cx="7735680" cy="3385800"/>
            <a:chOff x="804960" y="1436760"/>
            <a:chExt cx="7735680" cy="3385800"/>
          </a:xfrm>
        </p:grpSpPr>
        <p:sp>
          <p:nvSpPr>
            <p:cNvPr id="312" name="矩形 17"/>
            <p:cNvSpPr/>
            <p:nvPr/>
          </p:nvSpPr>
          <p:spPr>
            <a:xfrm>
              <a:off x="804960" y="1544400"/>
              <a:ext cx="465120" cy="479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矩形 1"/>
            <p:cNvSpPr/>
            <p:nvPr/>
          </p:nvSpPr>
          <p:spPr>
            <a:xfrm>
              <a:off x="1303200" y="1436760"/>
              <a:ext cx="72374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2520" indent="-4525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英勇的郑军官兵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∥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冒着敌人密集的炮火，驾着舰船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∕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向敌军舰队冲去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↗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。他们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∕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将敌舰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∥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团团围住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↗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使敌人的大炮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∕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失去了威力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↘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。随着“轰隆”一声巨响，所有的舰船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∕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都震动起来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↗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海面上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∕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掀起十几丈高的水柱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↘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2520" indent="-4525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2520" indent="-4525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2520" indent="-4525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12" descr="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1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8" name="图片 21" descr=""/>
          <p:cNvPicPr/>
          <p:nvPr/>
        </p:nvPicPr>
        <p:blipFill>
          <a:blip r:embed="rId4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17"/>
          <p:cNvSpPr/>
          <p:nvPr/>
        </p:nvSpPr>
        <p:spPr>
          <a:xfrm>
            <a:off x="719280" y="143028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9"/>
          <p:cNvSpPr/>
          <p:nvPr/>
        </p:nvSpPr>
        <p:spPr>
          <a:xfrm>
            <a:off x="1057320" y="1290600"/>
            <a:ext cx="757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2"/>
          <p:cNvSpPr/>
          <p:nvPr/>
        </p:nvSpPr>
        <p:spPr>
          <a:xfrm>
            <a:off x="1085760" y="1332000"/>
            <a:ext cx="75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慷慨激昂”“载歌载舞”属于褒义词，“负隅顽抗”“横行霸道”属于贬义词，“惊恐万状”“喜出望外”则属于感情色彩不明确的中性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横行霸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仗着父亲的权势横行霸道，为所欲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慷慨激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练员慷慨激昂的话语极大地鼓舞了队员们的士气，他们充满了对胜利的渴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12" descr="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5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2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8" name="图片 21" descr=""/>
          <p:cNvPicPr/>
          <p:nvPr/>
        </p:nvPicPr>
        <p:blipFill>
          <a:blip r:embed="rId4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30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611280" y="13921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9"/>
          <p:cNvSpPr/>
          <p:nvPr/>
        </p:nvSpPr>
        <p:spPr>
          <a:xfrm>
            <a:off x="1057320" y="1290600"/>
            <a:ext cx="757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 indent="-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2"/>
          <p:cNvSpPr/>
          <p:nvPr/>
        </p:nvSpPr>
        <p:spPr>
          <a:xfrm>
            <a:off x="985680" y="13032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最后一个自然段高度概括了文章所记述的郑成功的历史功绩，即收复台湾、建设台湾。同时，字里行间充满了对这位顶天立地的民族英雄的敬仰与怀念之情，起到了总结全文，突出中心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36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7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3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41" name="矩形 3"/>
          <p:cNvSpPr/>
          <p:nvPr/>
        </p:nvSpPr>
        <p:spPr>
          <a:xfrm>
            <a:off x="808200" y="1206360"/>
            <a:ext cx="6446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划线字的正确读音画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奴役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nú  lú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        史册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cè  chè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瞭望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liào tiào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    瞄准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miáo māo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        状（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43" name="矩形 7"/>
          <p:cNvSpPr/>
          <p:nvPr/>
        </p:nvSpPr>
        <p:spPr>
          <a:xfrm>
            <a:off x="2432880" y="19321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√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8"/>
          <p:cNvSpPr/>
          <p:nvPr/>
        </p:nvSpPr>
        <p:spPr>
          <a:xfrm>
            <a:off x="4940280" y="19321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√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9"/>
          <p:cNvSpPr/>
          <p:nvPr/>
        </p:nvSpPr>
        <p:spPr>
          <a:xfrm>
            <a:off x="2432880" y="24750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√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5181480" y="246528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√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左大括号 13"/>
          <p:cNvSpPr/>
          <p:nvPr/>
        </p:nvSpPr>
        <p:spPr>
          <a:xfrm>
            <a:off x="1357200" y="3592440"/>
            <a:ext cx="123840" cy="897120"/>
          </a:xfrm>
          <a:custGeom>
            <a:avLst/>
            <a:gdLst>
              <a:gd name="textAreaLeft" fmla="*/ 79200 w 123840"/>
              <a:gd name="textAreaRight" fmla="*/ 124200 w 123840"/>
              <a:gd name="textAreaTop" fmla="*/ 2880 h 897120"/>
              <a:gd name="textAreaBottom" fmla="*/ 894240 h 89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2309400" y="35607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入侵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14"/>
          <p:cNvSpPr/>
          <p:nvPr/>
        </p:nvSpPr>
        <p:spPr>
          <a:xfrm>
            <a:off x="2317320" y="407520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浸泡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左大括号 15"/>
          <p:cNvSpPr/>
          <p:nvPr/>
        </p:nvSpPr>
        <p:spPr>
          <a:xfrm>
            <a:off x="4363920" y="3600360"/>
            <a:ext cx="125640" cy="897120"/>
          </a:xfrm>
          <a:custGeom>
            <a:avLst/>
            <a:gdLst>
              <a:gd name="textAreaLeft" fmla="*/ 80280 w 125640"/>
              <a:gd name="textAreaRight" fmla="*/ 126000 w 125640"/>
              <a:gd name="textAreaTop" fmla="*/ 3240 h 897120"/>
              <a:gd name="textAreaBottom" fmla="*/ 893880 h 89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16"/>
          <p:cNvSpPr/>
          <p:nvPr/>
        </p:nvSpPr>
        <p:spPr>
          <a:xfrm>
            <a:off x="5373360" y="352260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秘密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17"/>
          <p:cNvSpPr/>
          <p:nvPr/>
        </p:nvSpPr>
        <p:spPr>
          <a:xfrm>
            <a:off x="5332680" y="40719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甜蜜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左大括号 18"/>
          <p:cNvSpPr/>
          <p:nvPr/>
        </p:nvSpPr>
        <p:spPr>
          <a:xfrm>
            <a:off x="1346040" y="4694400"/>
            <a:ext cx="123840" cy="896760"/>
          </a:xfrm>
          <a:custGeom>
            <a:avLst/>
            <a:gdLst>
              <a:gd name="textAreaLeft" fmla="*/ 79200 w 123840"/>
              <a:gd name="textAreaRight" fmla="*/ 124200 w 123840"/>
              <a:gd name="textAreaTop" fmla="*/ 2880 h 896760"/>
              <a:gd name="textAreaBottom" fmla="*/ 893880 h 89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24"/>
          <p:cNvSpPr/>
          <p:nvPr/>
        </p:nvSpPr>
        <p:spPr>
          <a:xfrm>
            <a:off x="2309400" y="46180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鱼钩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25"/>
          <p:cNvSpPr/>
          <p:nvPr/>
        </p:nvSpPr>
        <p:spPr>
          <a:xfrm>
            <a:off x="2309400" y="51973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钓鱼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左大括号 26"/>
          <p:cNvSpPr/>
          <p:nvPr/>
        </p:nvSpPr>
        <p:spPr>
          <a:xfrm>
            <a:off x="4363920" y="4714920"/>
            <a:ext cx="125640" cy="896760"/>
          </a:xfrm>
          <a:custGeom>
            <a:avLst/>
            <a:gdLst>
              <a:gd name="textAreaLeft" fmla="*/ 80280 w 125640"/>
              <a:gd name="textAreaRight" fmla="*/ 126000 w 125640"/>
              <a:gd name="textAreaTop" fmla="*/ 3240 h 896760"/>
              <a:gd name="textAreaBottom" fmla="*/ 893520 h 89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27"/>
          <p:cNvSpPr/>
          <p:nvPr/>
        </p:nvSpPr>
        <p:spPr>
          <a:xfrm>
            <a:off x="5346000" y="464040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奖状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28"/>
          <p:cNvSpPr/>
          <p:nvPr/>
        </p:nvSpPr>
        <p:spPr>
          <a:xfrm>
            <a:off x="5358240" y="51814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壮士 </a:t>
            </a:r>
            <a:r>
              <a:rPr b="1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0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6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64" name="矩形 3"/>
          <p:cNvSpPr/>
          <p:nvPr/>
        </p:nvSpPr>
        <p:spPr>
          <a:xfrm>
            <a:off x="785880" y="1228680"/>
            <a:ext cx="799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用“望”字组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并选词填空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希望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瞭望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仰望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眺望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盼望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郑成功在一群将领的簇拥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站在船楼上四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当你忧愁烦恼的时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到大自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( 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蓝天白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俯看花草树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就会明白生活依然十分美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登上军营附近的一座山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有一天能和失散多年的亲人们团聚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1"/>
          <p:cNvSpPr/>
          <p:nvPr/>
        </p:nvSpPr>
        <p:spPr>
          <a:xfrm>
            <a:off x="7589520" y="30052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瞭望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67" name="矩形 7"/>
          <p:cNvSpPr/>
          <p:nvPr/>
        </p:nvSpPr>
        <p:spPr>
          <a:xfrm>
            <a:off x="6553080" y="3546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仰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8"/>
          <p:cNvSpPr/>
          <p:nvPr/>
        </p:nvSpPr>
        <p:spPr>
          <a:xfrm>
            <a:off x="7043760" y="46594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眺望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9"/>
          <p:cNvSpPr/>
          <p:nvPr/>
        </p:nvSpPr>
        <p:spPr>
          <a:xfrm>
            <a:off x="1930320" y="520380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盼望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1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7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75" name="矩形 3"/>
          <p:cNvSpPr/>
          <p:nvPr/>
        </p:nvSpPr>
        <p:spPr>
          <a:xfrm>
            <a:off x="785880" y="1370160"/>
            <a:ext cx="7713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按要求写句子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台湾自古以来就是中国的领土。（改成反问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怎么能不收复祖国的宝岛台湾呢？（改成陈述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谁能说郑成功不是伟大的民族英雄呢？（改成陈述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"/>
          <p:cNvSpPr/>
          <p:nvPr/>
        </p:nvSpPr>
        <p:spPr>
          <a:xfrm>
            <a:off x="3250440" y="3689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们必须收复祖国的宝岛台湾。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78" name="矩形 7"/>
          <p:cNvSpPr/>
          <p:nvPr/>
        </p:nvSpPr>
        <p:spPr>
          <a:xfrm>
            <a:off x="2117160" y="470232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谁能说郑成功是伟大的民族英雄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12"/>
          <p:cNvSpPr/>
          <p:nvPr/>
        </p:nvSpPr>
        <p:spPr>
          <a:xfrm>
            <a:off x="2243520" y="257184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台湾自古以来不就是中国的领土吗？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20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组 21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8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图片 28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15"/>
          <p:cNvSpPr/>
          <p:nvPr/>
        </p:nvSpPr>
        <p:spPr>
          <a:xfrm>
            <a:off x="1195560" y="1486080"/>
            <a:ext cx="20890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16"/>
          <p:cNvSpPr/>
          <p:nvPr/>
        </p:nvSpPr>
        <p:spPr>
          <a:xfrm>
            <a:off x="1473120" y="1486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分类学生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"/>
          <p:cNvSpPr/>
          <p:nvPr/>
        </p:nvSpPr>
        <p:spPr>
          <a:xfrm>
            <a:off x="1073160" y="2252520"/>
            <a:ext cx="745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宋体"/>
                <a:ea typeface="Adobe 黑体 Std R"/>
              </a:rPr>
              <a:t>字词积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liào     yú            kǎ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瞭望　　负隅顽抗　　　慷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宋体"/>
                <a:ea typeface="Adobe 黑体 Std R"/>
              </a:rPr>
              <a:t>多音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23" descr="花盆.png"/>
          <p:cNvPicPr/>
          <p:nvPr/>
        </p:nvPicPr>
        <p:blipFill>
          <a:blip r:embed="rId7"/>
          <a:stretch/>
        </p:blipFill>
        <p:spPr>
          <a:xfrm>
            <a:off x="853920" y="4084560"/>
            <a:ext cx="324000" cy="3682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3" descr="花盆.png"/>
          <p:cNvPicPr/>
          <p:nvPr/>
        </p:nvPicPr>
        <p:blipFill>
          <a:blip r:embed="rId8"/>
          <a:stretch/>
        </p:blipFill>
        <p:spPr>
          <a:xfrm>
            <a:off x="844560" y="2428920"/>
            <a:ext cx="324000" cy="36828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2"/>
          <p:cNvGrpSpPr/>
          <p:nvPr/>
        </p:nvGrpSpPr>
        <p:grpSpPr>
          <a:xfrm>
            <a:off x="5397480" y="4483080"/>
            <a:ext cx="2882880" cy="1191240"/>
            <a:chOff x="5397480" y="4483080"/>
            <a:chExt cx="2882880" cy="1191240"/>
          </a:xfrm>
        </p:grpSpPr>
        <p:sp>
          <p:nvSpPr>
            <p:cNvPr id="91" name="矩形 21"/>
            <p:cNvSpPr/>
            <p:nvPr/>
          </p:nvSpPr>
          <p:spPr>
            <a:xfrm>
              <a:off x="5975280" y="4483080"/>
              <a:ext cx="230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i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it-IT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     ）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sh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     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1"/>
            <p:cNvSpPr/>
            <p:nvPr/>
          </p:nvSpPr>
          <p:spPr>
            <a:xfrm>
              <a:off x="5397480" y="4923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组合 24"/>
          <p:cNvGrpSpPr/>
          <p:nvPr/>
        </p:nvGrpSpPr>
        <p:grpSpPr>
          <a:xfrm>
            <a:off x="1054080" y="4483080"/>
            <a:ext cx="4743360" cy="1191240"/>
            <a:chOff x="1054080" y="4483080"/>
            <a:chExt cx="4743360" cy="1191240"/>
          </a:xfrm>
        </p:grpSpPr>
        <p:sp>
          <p:nvSpPr>
            <p:cNvPr id="94" name="矩形 25"/>
            <p:cNvSpPr/>
            <p:nvPr/>
          </p:nvSpPr>
          <p:spPr>
            <a:xfrm>
              <a:off x="1697040" y="4483080"/>
              <a:ext cx="41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z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ǎ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i</a:t>
              </a:r>
              <a:r>
                <a:rPr b="1" lang="it-IT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              ）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z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i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              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矩形 26"/>
            <p:cNvSpPr/>
            <p:nvPr/>
          </p:nvSpPr>
          <p:spPr>
            <a:xfrm>
              <a:off x="1054080" y="492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矩形 27"/>
          <p:cNvSpPr/>
          <p:nvPr/>
        </p:nvSpPr>
        <p:spPr>
          <a:xfrm>
            <a:off x="3602520" y="4626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记载、三年五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8"/>
          <p:cNvSpPr/>
          <p:nvPr/>
        </p:nvSpPr>
        <p:spPr>
          <a:xfrm>
            <a:off x="3612240" y="5176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装载、怨声载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29"/>
          <p:cNvSpPr/>
          <p:nvPr/>
        </p:nvSpPr>
        <p:spPr>
          <a:xfrm>
            <a:off x="7079040" y="4608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厦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0"/>
          <p:cNvSpPr/>
          <p:nvPr/>
        </p:nvSpPr>
        <p:spPr>
          <a:xfrm>
            <a:off x="7088760" y="5145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左大括号 31"/>
          <p:cNvSpPr/>
          <p:nvPr/>
        </p:nvSpPr>
        <p:spPr>
          <a:xfrm>
            <a:off x="1619280" y="4776840"/>
            <a:ext cx="81000" cy="776160"/>
          </a:xfrm>
          <a:custGeom>
            <a:avLst/>
            <a:gdLst>
              <a:gd name="textAreaLeft" fmla="*/ 51840 w 81000"/>
              <a:gd name="textAreaRight" fmla="*/ 81000 w 81000"/>
              <a:gd name="textAreaTop" fmla="*/ 1800 h 776160"/>
              <a:gd name="textAreaBottom" fmla="*/ 774360 h 7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左大括号 32"/>
          <p:cNvSpPr/>
          <p:nvPr/>
        </p:nvSpPr>
        <p:spPr>
          <a:xfrm>
            <a:off x="5880240" y="4754520"/>
            <a:ext cx="81000" cy="776160"/>
          </a:xfrm>
          <a:custGeom>
            <a:avLst/>
            <a:gdLst>
              <a:gd name="textAreaLeft" fmla="*/ 51840 w 81000"/>
              <a:gd name="textAreaRight" fmla="*/ 81000 w 81000"/>
              <a:gd name="textAreaTop" fmla="*/ 1800 h 776160"/>
              <a:gd name="textAreaBottom" fmla="*/ 774360 h 7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0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图片 23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08" name="圆角矩形 19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20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理解词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4"/>
          <p:cNvSpPr/>
          <p:nvPr/>
        </p:nvSpPr>
        <p:spPr>
          <a:xfrm>
            <a:off x="1073160" y="2271600"/>
            <a:ext cx="75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残酷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奴役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融洽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慷慨激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横行霸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868400" y="2286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凶狠冷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1839960" y="284004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把人当作奴隶使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1916280" y="338940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彼此感情好，没有抵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6"/>
          <p:cNvSpPr/>
          <p:nvPr/>
        </p:nvSpPr>
        <p:spPr>
          <a:xfrm>
            <a:off x="2470320" y="3936960"/>
            <a:ext cx="51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情绪、语调激动昂扬而充满正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7"/>
          <p:cNvSpPr/>
          <p:nvPr/>
        </p:nvSpPr>
        <p:spPr>
          <a:xfrm>
            <a:off x="2475000" y="4484520"/>
            <a:ext cx="62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仗势胡作非为，蛮不讲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1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图片 23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23" name="圆角矩形 19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20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理解词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24"/>
          <p:cNvSpPr/>
          <p:nvPr/>
        </p:nvSpPr>
        <p:spPr>
          <a:xfrm>
            <a:off x="1033560" y="2192400"/>
            <a:ext cx="84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负隅顽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惊恐万状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喜出望外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载歌载舞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2409840" y="3281400"/>
            <a:ext cx="65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惊慌、恐惧而表现出许多不正常的姿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2413080" y="3854520"/>
            <a:ext cx="56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遇到出乎意料的喜事而特别高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2392200" y="43848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又是唱歌又是跳舞，形容尽情欢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载：又；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6"/>
          <p:cNvSpPr/>
          <p:nvPr/>
        </p:nvSpPr>
        <p:spPr>
          <a:xfrm>
            <a:off x="2422440" y="2203560"/>
            <a:ext cx="62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凭借险要的地势或某种条件顽固抵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负：依仗；倚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3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 24" descr="花盆.png"/>
          <p:cNvPicPr/>
          <p:nvPr/>
        </p:nvPicPr>
        <p:blipFill>
          <a:blip r:embed="rId5"/>
          <a:stretch/>
        </p:blipFill>
        <p:spPr>
          <a:xfrm>
            <a:off x="789120" y="1859040"/>
            <a:ext cx="322200" cy="369720"/>
          </a:xfrm>
          <a:prstGeom prst="rect">
            <a:avLst/>
          </a:prstGeom>
          <a:ln w="0">
            <a:noFill/>
          </a:ln>
        </p:spPr>
      </p:pic>
      <p:sp>
        <p:nvSpPr>
          <p:cNvPr id="138" name="内容占位符 2"/>
          <p:cNvSpPr/>
          <p:nvPr/>
        </p:nvSpPr>
        <p:spPr>
          <a:xfrm>
            <a:off x="1057320" y="1157400"/>
            <a:ext cx="741348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Adobe 楷体 Std R"/>
              </a:rPr>
              <a:t>请同学们带着以下问题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称郑成功是一位民族英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郑成功为什么要收复台湾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郑军战胜侵略者，靠的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郑成功是如何建设台湾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写了哪件事？略写了哪件事？作者为什么要这样处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图片 39" descr=""/>
          <p:cNvPicPr/>
          <p:nvPr/>
        </p:nvPicPr>
        <p:blipFill>
          <a:blip r:embed="rId6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4" descr="花盆.png"/>
          <p:cNvPicPr/>
          <p:nvPr/>
        </p:nvPicPr>
        <p:blipFill>
          <a:blip r:embed="rId7"/>
          <a:stretch/>
        </p:blipFill>
        <p:spPr>
          <a:xfrm>
            <a:off x="792000" y="2962440"/>
            <a:ext cx="3225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25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2" name="组 2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4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图片 10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47" name="圆角矩形 19"/>
          <p:cNvSpPr/>
          <p:nvPr/>
        </p:nvSpPr>
        <p:spPr>
          <a:xfrm>
            <a:off x="3502080" y="1459080"/>
            <a:ext cx="235116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20"/>
          <p:cNvSpPr/>
          <p:nvPr/>
        </p:nvSpPr>
        <p:spPr>
          <a:xfrm>
            <a:off x="3781440" y="14590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课文整体感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9" descr=""/>
          <p:cNvPicPr/>
          <p:nvPr/>
        </p:nvPicPr>
        <p:blipFill>
          <a:blip r:embed="rId6"/>
          <a:stretch/>
        </p:blipFill>
        <p:spPr>
          <a:xfrm>
            <a:off x="2666880" y="1324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2"/>
          <p:cNvSpPr/>
          <p:nvPr/>
        </p:nvSpPr>
        <p:spPr>
          <a:xfrm>
            <a:off x="773280" y="2098800"/>
            <a:ext cx="782784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100" spc="-1" strike="noStrike">
                <a:solidFill>
                  <a:srgbClr val="000000"/>
                </a:solidFill>
                <a:latin typeface="Calibri"/>
              </a:rPr>
              <a:t>第一部分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自然段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介绍郑成功是福建南安县人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100" spc="-1" strike="noStrike">
                <a:solidFill>
                  <a:srgbClr val="000000"/>
                </a:solidFill>
                <a:latin typeface="Calibri"/>
              </a:rPr>
              <a:t>第二部分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自然段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具体记述了郑成功收复台湾的经过，是课文的重点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100" spc="-1" strike="noStrike">
                <a:solidFill>
                  <a:srgbClr val="000000"/>
                </a:solidFill>
                <a:latin typeface="Calibri"/>
              </a:rPr>
              <a:t>第三部分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自然段</a:t>
            </a:r>
            <a:r>
              <a:rPr b="1" sz="2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简要介绍郑成功建设台湾的两件实事：发展生产和兴办教育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第四部分</a:t>
            </a: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自然段</a:t>
            </a: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：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100" spc="-1" strike="noStrike">
                <a:solidFill>
                  <a:srgbClr val="000000"/>
                </a:solidFill>
                <a:latin typeface="宋体"/>
                <a:ea typeface="宋体"/>
              </a:rPr>
              <a:t>概括全文，突出中心：我们永远不会忘记郑成功的伟大功业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25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2" name="组 2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5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图片 10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57" name="圆角矩形 19"/>
          <p:cNvSpPr/>
          <p:nvPr/>
        </p:nvSpPr>
        <p:spPr>
          <a:xfrm>
            <a:off x="3502080" y="1459080"/>
            <a:ext cx="235116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20"/>
          <p:cNvSpPr/>
          <p:nvPr/>
        </p:nvSpPr>
        <p:spPr>
          <a:xfrm>
            <a:off x="3781440" y="14590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课文理解品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图片 9" descr=""/>
          <p:cNvPicPr/>
          <p:nvPr/>
        </p:nvPicPr>
        <p:blipFill>
          <a:blip r:embed="rId6"/>
          <a:stretch/>
        </p:blipFill>
        <p:spPr>
          <a:xfrm>
            <a:off x="2666880" y="1324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923760" y="2048040"/>
            <a:ext cx="769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明朝末年，荷兰侵略者强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(qiánɡ)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占了我国的宝岛台湾。他们残酷地奴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(nú)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役台湾同胞，台湾人民恨透了这伙强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荷兰侵略者无耻地“强占”台湾，“残酷地奴役台湾同胞”，他们的“强盗”行径让台湾同胞无比痛恨，是郑成功率领台湾人民奋起反抗的导火索，为下文郑成功收复台湾作了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铺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5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 2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6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图片 10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2"/>
          <p:cNvSpPr/>
          <p:nvPr/>
        </p:nvSpPr>
        <p:spPr>
          <a:xfrm>
            <a:off x="882720" y="1387440"/>
            <a:ext cx="7542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英勇的郑军官兵冒着敌人密集的炮火，驾着舰船向敌军舰队冲去。他们将敌舰团团围住，使敌人的大炮失去了威力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是对郑军官兵与侵略者激烈战斗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场面描写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“高大坚固的铁甲舰”“负隅顽抗”“密集的炮火”等词，不难想象出作战的激烈和艰难；对郑军官兵的动作描写充分展现了郑军官兵的机智和英勇。这种英勇顽强的作风是取胜的保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pple apple</dc:creator>
  <dc:description/>
  <cp:keywords/>
  <dc:language>en-US</dc:language>
  <cp:lastModifiedBy>chicken君</cp:lastModifiedBy>
  <dcterms:modified xsi:type="dcterms:W3CDTF">2017-11-11T09:52:33Z</dcterms:modified>
  <cp:revision>2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