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B5D-593A-450C-BA17-2D1B631B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89C-D038-4AE9-86F7-F6B6A05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9DB-326D-401F-ADF0-36E02B3F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AD9-ECC2-4FCA-8FBC-E3B66E67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D7F-7948-45D3-80CE-429E1645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C5B-3E1D-49ED-9D26-455CF384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2F1-1CB3-4AE0-ACFC-9CF83B26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64A-3902-439D-B87F-87350F6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3EF-8776-4CC4-8C3B-9D47C59D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A4A-6A6C-4B59-9179-3C008826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7A8-CDBD-43AA-9405-167188A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BF3-542B-427F-9E52-57454AEA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0ED4-611A-4790-A14D-D7DFFF393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076720" y="2349360"/>
            <a:ext cx="33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9600" spc="-1" strike="noStrike">
                <a:solidFill>
                  <a:srgbClr val="0000ff"/>
                </a:solidFill>
                <a:latin typeface="隶书"/>
                <a:ea typeface="隶书"/>
              </a:rPr>
              <a:t>凡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24000" y="5734080"/>
            <a:ext cx="57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8847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1054080"/>
            <a:ext cx="8496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凡卡想起了什么事？为什么会想起这些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1628640"/>
            <a:ext cx="849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第一次：想到了爷爷守夜的情形和乡村冬夜的景色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第二次：想到了与爷爷砍圣诞树的情景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299736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联想到爷爷，突出了凡卡对爷爷的思念；联想到联想到冬夜的景色，说明冬夜充满了快活、欢乐的气氛，这与凡卡的学徒生活形成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鲜明的对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说明凡卡思念爷爷，思念家乡的一切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想到爷爷砍圣诞树可以看出爷爷在农村的生活很贫苦，但在凡卡的回忆里是那样的美好快乐、有趣，说明凡卡在莫斯科生活的孤单与凄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什么原因使凡卡在给爷爷的心中回忆了乡下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乡下生活虽然很艰难，但在凡卡看来，和爷爷在一起的生活是那么自由、快乐，那么值得怀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49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子的理解 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④过了一个钟头，他怀着甜蜜的希望睡熟了。他在梦里看见一铺暖炕，炕上坐着他的爷爷，耷拉着两条腿，正在念他的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泥鳅在炕边走来走去，摇着尾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306864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即使收到，也无能为力。这样看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凡卡的美好愿望就如他的梦一样，只是一个天真的梦而已。梦醒之后，悲惨的生活依旧，甚至更加悲惨，因为唯一的希望破灭了，他连梦也没有了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文的结尾，写凡卡做美梦，是为了说明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沙皇统治下的资本主义社会，凡卡追求自由生活的愿望只能是个梦，永远不能实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理解本文的表达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238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两段回忆是本文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插叙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两段联想对凡卡的学徒生活起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比、反衬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文章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细节描写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也很突出，这样使人仿佛看见了当时的情景，这给人留下了鲜明的印象，深刻感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41440" y="1919160"/>
            <a:ext cx="8137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小练笔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以“凡卡醒来之后”为题，发挥想象，续写凡卡的可能的遭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924360" y="836640"/>
            <a:ext cx="4859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凡卡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作者是俄国著名作家安东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•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巴甫洛维奇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•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契诃夫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(1860---1904)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契诃夫生活在十九世纪末期，正是沙皇统治俄国最黑暗的时代。契诃夫的作品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凡卡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写于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1886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反映了沙皇尼古拉三世时，强征暴敛使无数农民破产，被迫流入城市谋生，深受剥削，连儿童也不能幸免的社会现实</a:t>
            </a:r>
            <a:r>
              <a:rPr b="0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他的作品无情地揭露了沙皇统治下不合理的 社会和资本主义社会的罪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24000" y="549360"/>
            <a:ext cx="556236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黑体"/>
              </a:rPr>
              <a:t>（俄）契诃夫简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3399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0050723114546602"/>
          <p:cNvPicPr/>
          <p:nvPr/>
        </p:nvPicPr>
        <p:blipFill>
          <a:blip r:embed="rId2"/>
          <a:srcRect l="0" t="0" r="12128" b="7667"/>
          <a:stretch/>
        </p:blipFill>
        <p:spPr>
          <a:xfrm>
            <a:off x="395280" y="1341360"/>
            <a:ext cx="35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凡卡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87280" y="1557360"/>
            <a:ext cx="583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幼圆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凡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幼圆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幼圆"/>
              </a:rPr>
              <a:t>188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年，它反映了沙皇尼古拉三世时，无数破产的农民被迫进入城市谋生，他们深受剥削之苦，连儿童也不能幸免，契诃夫家的小杂货店里有两个小学徒，就常常受到他父亲的虐待，他自小了解学徒生活，也同情小学徒的不幸遭遇。所以这篇小说写得真实感人，也让我们从中看到了旧俄时代劳动人民的悲惨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《凡卡》插图"/>
          <p:cNvPicPr/>
          <p:nvPr/>
        </p:nvPicPr>
        <p:blipFill>
          <a:blip r:embed="rId2"/>
          <a:srcRect l="0" t="769" r="0" b="0"/>
          <a:stretch/>
        </p:blipFill>
        <p:spPr>
          <a:xfrm>
            <a:off x="395280" y="1413000"/>
            <a:ext cx="2484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内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文章是按写信的过程记叙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叙述圣诞节前夜凡卡趁老板、老板娘和伙计们去教堂做礼拜的机会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偷偷地给爷爷写信；接着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凡卡在信中向爷爷倾诉自己难以忍受的悲惨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徒生活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再三哀求爷爷带他离开这儿，回到乡下去，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忆了乡下生活的两个情景（一是爷爷守夜的情景，一是过圣诞节的情景）；最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凡卡把写好的信塞进邮筒里，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甜蜜的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看见爷爷正在念着他的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大致可以分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准备写信、写信、寄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部分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081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准备写信、写信、寄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3332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准备写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—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写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—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寄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—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56908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子的理解 ：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圣诞节前夜，他没躺下睡觉。他等老板、老板娘和几个伙计到教堂做礼拜去了，就从老板的立柜里拿出一小瓶墨水，一枝笔尖生了锈的钢笔，摩平一张揉皱了的白纸，写起信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997360"/>
            <a:ext cx="8569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圣诞节前夜，凡卡没躺下睡觉，是因为节日让他思念唯一的亲人爷爷，也是因为他还有一个心愿──偷偷地给爷爷写信，请求爷爷把他接回去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出凡卡心情的迫切。凡卡等所有人都不在了才敢写，害怕被人发现，也暗示了凡卡学徒生活的艰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5688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句子的理解 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他叹了一口气，跪在作台前面，把那张纸铺在作台上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2349360"/>
            <a:ext cx="56894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里关于凡卡写信过程的“叹气”还有两次，“凡卡叹了口气，蘸了蘸笔尖，接着写下去。”“凡卡伤心地叹口气，又呆呆地望着窗口。”对于一个年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孩子来说，这叹气跟他的年龄是很不相称的，写一封信的过程中，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续叹气，可见这样的生活的确压得他喘不过气来，让他痛苦万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bee48916ac9e6b6ef2de32c7"/>
          <p:cNvPicPr/>
          <p:nvPr/>
        </p:nvPicPr>
        <p:blipFill>
          <a:blip r:embed="rId2"/>
          <a:stretch/>
        </p:blipFill>
        <p:spPr>
          <a:xfrm>
            <a:off x="5867280" y="620640"/>
            <a:ext cx="30258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053720"/>
            <a:ext cx="914400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想一想，凡卡在鞋铺里受到了怎样的折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凡卡为什么会受到折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24000" y="20620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）挨打：被老板娘揪着头发，拖到院子里，拿皮带打，老板娘用鱼嘴戳他的脸，就因为他收拾鱼从尾巴上弄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3502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1c1c1c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1c1c1c"/>
                </a:solidFill>
                <a:latin typeface="黑体"/>
                <a:ea typeface="黑体"/>
              </a:rPr>
              <a:t>）挨饿：吃的简直没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40784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1c1c1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黑体"/>
                <a:ea typeface="黑体"/>
              </a:rPr>
              <a:t>）挨冻：而且睡不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体会：凡卡学徒生活的艰辛，命运的悲惨，当时社会的黑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569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句子的理解 ：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③我的生活没有指望了，连狗都不如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9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指望”是指生活的希望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卡来大城市做学徒，本指望学会做鞋，有个一技之长，养家糊口，可来这里做的事跟学做鞋没有一点关系；本指望从此有吃有住，却“饿得要命”，差点被打死，连狗都不如；本指望莫斯科这个大城市，活下去容易些，可是依然没有穷人的活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饥饿、孤独、痛苦，彻底打碎了凡卡的梦想，所以他说“我的生活没有指望了”。文中几次提到死，也是反映了凡卡极度痛苦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/>
  <dc:language>en-US</dc:language>
  <cp:lastModifiedBy>USER</cp:lastModifiedBy>
  <dcterms:modified xsi:type="dcterms:W3CDTF">2015-08-04T23:05:41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