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66DA-94AE-4D30-A647-E913474C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319-0E3D-4396-BBED-826339C6A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54CD-6877-42CD-BF44-C8AD83EB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9A57-463D-45EB-88EC-A3AA5BDE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0FF2-FB4C-4892-A712-D4482A3A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7C89-B533-4204-9421-B2597B78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EF1D-037D-41AB-B8F7-A5DC5DD0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FBF0-2782-4CE5-8AAA-C891E373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548-DFE3-4DD5-BB0B-8073A4539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F7F-C12C-45AD-B75E-CFE598BB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BB2-760D-4647-8D21-9D71A32E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6332-F3AA-40CB-B454-07F22A1C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79E5-FE33-46A9-B62B-D28E21B059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176560" y="23288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8{E0$1@NE{`_)17{RZS4YL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1187280" y="73836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故乡的河（浉河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      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2319480" y="22575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}U`T$])YLH$D$~E([J]({S2"/>
          <p:cNvPicPr/>
          <p:nvPr/>
        </p:nvPicPr>
        <p:blipFill>
          <a:blip r:embed="rId1"/>
          <a:stretch/>
        </p:blipFill>
        <p:spPr>
          <a:xfrm>
            <a:off x="0" y="0"/>
            <a:ext cx="687564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877080" y="0"/>
            <a:ext cx="208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浉河，是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淮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主要支流，位于河南省信阳市的一条全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1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公里，流域面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7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方公里的河流，主要支流有飞沙河、五道河、东双河、杜河等。浉河流经信阳市区，沿岸景观优美，有浉河公园、震雷山、南湾湖等景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179280" y="2008080"/>
            <a:ext cx="8496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中国电影剧作家、诗人、作家。原名陈佑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生于河南信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岁时便发表了第一篇诗作，第一次以白桦为笔名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4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加入中国人民解放军中原野战军，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开始创作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在上海海燕电影制片厂任编辑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调武汉军区创作组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起为上海作协专业作家，相继发表有诗作、短篇小说、中、长篇小说、话剧剧本。其代表性电影剧作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山间铃响马帮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曙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夜星光灿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孔雀公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最后的贵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468360" y="64296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作者简介</a:t>
            </a:r>
            <a:r>
              <a:rPr b="1" lang="en-US" sz="5400" spc="-1" strike="noStrike">
                <a:solidFill>
                  <a:srgbClr val="009999"/>
                </a:solidFill>
                <a:latin typeface="Arial"/>
              </a:rPr>
              <a:t>——</a:t>
            </a:r>
            <a:r>
              <a:rPr b="1" lang="zh-CN" sz="5400" spc="-1" strike="noStrike">
                <a:solidFill>
                  <a:srgbClr val="009999"/>
                </a:solidFill>
                <a:latin typeface="Arial"/>
              </a:rPr>
              <a:t>白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7216920" y="673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4VL_}_TUWQ[@T]()XIW)KII"/>
          <p:cNvPicPr/>
          <p:nvPr/>
        </p:nvPicPr>
        <p:blipFill>
          <a:blip r:embed="rId1"/>
          <a:stretch/>
        </p:blipFill>
        <p:spPr>
          <a:xfrm>
            <a:off x="6588000" y="0"/>
            <a:ext cx="1924200" cy="200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8"/>
          <p:cNvSpPr/>
          <p:nvPr/>
        </p:nvSpPr>
        <p:spPr>
          <a:xfrm>
            <a:off x="7288200" y="5713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463840" y="24004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Z5`E$([IUS)(I9XYF4AFBMK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9280" y="102060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自读课文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2.3.4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自然段，想象作者写了小时侯的哪些趣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0" y="3206880"/>
            <a:ext cx="88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作者白桦想到了故乡的河冬浅夏涨的特点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他小时候曾经在河里叉鱼，丢到了鞋子，短裤被人偷走，对寺庙里的和尚们说了可笑的话逗得大家哈哈大笑等往事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824200" y="21128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71_OXNEERRIGB7A9WZTI7$8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755640" y="0"/>
            <a:ext cx="67881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浉河泛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清） 张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双桨荡晴川，     蟾光散暮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珠随天山满，     镜向水心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桂席飞杯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 兰言胜管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映淮良可赋，     同时对清涟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743120" y="21128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V)9$~$ICY{1)G{28O5SB[%P"/>
          <p:cNvPicPr/>
          <p:nvPr/>
        </p:nvPicPr>
        <p:blipFill>
          <a:blip r:embed="rId1"/>
          <a:stretch/>
        </p:blipFill>
        <p:spPr>
          <a:xfrm>
            <a:off x="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176560" y="23288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031840" y="23288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@W)K5X7EQ]$5W@]ZA`}DY]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900000" y="479736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</a:rPr>
              <a:t>河对岸的竹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247840" y="2257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LUW1W_BFZ9D%UBIP@U4EK@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751120" y="21128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4AA(DN4XBUE_G%O6VDMUNJ1"/>
          <p:cNvPicPr/>
          <p:nvPr/>
        </p:nvPicPr>
        <p:blipFill>
          <a:blip r:embed="rId1"/>
          <a:stretch/>
        </p:blipFill>
        <p:spPr>
          <a:xfrm>
            <a:off x="571680" y="1071720"/>
            <a:ext cx="8072280" cy="55720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0" y="260280"/>
            <a:ext cx="83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板书</a:t>
            </a: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———</a:t>
            </a: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文章层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5:04:54Z</dcterms:created>
  <dc:creator>未知用户</dc:creator>
  <dc:description/>
  <dc:language>en-US</dc:language>
  <cp:lastModifiedBy>Administrator</cp:lastModifiedBy>
  <dcterms:modified xsi:type="dcterms:W3CDTF">2016-06-01T08:16:21Z</dcterms:modified>
  <cp:revision>15</cp:revision>
  <dc:subject/>
  <dc:title>幻灯片 1</dc:title>
</cp:coreProperties>
</file>