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798-C0E8-435D-8AB6-DAEA54B3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926-885A-481F-A244-0BDA8C39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C56-C605-4D25-AB89-38F08695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CB7-AF5D-4ED6-AF30-2EDD45F0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CB1D-9E51-4E6D-85D8-D062FB74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FE2B-64E8-47A0-9044-60516BEA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1691-5006-4284-83BF-338F9B94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5E0C-54F7-4502-8432-1AF15D8F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7FDB-FCD9-4A8A-B037-49EDCD04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3383-DD24-4904-A993-655E64D5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F7F3-6475-4E75-8600-61C35854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12B-3A69-41C8-BFED-7F0411C0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1F14-FF32-45C1-846F-2AD80329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E436-F7F7-43CC-9C63-B3644689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7483-B1D0-41E9-B32C-0A8D0E15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201D-F6F5-4CBC-A440-937D2D14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AB84-4A31-4DAC-835F-45B06D0C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C8C-3FC1-41A4-BCE0-F64D8969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17F-C84D-405F-9B0A-955139F0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55C-5471-43B6-BCB6-2D66E33C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454-A86C-4E1F-9ACA-54EE9F4F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60D-9BC6-4916-B92B-516EC87A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50B-9ABE-48A7-B19B-B6A071C3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D20-A28D-41DD-9963-4BB339D4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7BC3-5DA8-44FD-A0A5-AD8261C852F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680"/>
            <a:ext cx="2430000" cy="2250360"/>
            <a:chOff x="7170120" y="-85680"/>
            <a:chExt cx="2430000" cy="22503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680"/>
              <a:ext cx="2430000" cy="2250360"/>
              <a:chOff x="7170120" y="-85680"/>
              <a:chExt cx="2430000" cy="225036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680"/>
                <a:ext cx="2430000" cy="2250360"/>
                <a:chOff x="7170120" y="-85680"/>
                <a:chExt cx="2430000" cy="225036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76440" y="113040"/>
                  <a:ext cx="243720" cy="198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06400" y="522360"/>
                  <a:ext cx="42876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04360" y="285120"/>
                  <a:ext cx="80496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1040" y="-27000"/>
                  <a:ext cx="12078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2400" y="1422360"/>
                  <a:ext cx="269280" cy="19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2200" y="1277280"/>
                  <a:ext cx="288720" cy="22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06320" y="327960"/>
                  <a:ext cx="288360" cy="23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48360" y="21888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未知"/>
            <p:cNvSpPr/>
            <p:nvPr/>
          </p:nvSpPr>
          <p:spPr>
            <a:xfrm>
              <a:off x="280800" y="281160"/>
              <a:ext cx="3571920" cy="16146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752400" y="546120"/>
              <a:ext cx="2361960" cy="14590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未知"/>
              <p:cNvSpPr/>
              <p:nvPr/>
            </p:nvSpPr>
            <p:spPr>
              <a:xfrm>
                <a:off x="3182760" y="1482840"/>
                <a:ext cx="336600" cy="33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514080" y="250920"/>
                <a:ext cx="2676600" cy="9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64908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134280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2560" y="4317840"/>
            <a:ext cx="982800" cy="1161360"/>
            <a:chOff x="7792560" y="4317840"/>
            <a:chExt cx="982800" cy="1161360"/>
          </a:xfrm>
        </p:grpSpPr>
        <p:sp>
          <p:nvSpPr>
            <p:cNvPr id="99" name="未知"/>
            <p:cNvSpPr/>
            <p:nvPr/>
          </p:nvSpPr>
          <p:spPr>
            <a:xfrm rot="7320000">
              <a:off x="7789320" y="4652640"/>
              <a:ext cx="998640" cy="4690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 rot="7320000">
              <a:off x="7770600" y="4634280"/>
              <a:ext cx="995400" cy="4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 rot="7320000">
              <a:off x="7932600" y="4615200"/>
              <a:ext cx="660600" cy="4240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2560" y="4317840"/>
              <a:ext cx="982800" cy="1161360"/>
              <a:chOff x="7792560" y="4317840"/>
              <a:chExt cx="982800" cy="1161360"/>
            </a:xfrm>
          </p:grpSpPr>
          <p:sp>
            <p:nvSpPr>
              <p:cNvPr id="103" name="未知"/>
              <p:cNvSpPr/>
              <p:nvPr/>
            </p:nvSpPr>
            <p:spPr>
              <a:xfrm rot="7320000">
                <a:off x="7916760" y="5056920"/>
                <a:ext cx="93600" cy="9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 rot="7320000">
                <a:off x="7754400" y="4649400"/>
                <a:ext cx="1058760" cy="49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 rot="7320000">
                <a:off x="8039880" y="4756680"/>
                <a:ext cx="749160" cy="28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 rot="7320000">
                <a:off x="8513280" y="4554720"/>
                <a:ext cx="100080" cy="18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 rot="7320000">
                <a:off x="8150400" y="4754880"/>
                <a:ext cx="306360" cy="16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未知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E637-A1A6-4284-B019-CE32E02FBE9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03"/>
          <p:cNvPicPr/>
          <p:nvPr/>
        </p:nvPicPr>
        <p:blipFill>
          <a:blip r:embed="rId1"/>
          <a:stretch/>
        </p:blipFill>
        <p:spPr>
          <a:xfrm>
            <a:off x="1905120" y="609480"/>
            <a:ext cx="5257800" cy="334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2364840" y="403848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我有一个梦，我梦到有一天黑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男孩和女孩能跟白人男孩和女孩手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手像兄弟姐妹似的走在一起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复件 思考"/>
          <p:cNvPicPr/>
          <p:nvPr/>
        </p:nvPicPr>
        <p:blipFill>
          <a:blip r:embed="rId1"/>
          <a:stretch/>
        </p:blipFill>
        <p:spPr>
          <a:xfrm>
            <a:off x="7596360" y="4508640"/>
            <a:ext cx="1368360" cy="10810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7524720" y="5516640"/>
            <a:ext cx="1368360" cy="947160"/>
          </a:xfrm>
          <a:prstGeom prst="rect">
            <a:avLst/>
          </a:prstGeom>
          <a:solidFill>
            <a:srgbClr val="99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  <a:ea typeface="华文新魏"/>
              </a:rPr>
              <a:t>我会运用词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24000" y="476280"/>
            <a:ext cx="8496000" cy="35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救济：用金钱或物质帮助灾区或生活困难的人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Comic Sans MS"/>
                <a:ea typeface="华文中宋"/>
              </a:rPr>
              <a:t>源源不断的救济从四面八方送到了灾区人民手中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讨厌：惹人厌恶或厌烦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omic Sans MS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Comic Sans MS"/>
                <a:ea typeface="华文中宋"/>
              </a:rPr>
              <a:t>有些孩子的卫生习惯一点也不好，随地乱扔垃圾，真让人讨厌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小心翼翼：谨慎小心，一点也不敢疏忽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Comic Sans MS"/>
                <a:ea typeface="华文中宋"/>
              </a:rPr>
              <a:t>清晨，妈妈总是小心翼翼地起床做饭，想让我多睡一会儿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复件 思考"/>
          <p:cNvPicPr/>
          <p:nvPr/>
        </p:nvPicPr>
        <p:blipFill>
          <a:blip r:embed="rId1"/>
          <a:stretch/>
        </p:blipFill>
        <p:spPr>
          <a:xfrm>
            <a:off x="7596360" y="4508640"/>
            <a:ext cx="1368360" cy="10810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7524720" y="5516640"/>
            <a:ext cx="1368360" cy="947160"/>
          </a:xfrm>
          <a:prstGeom prst="rect">
            <a:avLst/>
          </a:prstGeom>
          <a:solidFill>
            <a:srgbClr val="99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  <a:ea typeface="华文新魏"/>
              </a:rPr>
              <a:t>我会近反义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24000" y="476280"/>
            <a:ext cx="849600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救济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接济  灰暗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昏暗  讨厌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厌恶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奚落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嘲笑  苦闷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烦恼  辛苦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劳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95280" y="27813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困难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容易  自愿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违心  拒绝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接受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扫描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WordArt 3"/>
          <p:cNvSpPr txBox="1"/>
          <p:nvPr/>
        </p:nvSpPr>
        <p:spPr>
          <a:xfrm>
            <a:off x="900000" y="981000"/>
            <a:ext cx="27813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华文中宋"/>
              </a:rPr>
              <a:t>学习课文</a:t>
            </a:r>
            <a:endParaRPr b="1" lang="en-US" sz="5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94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79640" y="1341360"/>
            <a:ext cx="61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276720" y="59500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2771640" y="587700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763640" y="6308640"/>
            <a:ext cx="61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2987640" y="64422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780000" y="530064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1619280" y="1341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理解课文题目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WordArt 11"/>
          <p:cNvSpPr txBox="1"/>
          <p:nvPr/>
        </p:nvSpPr>
        <p:spPr>
          <a:xfrm>
            <a:off x="3132000" y="2421000"/>
            <a:ext cx="302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黑孩子罗伯特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1619280" y="3500280"/>
            <a:ext cx="6265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为什么不用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罗伯特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做题目？加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黑孩子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有何用意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意在着重强调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黑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，一方面表明美国当时存在严重的种族歧视，另一方面暗示罗伯特的高尚品质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94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1979640" y="1341360"/>
            <a:ext cx="61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3276720" y="59500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2771640" y="587700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1763640" y="6308640"/>
            <a:ext cx="61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2987640" y="64422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3780000" y="530064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1619280" y="10526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读课文，梳理结构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187280" y="1700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第一部分：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）回顾马丁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路德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金的讲话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1187280" y="21319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第二部分：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2-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）罗伯特生活在种族歧视的环境中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1187280" y="306720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第三部分：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6-1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）罗伯特把辛辛苦苦攒来买战斗机模型的钱，捐给丽莎看病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773280" y="30686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Comic Sans MS"/>
              </a:rPr>
              <a:t>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1187280" y="40035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第四部分：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16-19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）罗伯特的举动赢得了丽莎一家的爱和尊重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1187280" y="50115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第五部分：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）意味深长的结尾引发我们的联想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给课文画情节曲线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066680" y="13716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围绕罗伯特主要写了什么事情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457200" y="2057400"/>
            <a:ext cx="8077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主要讲，（         ）一个贫穷、遭受歧视的黑人小孩（         ），为了挽救一个经常羞辱他的白人小女孩（       ）的生命，不惜把自己准备（                   ）全部捐了出来，虽然丽莎死了，可是他却得到了（                         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6858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omic Sans MS"/>
              </a:rPr>
              <a:t>课文主要内容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4038480" y="2133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美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4038480" y="2819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罗伯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638680" y="3352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丽莎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4495680" y="3962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买模型的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838080" y="51814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丽莎爸爸的拥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课文开头引用了马丁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路德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金的一段话，有什么作用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小资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马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路德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金为之献出生命的理想是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马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路德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金与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和孩子罗伯特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这篇课文有什么关系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6920" y="2924280"/>
            <a:ext cx="77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马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路德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金的理想是建立民主、平等自由的社会，引用这个演讲，使课文从记叙一个黑孩子的个人命运，扩展到社会问题、人类共同关心的问题，使作品的主题得到了深化和升华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510560" y="1447920"/>
            <a:ext cx="6075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南非的种族歧视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自从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652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年荷兰殖民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入侵南非后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白人殖民者就在这里推行极端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动的种族歧视政策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其目的是为了维护白人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权的统治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对非白人种族进行长期的统治和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削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种族歧视的具体表现为先后颁布一百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项带种族歧视内容的法令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如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种族隔离法”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通行证法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等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92800" y="252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种族歧视相关资料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罗伯特的心愿是什么？结合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自然段说说为什么他的心愿实现不了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除了满地乱跑的老鼠和那冲鼻的霉臭，他还可能讨厌什么？说明什么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拉手做朋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本来很普通的事情为什么遭到拒绝？又说明了什么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1066680" y="13716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围绕罗伯特主要写了什么事情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457200" y="2057400"/>
            <a:ext cx="8077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主要讲，（         ）一个贫穷、遭受歧视的黑人小孩（         ），为了挽救一个经常羞辱他的白人小女孩（       ）的生命，不惜把自己准备（                   ）全部捐了出来，虽然丽莎死了，可是他却得到了（                         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858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omic Sans MS"/>
              </a:rPr>
              <a:t>课文主要内容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4038480" y="2133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美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4038480" y="2819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罗伯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5638680" y="3352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丽莎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4495680" y="3962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买模型的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838080" y="51814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丽莎爸爸的拥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0000"/>
                </a:solidFill>
                <a:latin typeface="Comic Sans MS"/>
              </a:rPr>
              <a:t>他觉得丽莎既聪明又漂亮，红红的脸好像春天开的玫瑰花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258920" y="5300640"/>
            <a:ext cx="655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这是什么描写？说明了什么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4"/>
          <p:cNvSpPr/>
          <p:nvPr/>
        </p:nvSpPr>
        <p:spPr>
          <a:xfrm>
            <a:off x="380880" y="1484280"/>
            <a:ext cx="863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哼，谁跟你做朋友！我爸爸最讨厌黑人，他说你们黑人又蠢又脏。”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533520" y="34290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想一想丽莎说这句话时会是什么表情？你能学一学吗？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990720" y="44956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丽莎为什么要这样对待罗伯特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他学习不好吗？是他不真诚吗？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Comic Sans MS"/>
              </a:rPr>
              <a:t>走在路上，罗伯特发现玫瑰花开得好红，红得像丽莎的脸蛋一样漂亮</a:t>
            </a:r>
            <a:r>
              <a:rPr b="0" lang="zh-CN" sz="6000" spc="-1" strike="noStrike">
                <a:solidFill>
                  <a:srgbClr val="800000"/>
                </a:solidFill>
                <a:latin typeface="Comic Sans MS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1116000" y="4076640"/>
            <a:ext cx="1058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这句话表现了罗伯特什么心情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在这里起什么作用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"/>
          <p:cNvSpPr/>
          <p:nvPr/>
        </p:nvSpPr>
        <p:spPr>
          <a:xfrm>
            <a:off x="1692360" y="2133720"/>
            <a:ext cx="47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4284720" y="126828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684360" y="1052640"/>
            <a:ext cx="820872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omic Sans MS"/>
                <a:ea typeface="华文中宋"/>
              </a:rPr>
              <a:t>  </a:t>
            </a:r>
            <a:r>
              <a:rPr b="1" lang="zh-CN" sz="6000" spc="-1" strike="noStrike">
                <a:solidFill>
                  <a:srgbClr val="cc0000"/>
                </a:solidFill>
                <a:latin typeface="Comic Sans MS"/>
                <a:ea typeface="华文中宋"/>
              </a:rPr>
              <a:t>教堂外面的玫瑰花开得好红啊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omic Sans MS"/>
                <a:ea typeface="华文中宋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中宋"/>
              </a:rPr>
              <a:t>这是在什么情况下让罗伯特有这种感觉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3276720" y="59500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2771640" y="587700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763640" y="6308640"/>
            <a:ext cx="61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2987640" y="64422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3780000" y="530064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11280" y="33336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谢谢你了，好孩子！谢谢你，哦，谢谢你，孩子，你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丽莎爸爸的喉头哽住了，他一把将罗伯特紧紧地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在了怀里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573360"/>
            <a:ext cx="806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      “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哼，谁跟你做朋友！我爸爸最讨厌黑人，他说你们黑人又蠢又脏。”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476360" y="558972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979640" y="551664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908000" y="530064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罗伯特做了什么让丽莎的父亲有这样大的转变呢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94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1979640" y="1341360"/>
            <a:ext cx="61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3276720" y="59500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2771640" y="587700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1763640" y="6308640"/>
            <a:ext cx="61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2987640" y="64422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3780000" y="530064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547640" y="11970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Comic Sans MS"/>
                <a:ea typeface="华文中宋"/>
              </a:rPr>
              <a:t>学习重点部分，走进罗伯特的心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1042920" y="2421000"/>
            <a:ext cx="69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文中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捐钱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的部分给我们留下了深刻的印象，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自主阅读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自然段，细细品味，哪些地方令你感动，抓住令你感动的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词语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句子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、或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标点符号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在旁边批注上你的思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考。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900000" y="220500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要是丽莎死了，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岂不是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永远见不到她了吗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？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呃，天哪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！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丽莎，你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不能死，不能死，绝不能死！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4"/>
          <p:cNvSpPr/>
          <p:nvPr/>
        </p:nvSpPr>
        <p:spPr>
          <a:xfrm flipV="1">
            <a:off x="2700360" y="34275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AutoShape 5">
            <a:hlinkClick r:id="rId2" action="ppaction://hlinksldjump"/>
          </p:cNvPr>
          <p:cNvSpPr/>
          <p:nvPr/>
        </p:nvSpPr>
        <p:spPr>
          <a:xfrm>
            <a:off x="8028000" y="587700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7301" y="13460"/>
                </a:moveTo>
                <a:lnTo>
                  <a:pt x="17806" y="6453"/>
                </a:lnTo>
                <a:lnTo>
                  <a:pt x="17806" y="20466"/>
                </a:lnTo>
                <a:close/>
              </a:path>
              <a:path fill="darken" w="21600" h="26919">
                <a:moveTo>
                  <a:pt x="3794" y="6453"/>
                </a:moveTo>
                <a:lnTo>
                  <a:pt x="5456" y="6453"/>
                </a:lnTo>
                <a:lnTo>
                  <a:pt x="5456" y="20466"/>
                </a:lnTo>
                <a:lnTo>
                  <a:pt x="3794" y="2046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1116000" y="4076640"/>
            <a:ext cx="633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826920" y="333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要是丽莎死了，就永远见不到她了。呃，天哪。丽莎，你不能死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900000" y="472428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这段是罗伯特的心理活动，比较两句话，有什么不同？说明了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3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09480" y="990720"/>
            <a:ext cx="815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司法中的种族歧视也极为严重。在美国，被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押在监狱里的黑人和被判死刑的黑人比例明显高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白人。在各州的监狱中，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的囚犯为黑人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％的囚犯为拉美裔。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977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年至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998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年，黑人仅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美国全国人口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，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但在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5709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名被判死刑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的人当中，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是黑人。据联合国发表的一份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查报告，在美国，犯有同样的罪，黑人及有色人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往往受到比白人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倍的惩罚，杀害白人被判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刑的黑人是杀害黑人被判死刑的白人的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倍。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8" descr="图片1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928800" y="428760"/>
            <a:ext cx="66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116000" y="836640"/>
            <a:ext cx="735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罗伯特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裤子口袋，深深地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一口气，三步两步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讲台前，把钱全部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出来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971640" y="342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从“摸”字你体会到了什么？“吸”字你又体会到了什么？“冲”字体会到了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900000" y="537372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罗伯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出的到底是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"/>
          <p:cNvSpPr/>
          <p:nvPr/>
        </p:nvSpPr>
        <p:spPr>
          <a:xfrm>
            <a:off x="1692360" y="2133720"/>
            <a:ext cx="47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4284720" y="126828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1979640" y="1341360"/>
            <a:ext cx="61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455840" y="1149480"/>
            <a:ext cx="6861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妈妈不知道我有这么多钱，这些钱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都是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都是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存着要买战斗机用的。”罗伯特一提到战斗机就想哭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276720" y="59500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2771640" y="587700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1763640" y="6308640"/>
            <a:ext cx="61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987640" y="64422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3780000" y="530064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1692360" y="443700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结合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自然段，从省略号你体会到了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3"/>
          <p:cNvSpPr/>
          <p:nvPr/>
        </p:nvSpPr>
        <p:spPr>
          <a:xfrm>
            <a:off x="539640" y="765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罗伯特点了点头就赶紧转身跑出了教室，一出教室，他的泪水就大颗大颗地涌了出来。他怕老师再多问两句自己就会改变主意。他是多么喜欢那架战斗机呀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可是他也怕丽莎因为没钱治病而死去。想到战斗机，想到丽莎，他一路伤心地哭着回了家。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AutoShape 4">
            <a:hlinkClick r:id="rId2" action="ppaction://hlinksldjump"/>
          </p:cNvPr>
          <p:cNvSpPr/>
          <p:nvPr/>
        </p:nvSpPr>
        <p:spPr>
          <a:xfrm>
            <a:off x="8028000" y="587700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7301" y="13460"/>
                </a:moveTo>
                <a:lnTo>
                  <a:pt x="17806" y="6453"/>
                </a:lnTo>
                <a:lnTo>
                  <a:pt x="17806" y="20466"/>
                </a:lnTo>
                <a:close/>
              </a:path>
              <a:path fill="darken" w="21600" h="26919">
                <a:moveTo>
                  <a:pt x="3794" y="6453"/>
                </a:moveTo>
                <a:lnTo>
                  <a:pt x="5456" y="6453"/>
                </a:lnTo>
                <a:lnTo>
                  <a:pt x="5456" y="20466"/>
                </a:lnTo>
                <a:lnTo>
                  <a:pt x="3794" y="2046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1332000" y="5445000"/>
            <a:ext cx="63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从中体会到了什么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3"/>
          <p:cNvSpPr/>
          <p:nvPr/>
        </p:nvSpPr>
        <p:spPr>
          <a:xfrm>
            <a:off x="971640" y="69228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要是丽莎死了，岂不是永远见不到她了吗？呃，天哪！丽莎，你不能死，不能死，绝不能死！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AutoShape 5">
            <a:hlinkClick r:id="rId2" action="ppaction://hlinksldjump"/>
          </p:cNvPr>
          <p:cNvSpPr/>
          <p:nvPr/>
        </p:nvSpPr>
        <p:spPr>
          <a:xfrm>
            <a:off x="8028000" y="587700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7301" y="13460"/>
                </a:moveTo>
                <a:lnTo>
                  <a:pt x="17806" y="6453"/>
                </a:lnTo>
                <a:lnTo>
                  <a:pt x="17806" y="20466"/>
                </a:lnTo>
                <a:close/>
              </a:path>
              <a:path fill="darken" w="21600" h="26919">
                <a:moveTo>
                  <a:pt x="3794" y="6453"/>
                </a:moveTo>
                <a:lnTo>
                  <a:pt x="5456" y="6453"/>
                </a:lnTo>
                <a:lnTo>
                  <a:pt x="5456" y="20466"/>
                </a:lnTo>
                <a:lnTo>
                  <a:pt x="3794" y="2046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1116000" y="4076640"/>
            <a:ext cx="633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116000" y="342900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罗伯特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摸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了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摸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裤子口袋，深深地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吸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了一口气，三步两步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冲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到讲台前，把钱全部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掏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了出来。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1384200" y="559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8" descr="图片1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28400" y="928440"/>
            <a:ext cx="78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丽莎治病 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1692360" y="2133720"/>
            <a:ext cx="47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4284720" y="126828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1979640" y="1341360"/>
            <a:ext cx="61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3276720" y="59500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2771640" y="587700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1763640" y="6308640"/>
            <a:ext cx="61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2987640" y="64422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3780000" y="530064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1258920" y="177336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刚才我们读的这几个片段，十分的感人。通过对罗伯特这个人物的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中宋"/>
              </a:rPr>
              <a:t>心理、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动作、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中宋"/>
              </a:rPr>
              <a:t>语言、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等方面的描写，为我们刻画出了人物的善良和宽容。罗伯特掏出的不单单是四十多元钱，而是一颗善良、宽容的心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611280" y="33336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539640" y="2060640"/>
            <a:ext cx="806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正是由于罗伯特的 善良宽厚，他所做的努力深深地感动了丽莎的父亲，让他在事实面前转变了态度。白人与黑人终于亲人般地拥抱在一起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476360" y="558972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979640" y="551664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908000" y="530064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Comic Sans MS"/>
              </a:rPr>
              <a:t>我爸爸最讨厌黑人，他说你们黑人又蠢又脏。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就在这温暖的拥抱中，白人孩子丽莎的爸爸哽住了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此时他想说的仅仅是感谢吗？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黑孩子罗伯特也禁不住低声哭了起来，他的这次哭泣又是为了什么呢？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此时的他又在想些什么呢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osoyoos28"/>
          <p:cNvPicPr/>
          <p:nvPr/>
        </p:nvPicPr>
        <p:blipFill>
          <a:blip r:embed="rId1"/>
          <a:srcRect l="4246" t="4968" r="7993" b="6380"/>
          <a:stretch/>
        </p:blipFill>
        <p:spPr>
          <a:xfrm>
            <a:off x="1785960" y="428760"/>
            <a:ext cx="4929120" cy="30002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5"/>
          <p:cNvSpPr/>
          <p:nvPr/>
        </p:nvSpPr>
        <p:spPr>
          <a:xfrm>
            <a:off x="358920" y="3789360"/>
            <a:ext cx="87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教堂外面的玫瑰花开得好红啊！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1187280" y="5013360"/>
            <a:ext cx="619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03"/>
          <p:cNvPicPr/>
          <p:nvPr/>
        </p:nvPicPr>
        <p:blipFill>
          <a:blip r:embed="rId1"/>
          <a:stretch/>
        </p:blipFill>
        <p:spPr>
          <a:xfrm>
            <a:off x="1905120" y="609480"/>
            <a:ext cx="5257800" cy="334800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3"/>
          <p:cNvSpPr/>
          <p:nvPr/>
        </p:nvSpPr>
        <p:spPr>
          <a:xfrm>
            <a:off x="2364840" y="403848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我有一个梦，我梦到有一天黑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男孩和女孩能跟白人男孩和女孩手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手像兄弟姐妹似的走在一起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扫描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5"/>
          <p:cNvSpPr txBox="1"/>
          <p:nvPr/>
        </p:nvSpPr>
        <p:spPr>
          <a:xfrm>
            <a:off x="900000" y="981000"/>
            <a:ext cx="27813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华文中宋"/>
              </a:rPr>
              <a:t>基础学习</a:t>
            </a:r>
            <a:endParaRPr b="1" lang="en-US" sz="5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1692360" y="2133720"/>
            <a:ext cx="47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4284720" y="126828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979640" y="1341360"/>
            <a:ext cx="61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3276720" y="59500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2771640" y="587700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1763640" y="6308640"/>
            <a:ext cx="61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2987640" y="64422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3780000" y="530064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1547640" y="260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Comic Sans MS"/>
                <a:ea typeface="华文中宋"/>
              </a:rPr>
              <a:t>走进世界大家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12"/>
          <p:cNvSpPr/>
          <p:nvPr/>
        </p:nvSpPr>
        <p:spPr>
          <a:xfrm>
            <a:off x="1116000" y="1197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Comic Sans MS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  <a:ea typeface="华文中宋"/>
              </a:rPr>
              <a:t>古诗说得好：万紫千红总是春。正因为有五颜六色，春天才会光彩夺目，大地才会生机一片。作为人类，每一种肤色都漂亮，因为它是上天的恩赐；每一种肤色都健康，因为它是生命的写真；每一种肤色都值得尊重，因为都是高贵的颜色。老师希望这个世界再没有歧视，再没有对立，这个世界只剩下爱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复件 思考"/>
          <p:cNvPicPr/>
          <p:nvPr/>
        </p:nvPicPr>
        <p:blipFill>
          <a:blip r:embed="rId1"/>
          <a:stretch/>
        </p:blipFill>
        <p:spPr>
          <a:xfrm>
            <a:off x="250920" y="260280"/>
            <a:ext cx="1368360" cy="1081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79280" y="1268280"/>
            <a:ext cx="1368360" cy="520560"/>
          </a:xfrm>
          <a:prstGeom prst="rect">
            <a:avLst/>
          </a:prstGeom>
          <a:solidFill>
            <a:srgbClr val="99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  <a:ea typeface="华文新魏"/>
              </a:rPr>
              <a:t>我会认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Group 12"/>
          <p:cNvGrpSpPr/>
          <p:nvPr/>
        </p:nvGrpSpPr>
        <p:grpSpPr>
          <a:xfrm>
            <a:off x="826920" y="2205000"/>
            <a:ext cx="7416720" cy="581400"/>
            <a:chOff x="826920" y="2205000"/>
            <a:chExt cx="7416720" cy="581400"/>
          </a:xfrm>
        </p:grpSpPr>
        <p:sp>
          <p:nvSpPr>
            <p:cNvPr id="161" name="Text Box 6"/>
            <p:cNvSpPr/>
            <p:nvPr/>
          </p:nvSpPr>
          <p:spPr>
            <a:xfrm>
              <a:off x="826920" y="2205000"/>
              <a:ext cx="9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chú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2" name="Group 11"/>
            <p:cNvGrpSpPr/>
            <p:nvPr/>
          </p:nvGrpSpPr>
          <p:grpSpPr>
            <a:xfrm>
              <a:off x="2339640" y="2205000"/>
              <a:ext cx="5904000" cy="581400"/>
              <a:chOff x="2339640" y="2205000"/>
              <a:chExt cx="5904000" cy="581400"/>
            </a:xfrm>
          </p:grpSpPr>
          <p:sp>
            <p:nvSpPr>
              <p:cNvPr id="163" name="Text Box 7"/>
              <p:cNvSpPr/>
              <p:nvPr/>
            </p:nvSpPr>
            <p:spPr>
              <a:xfrm>
                <a:off x="2339640" y="2205000"/>
                <a:ext cx="93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Arial"/>
                  </a:rPr>
                  <a:t>xī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" name="Text Box 8"/>
              <p:cNvSpPr/>
              <p:nvPr/>
            </p:nvSpPr>
            <p:spPr>
              <a:xfrm>
                <a:off x="3635280" y="2205000"/>
                <a:ext cx="1152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Arial"/>
                  </a:rPr>
                  <a:t>shuì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" name="Text Box 9"/>
              <p:cNvSpPr/>
              <p:nvPr/>
            </p:nvSpPr>
            <p:spPr>
              <a:xfrm>
                <a:off x="7019640" y="2205000"/>
                <a:ext cx="122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Arial"/>
                  </a:rPr>
                  <a:t>gěng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" name="Text Box 10"/>
              <p:cNvSpPr/>
              <p:nvPr/>
            </p:nvSpPr>
            <p:spPr>
              <a:xfrm>
                <a:off x="5219640" y="2205000"/>
                <a:ext cx="1152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Arial"/>
                  </a:rPr>
                  <a:t>pēng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7" name="Group 13"/>
          <p:cNvGrpSpPr/>
          <p:nvPr/>
        </p:nvGrpSpPr>
        <p:grpSpPr>
          <a:xfrm>
            <a:off x="826920" y="5084640"/>
            <a:ext cx="7416720" cy="764280"/>
            <a:chOff x="826920" y="5084640"/>
            <a:chExt cx="7416720" cy="764280"/>
          </a:xfrm>
        </p:grpSpPr>
        <p:sp>
          <p:nvSpPr>
            <p:cNvPr id="168" name="Text Box 14"/>
            <p:cNvSpPr/>
            <p:nvPr/>
          </p:nvSpPr>
          <p:spPr>
            <a:xfrm>
              <a:off x="826920" y="508464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厨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9" name="Group 15"/>
            <p:cNvGrpSpPr/>
            <p:nvPr/>
          </p:nvGrpSpPr>
          <p:grpSpPr>
            <a:xfrm>
              <a:off x="2339640" y="5084640"/>
              <a:ext cx="5904000" cy="764280"/>
              <a:chOff x="2339640" y="5084640"/>
              <a:chExt cx="5904000" cy="764280"/>
            </a:xfrm>
          </p:grpSpPr>
          <p:sp>
            <p:nvSpPr>
              <p:cNvPr id="170" name="Text Box 16"/>
              <p:cNvSpPr/>
              <p:nvPr/>
            </p:nvSpPr>
            <p:spPr>
              <a:xfrm>
                <a:off x="2339640" y="5084640"/>
                <a:ext cx="936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8000"/>
                    </a:solidFill>
                    <a:latin typeface="Arial"/>
                    <a:ea typeface="楷体_GB2312"/>
                  </a:rPr>
                  <a:t>溪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Text Box 17"/>
              <p:cNvSpPr/>
              <p:nvPr/>
            </p:nvSpPr>
            <p:spPr>
              <a:xfrm>
                <a:off x="3635280" y="5084640"/>
                <a:ext cx="1152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8000"/>
                    </a:solidFill>
                    <a:latin typeface="Arial"/>
                    <a:ea typeface="楷体_GB2312"/>
                  </a:rPr>
                  <a:t>说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Text Box 18"/>
              <p:cNvSpPr/>
              <p:nvPr/>
            </p:nvSpPr>
            <p:spPr>
              <a:xfrm>
                <a:off x="7019640" y="5084640"/>
                <a:ext cx="1224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8000"/>
                    </a:solidFill>
                    <a:latin typeface="Arial"/>
                    <a:ea typeface="楷体_GB2312"/>
                  </a:rPr>
                  <a:t>梗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Text Box 19"/>
              <p:cNvSpPr/>
              <p:nvPr/>
            </p:nvSpPr>
            <p:spPr>
              <a:xfrm>
                <a:off x="5219640" y="5084640"/>
                <a:ext cx="1152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8000"/>
                    </a:solidFill>
                    <a:latin typeface="Arial"/>
                    <a:ea typeface="楷体_GB2312"/>
                  </a:rPr>
                  <a:t>评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4" name="Text Box 27"/>
          <p:cNvSpPr/>
          <p:nvPr/>
        </p:nvSpPr>
        <p:spPr>
          <a:xfrm>
            <a:off x="539640" y="3716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衣橱    奚落    税收  怦怦直跳   哽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28"/>
          <p:cNvSpPr/>
          <p:nvPr/>
        </p:nvSpPr>
        <p:spPr>
          <a:xfrm>
            <a:off x="539640" y="4365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橱窗    姓奚    关税  怦怦跳     哽塞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Group 29"/>
          <p:cNvGrpSpPr/>
          <p:nvPr/>
        </p:nvGrpSpPr>
        <p:grpSpPr>
          <a:xfrm>
            <a:off x="826920" y="2781360"/>
            <a:ext cx="7416720" cy="764280"/>
            <a:chOff x="826920" y="2781360"/>
            <a:chExt cx="7416720" cy="764280"/>
          </a:xfrm>
        </p:grpSpPr>
        <p:sp>
          <p:nvSpPr>
            <p:cNvPr id="177" name="Text Box 30"/>
            <p:cNvSpPr/>
            <p:nvPr/>
          </p:nvSpPr>
          <p:spPr>
            <a:xfrm>
              <a:off x="826920" y="27813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橱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8" name="Group 31"/>
            <p:cNvGrpSpPr/>
            <p:nvPr/>
          </p:nvGrpSpPr>
          <p:grpSpPr>
            <a:xfrm>
              <a:off x="2339640" y="2781360"/>
              <a:ext cx="5904000" cy="764280"/>
              <a:chOff x="2339640" y="2781360"/>
              <a:chExt cx="5904000" cy="764280"/>
            </a:xfrm>
          </p:grpSpPr>
          <p:sp>
            <p:nvSpPr>
              <p:cNvPr id="179" name="Text Box 32"/>
              <p:cNvSpPr/>
              <p:nvPr/>
            </p:nvSpPr>
            <p:spPr>
              <a:xfrm>
                <a:off x="2339640" y="2781360"/>
                <a:ext cx="936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奚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Text Box 33"/>
              <p:cNvSpPr/>
              <p:nvPr/>
            </p:nvSpPr>
            <p:spPr>
              <a:xfrm>
                <a:off x="3635280" y="2781360"/>
                <a:ext cx="1152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税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Text Box 34"/>
              <p:cNvSpPr/>
              <p:nvPr/>
            </p:nvSpPr>
            <p:spPr>
              <a:xfrm>
                <a:off x="7019640" y="2781360"/>
                <a:ext cx="1224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哽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Text Box 35"/>
              <p:cNvSpPr/>
              <p:nvPr/>
            </p:nvSpPr>
            <p:spPr>
              <a:xfrm>
                <a:off x="5219640" y="2781360"/>
                <a:ext cx="1152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怦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Text Box 36"/>
          <p:cNvSpPr/>
          <p:nvPr/>
        </p:nvSpPr>
        <p:spPr>
          <a:xfrm>
            <a:off x="539640" y="5805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厨房    小溪    评说    评论      花梗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复件 思考"/>
          <p:cNvPicPr/>
          <p:nvPr/>
        </p:nvPicPr>
        <p:blipFill>
          <a:blip r:embed="rId1"/>
          <a:stretch/>
        </p:blipFill>
        <p:spPr>
          <a:xfrm>
            <a:off x="250920" y="260280"/>
            <a:ext cx="1368360" cy="10810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179280" y="1268280"/>
            <a:ext cx="1368360" cy="520560"/>
          </a:xfrm>
          <a:prstGeom prst="rect">
            <a:avLst/>
          </a:prstGeom>
          <a:solidFill>
            <a:srgbClr val="99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  <a:ea typeface="华文新魏"/>
              </a:rPr>
              <a:t>我会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042920" y="1773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340000" y="1773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hǔ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635280" y="1773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ǎ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164360" y="1773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zǎ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435640" y="1773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Group 11"/>
          <p:cNvGrpSpPr/>
          <p:nvPr/>
        </p:nvGrpSpPr>
        <p:grpSpPr>
          <a:xfrm>
            <a:off x="826920" y="4005360"/>
            <a:ext cx="7416720" cy="764280"/>
            <a:chOff x="826920" y="4005360"/>
            <a:chExt cx="7416720" cy="764280"/>
          </a:xfrm>
        </p:grpSpPr>
        <p:sp>
          <p:nvSpPr>
            <p:cNvPr id="192" name="Text Box 12"/>
            <p:cNvSpPr/>
            <p:nvPr/>
          </p:nvSpPr>
          <p:spPr>
            <a:xfrm>
              <a:off x="826920" y="40053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挤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3" name="Group 13"/>
            <p:cNvGrpSpPr/>
            <p:nvPr/>
          </p:nvGrpSpPr>
          <p:grpSpPr>
            <a:xfrm>
              <a:off x="2339640" y="4005360"/>
              <a:ext cx="5904000" cy="764280"/>
              <a:chOff x="2339640" y="4005360"/>
              <a:chExt cx="5904000" cy="764280"/>
            </a:xfrm>
          </p:grpSpPr>
          <p:sp>
            <p:nvSpPr>
              <p:cNvPr id="194" name="Text Box 14"/>
              <p:cNvSpPr/>
              <p:nvPr/>
            </p:nvSpPr>
            <p:spPr>
              <a:xfrm>
                <a:off x="2339640" y="4005360"/>
                <a:ext cx="936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8000"/>
                    </a:solidFill>
                    <a:latin typeface="Arial"/>
                    <a:ea typeface="楷体_GB2312"/>
                  </a:rPr>
                  <a:t>舅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Text Box 15"/>
              <p:cNvSpPr/>
              <p:nvPr/>
            </p:nvSpPr>
            <p:spPr>
              <a:xfrm>
                <a:off x="3635280" y="4005360"/>
                <a:ext cx="1152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8000"/>
                    </a:solidFill>
                    <a:latin typeface="Arial"/>
                    <a:ea typeface="楷体_GB2312"/>
                  </a:rPr>
                  <a:t>访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Text Box 16"/>
              <p:cNvSpPr/>
              <p:nvPr/>
            </p:nvSpPr>
            <p:spPr>
              <a:xfrm>
                <a:off x="7019640" y="4005360"/>
                <a:ext cx="1224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8000"/>
                    </a:solidFill>
                    <a:latin typeface="Arial"/>
                    <a:ea typeface="楷体_GB2312"/>
                  </a:rPr>
                  <a:t>赞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Text Box 17"/>
              <p:cNvSpPr/>
              <p:nvPr/>
            </p:nvSpPr>
            <p:spPr>
              <a:xfrm>
                <a:off x="5219640" y="4005360"/>
                <a:ext cx="1152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8000"/>
                    </a:solidFill>
                    <a:latin typeface="Arial"/>
                    <a:ea typeface="楷体_GB2312"/>
                  </a:rPr>
                  <a:t>奔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8" name="Text Box 18"/>
          <p:cNvSpPr/>
          <p:nvPr/>
        </p:nvSpPr>
        <p:spPr>
          <a:xfrm>
            <a:off x="539640" y="2924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救济    老鼠    纺织    无奈      积攒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539640" y="3429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接济    鼠标    纺纱    奈何      攒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0" name="Group 20"/>
          <p:cNvGrpSpPr/>
          <p:nvPr/>
        </p:nvGrpSpPr>
        <p:grpSpPr>
          <a:xfrm>
            <a:off x="826920" y="2276640"/>
            <a:ext cx="7416720" cy="764280"/>
            <a:chOff x="826920" y="2276640"/>
            <a:chExt cx="7416720" cy="764280"/>
          </a:xfrm>
        </p:grpSpPr>
        <p:sp>
          <p:nvSpPr>
            <p:cNvPr id="201" name="Text Box 21"/>
            <p:cNvSpPr/>
            <p:nvPr/>
          </p:nvSpPr>
          <p:spPr>
            <a:xfrm>
              <a:off x="826920" y="227664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济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2" name="Group 22"/>
            <p:cNvGrpSpPr/>
            <p:nvPr/>
          </p:nvGrpSpPr>
          <p:grpSpPr>
            <a:xfrm>
              <a:off x="2339640" y="2276640"/>
              <a:ext cx="5904000" cy="764280"/>
              <a:chOff x="2339640" y="2276640"/>
              <a:chExt cx="5904000" cy="764280"/>
            </a:xfrm>
          </p:grpSpPr>
          <p:sp>
            <p:nvSpPr>
              <p:cNvPr id="203" name="Text Box 23"/>
              <p:cNvSpPr/>
              <p:nvPr/>
            </p:nvSpPr>
            <p:spPr>
              <a:xfrm>
                <a:off x="2339640" y="2276640"/>
                <a:ext cx="936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鼠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" name="Text Box 24"/>
              <p:cNvSpPr/>
              <p:nvPr/>
            </p:nvSpPr>
            <p:spPr>
              <a:xfrm>
                <a:off x="3635280" y="2276640"/>
                <a:ext cx="1152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纺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" name="Text Box 25"/>
              <p:cNvSpPr/>
              <p:nvPr/>
            </p:nvSpPr>
            <p:spPr>
              <a:xfrm>
                <a:off x="7019640" y="2276640"/>
                <a:ext cx="1224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攒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Text Box 26"/>
              <p:cNvSpPr/>
              <p:nvPr/>
            </p:nvSpPr>
            <p:spPr>
              <a:xfrm>
                <a:off x="5219640" y="2276640"/>
                <a:ext cx="1152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奈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07" name="Text Box 27"/>
          <p:cNvSpPr/>
          <p:nvPr/>
        </p:nvSpPr>
        <p:spPr>
          <a:xfrm>
            <a:off x="539640" y="486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拥挤    舅舅    访问    奔跑      赞扬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28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复件 思考"/>
          <p:cNvPicPr/>
          <p:nvPr/>
        </p:nvPicPr>
        <p:blipFill>
          <a:blip r:embed="rId1"/>
          <a:stretch/>
        </p:blipFill>
        <p:spPr>
          <a:xfrm>
            <a:off x="250920" y="260280"/>
            <a:ext cx="1368360" cy="1081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79280" y="1268280"/>
            <a:ext cx="1368360" cy="520560"/>
          </a:xfrm>
          <a:prstGeom prst="rect">
            <a:avLst/>
          </a:prstGeom>
          <a:solidFill>
            <a:srgbClr val="99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  <a:ea typeface="华文新魏"/>
              </a:rPr>
              <a:t>我会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690560" y="1773360"/>
            <a:ext cx="7416720" cy="581400"/>
            <a:chOff x="1690560" y="1773360"/>
            <a:chExt cx="7416720" cy="581400"/>
          </a:xfrm>
        </p:grpSpPr>
        <p:sp>
          <p:nvSpPr>
            <p:cNvPr id="214" name="Text Box 5"/>
            <p:cNvSpPr/>
            <p:nvPr/>
          </p:nvSpPr>
          <p:spPr>
            <a:xfrm>
              <a:off x="1690560" y="1773360"/>
              <a:ext cx="9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fèi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5" name="Group 6"/>
            <p:cNvGrpSpPr/>
            <p:nvPr/>
          </p:nvGrpSpPr>
          <p:grpSpPr>
            <a:xfrm>
              <a:off x="3203280" y="1773360"/>
              <a:ext cx="5904000" cy="581400"/>
              <a:chOff x="3203280" y="1773360"/>
              <a:chExt cx="5904000" cy="581400"/>
            </a:xfrm>
          </p:grpSpPr>
          <p:sp>
            <p:nvSpPr>
              <p:cNvPr id="216" name="Text Box 7"/>
              <p:cNvSpPr/>
              <p:nvPr/>
            </p:nvSpPr>
            <p:spPr>
              <a:xfrm>
                <a:off x="3203280" y="1773360"/>
                <a:ext cx="93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Arial"/>
                  </a:rPr>
                  <a:t>li</a:t>
                </a:r>
                <a:r>
                  <a:rPr b="1" lang="en-US" sz="3200" spc="-1" strike="noStrike">
                    <a:solidFill>
                      <a:srgbClr val="cc0000"/>
                    </a:solidFill>
                    <a:latin typeface="宋体"/>
                  </a:rPr>
                  <a:t>á</a:t>
                </a:r>
                <a:r>
                  <a:rPr b="1" lang="en-US" sz="32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Text Box 8"/>
              <p:cNvSpPr/>
              <p:nvPr/>
            </p:nvSpPr>
            <p:spPr>
              <a:xfrm>
                <a:off x="4498920" y="1773360"/>
                <a:ext cx="1152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Arial"/>
                  </a:rPr>
                  <a:t>z</a:t>
                </a:r>
                <a:r>
                  <a:rPr b="1" lang="en-US" sz="3200" spc="-1" strike="noStrike">
                    <a:solidFill>
                      <a:srgbClr val="cc0000"/>
                    </a:solidFill>
                    <a:latin typeface="宋体"/>
                  </a:rPr>
                  <a:t>à</a:t>
                </a:r>
                <a:r>
                  <a:rPr b="1" lang="en-US" sz="3200" spc="-1" strike="noStrike">
                    <a:solidFill>
                      <a:srgbClr val="cc0000"/>
                    </a:solidFill>
                    <a:latin typeface="Arial"/>
                  </a:rPr>
                  <a:t>ng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" name="Text Box 9"/>
              <p:cNvSpPr/>
              <p:nvPr/>
            </p:nvSpPr>
            <p:spPr>
              <a:xfrm>
                <a:off x="7883280" y="1773360"/>
                <a:ext cx="12240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" name="Text Box 10"/>
              <p:cNvSpPr/>
              <p:nvPr/>
            </p:nvSpPr>
            <p:spPr>
              <a:xfrm>
                <a:off x="6083280" y="1773360"/>
                <a:ext cx="1152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Arial"/>
                  </a:rPr>
                  <a:t>hóu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0" name="Group 11"/>
          <p:cNvGrpSpPr/>
          <p:nvPr/>
        </p:nvGrpSpPr>
        <p:grpSpPr>
          <a:xfrm>
            <a:off x="1619280" y="4005360"/>
            <a:ext cx="7416720" cy="764280"/>
            <a:chOff x="1619280" y="4005360"/>
            <a:chExt cx="7416720" cy="764280"/>
          </a:xfrm>
        </p:grpSpPr>
        <p:sp>
          <p:nvSpPr>
            <p:cNvPr id="221" name="Text Box 12"/>
            <p:cNvSpPr/>
            <p:nvPr/>
          </p:nvSpPr>
          <p:spPr>
            <a:xfrm>
              <a:off x="1619280" y="40053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柿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2" name="Group 13"/>
            <p:cNvGrpSpPr/>
            <p:nvPr/>
          </p:nvGrpSpPr>
          <p:grpSpPr>
            <a:xfrm>
              <a:off x="3132000" y="4005360"/>
              <a:ext cx="5904000" cy="764280"/>
              <a:chOff x="3132000" y="4005360"/>
              <a:chExt cx="5904000" cy="764280"/>
            </a:xfrm>
          </p:grpSpPr>
          <p:sp>
            <p:nvSpPr>
              <p:cNvPr id="223" name="Text Box 14"/>
              <p:cNvSpPr/>
              <p:nvPr/>
            </p:nvSpPr>
            <p:spPr>
              <a:xfrm>
                <a:off x="3132000" y="4005360"/>
                <a:ext cx="936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8000"/>
                    </a:solidFill>
                    <a:latin typeface="Arial"/>
                    <a:ea typeface="楷体_GB2312"/>
                  </a:rPr>
                  <a:t>辽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Text Box 15"/>
              <p:cNvSpPr/>
              <p:nvPr/>
            </p:nvSpPr>
            <p:spPr>
              <a:xfrm>
                <a:off x="4427640" y="4005360"/>
                <a:ext cx="1152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8000"/>
                    </a:solidFill>
                    <a:latin typeface="Arial"/>
                    <a:ea typeface="楷体_GB2312"/>
                  </a:rPr>
                  <a:t>弊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Text Box 16"/>
              <p:cNvSpPr/>
              <p:nvPr/>
            </p:nvSpPr>
            <p:spPr>
              <a:xfrm>
                <a:off x="7812000" y="4005360"/>
                <a:ext cx="122400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" name="Text Box 17"/>
              <p:cNvSpPr/>
              <p:nvPr/>
            </p:nvSpPr>
            <p:spPr>
              <a:xfrm>
                <a:off x="6012000" y="4005360"/>
                <a:ext cx="1152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8000"/>
                    </a:solidFill>
                    <a:latin typeface="Arial"/>
                    <a:ea typeface="楷体_GB2312"/>
                  </a:rPr>
                  <a:t>候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27" name="Text Box 18"/>
          <p:cNvSpPr/>
          <p:nvPr/>
        </p:nvSpPr>
        <p:spPr>
          <a:xfrm>
            <a:off x="1258920" y="2924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心肺   治疗    埋葬    喉咙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1258920" y="3429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肺炎   疗养    安葬    喉舌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9" name="Group 20"/>
          <p:cNvGrpSpPr/>
          <p:nvPr/>
        </p:nvGrpSpPr>
        <p:grpSpPr>
          <a:xfrm>
            <a:off x="1619280" y="2276640"/>
            <a:ext cx="7416720" cy="764280"/>
            <a:chOff x="1619280" y="2276640"/>
            <a:chExt cx="7416720" cy="764280"/>
          </a:xfrm>
        </p:grpSpPr>
        <p:sp>
          <p:nvSpPr>
            <p:cNvPr id="230" name="Text Box 21"/>
            <p:cNvSpPr/>
            <p:nvPr/>
          </p:nvSpPr>
          <p:spPr>
            <a:xfrm>
              <a:off x="1619280" y="227664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肺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1" name="Group 22"/>
            <p:cNvGrpSpPr/>
            <p:nvPr/>
          </p:nvGrpSpPr>
          <p:grpSpPr>
            <a:xfrm>
              <a:off x="3132000" y="2276640"/>
              <a:ext cx="5904000" cy="764280"/>
              <a:chOff x="3132000" y="2276640"/>
              <a:chExt cx="5904000" cy="764280"/>
            </a:xfrm>
          </p:grpSpPr>
          <p:sp>
            <p:nvSpPr>
              <p:cNvPr id="232" name="Text Box 23"/>
              <p:cNvSpPr/>
              <p:nvPr/>
            </p:nvSpPr>
            <p:spPr>
              <a:xfrm>
                <a:off x="3132000" y="2276640"/>
                <a:ext cx="936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疗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Text Box 24"/>
              <p:cNvSpPr/>
              <p:nvPr/>
            </p:nvSpPr>
            <p:spPr>
              <a:xfrm>
                <a:off x="4427640" y="2276640"/>
                <a:ext cx="1152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葬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Text Box 25"/>
              <p:cNvSpPr/>
              <p:nvPr/>
            </p:nvSpPr>
            <p:spPr>
              <a:xfrm>
                <a:off x="7812000" y="2276640"/>
                <a:ext cx="122400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Text Box 26"/>
              <p:cNvSpPr/>
              <p:nvPr/>
            </p:nvSpPr>
            <p:spPr>
              <a:xfrm>
                <a:off x="6012000" y="2276640"/>
                <a:ext cx="1152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喉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6" name="Text Box 27"/>
          <p:cNvSpPr/>
          <p:nvPr/>
        </p:nvSpPr>
        <p:spPr>
          <a:xfrm>
            <a:off x="1258920" y="486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柿子   辽阔    弊病    时候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复件 思考"/>
          <p:cNvPicPr/>
          <p:nvPr/>
        </p:nvPicPr>
        <p:blipFill>
          <a:blip r:embed="rId1"/>
          <a:stretch/>
        </p:blipFill>
        <p:spPr>
          <a:xfrm>
            <a:off x="250920" y="260280"/>
            <a:ext cx="1368360" cy="10810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179280" y="1268280"/>
            <a:ext cx="1368360" cy="520560"/>
          </a:xfrm>
          <a:prstGeom prst="rect">
            <a:avLst/>
          </a:prstGeom>
          <a:solidFill>
            <a:srgbClr val="99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  <a:ea typeface="华文新魏"/>
              </a:rPr>
              <a:t>我会多音字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38200" y="278136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挣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7"/>
          <p:cNvSpPr/>
          <p:nvPr/>
        </p:nvSpPr>
        <p:spPr>
          <a:xfrm rot="10800000">
            <a:off x="1403280" y="2457000"/>
            <a:ext cx="108000" cy="1187640"/>
          </a:xfrm>
          <a:custGeom>
            <a:avLst/>
            <a:gdLst>
              <a:gd name="textAreaLeft" fmla="*/ 0 w 108000"/>
              <a:gd name="textAreaRight" fmla="*/ 38880 w 108000"/>
              <a:gd name="textAreaTop" fmla="*/ 30960 h 1187640"/>
              <a:gd name="textAreaBottom" fmla="*/ 1156680 h 11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1511280" y="2349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3f68"/>
                </a:solidFill>
                <a:latin typeface="Arial"/>
                <a:ea typeface="楷体_GB2312"/>
              </a:rPr>
              <a:t>zh</a:t>
            </a:r>
            <a:r>
              <a:rPr b="1" lang="en-US" sz="3200" spc="-1" strike="noStrike">
                <a:solidFill>
                  <a:srgbClr val="fd3f68"/>
                </a:solidFill>
                <a:latin typeface="Comic Sans MS"/>
              </a:rPr>
              <a:t>ē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挣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1547640" y="3284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3f68"/>
                </a:solidFill>
                <a:latin typeface="Arial"/>
                <a:ea typeface="楷体_GB2312"/>
              </a:rPr>
              <a:t>zh</a:t>
            </a:r>
            <a:r>
              <a:rPr b="1" lang="en-US" sz="3200" spc="-1" strike="noStrike">
                <a:solidFill>
                  <a:srgbClr val="fd3f68"/>
                </a:solidFill>
                <a:latin typeface="Arial"/>
              </a:rPr>
              <a:t>è</a:t>
            </a:r>
            <a:r>
              <a:rPr b="1" lang="en-US" sz="3200" spc="-1" strike="noStrike">
                <a:solidFill>
                  <a:srgbClr val="fd3f68"/>
                </a:solidFill>
                <a:latin typeface="Comic Sans MS"/>
              </a:rPr>
              <a:t>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挣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354560" y="285444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11"/>
          <p:cNvSpPr/>
          <p:nvPr/>
        </p:nvSpPr>
        <p:spPr>
          <a:xfrm rot="10800000">
            <a:off x="5219640" y="2530080"/>
            <a:ext cx="108000" cy="1187640"/>
          </a:xfrm>
          <a:custGeom>
            <a:avLst/>
            <a:gdLst>
              <a:gd name="textAreaLeft" fmla="*/ 0 w 108000"/>
              <a:gd name="textAreaRight" fmla="*/ 38880 w 108000"/>
              <a:gd name="textAreaTop" fmla="*/ 30960 h 1187640"/>
              <a:gd name="textAreaBottom" fmla="*/ 1156680 h 11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5327640" y="24224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3f68"/>
                </a:solidFill>
                <a:latin typeface="Arial"/>
                <a:ea typeface="楷体_GB2312"/>
              </a:rPr>
              <a:t>ch</a:t>
            </a:r>
            <a:r>
              <a:rPr b="1" lang="en-US" sz="3200" spc="-1" strike="noStrike">
                <a:solidFill>
                  <a:srgbClr val="fd3f68"/>
                </a:solidFill>
                <a:latin typeface="Comic Sans MS"/>
              </a:rPr>
              <a:t>ōng</a:t>
            </a:r>
            <a:r>
              <a:rPr b="1" lang="en-US" sz="3200" spc="-1" strike="noStrike">
                <a:solidFill>
                  <a:srgbClr val="fd3f6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冲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5364000" y="33577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3f68"/>
                </a:solidFill>
                <a:latin typeface="Arial"/>
                <a:ea typeface="楷体_GB2312"/>
              </a:rPr>
              <a:t>ch</a:t>
            </a:r>
            <a:r>
              <a:rPr b="1" lang="en-US" sz="3200" spc="-1" strike="noStrike">
                <a:solidFill>
                  <a:srgbClr val="fd3f68"/>
                </a:solidFill>
                <a:latin typeface="Comic Sans MS"/>
              </a:rPr>
              <a:t>òng</a:t>
            </a:r>
            <a:r>
              <a:rPr b="1" lang="en-US" sz="3200" spc="-1" strike="noStrike">
                <a:solidFill>
                  <a:srgbClr val="fd3f6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冲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复件 思考"/>
          <p:cNvPicPr/>
          <p:nvPr/>
        </p:nvPicPr>
        <p:blipFill>
          <a:blip r:embed="rId1"/>
          <a:stretch/>
        </p:blipFill>
        <p:spPr>
          <a:xfrm>
            <a:off x="7596360" y="4508640"/>
            <a:ext cx="1368360" cy="10810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7524720" y="5516640"/>
            <a:ext cx="1368360" cy="947160"/>
          </a:xfrm>
          <a:prstGeom prst="rect">
            <a:avLst/>
          </a:prstGeom>
          <a:solidFill>
            <a:srgbClr val="99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  <a:ea typeface="华文新魏"/>
              </a:rPr>
              <a:t>我会积累词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250920" y="549360"/>
            <a:ext cx="85690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救济  霉臭  飞翔  橱窗  奚落  无奈  苦恼  上税 肺炎  葬礼  积攒  喉头  哽住  破烂  寒战  拥抱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纺织厂  禁不住  挨家挨户  小心翼翼  满怀惊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华文中宋"/>
                <a:ea typeface="华文中宋"/>
              </a:rPr>
              <a:t>破烂的家  满地乱跑的老鼠  冲鼻的霉臭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华文中宋"/>
                <a:ea typeface="华文中宋"/>
              </a:rPr>
              <a:t>开心地吹  深深地吸口气     伤心地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华文中宋"/>
                <a:ea typeface="华文中宋"/>
              </a:rPr>
              <a:t>怦怦地跳  满怀惊恐地抬头  瘦小的肩上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6:23:55Z</dcterms:created>
  <dc:creator>*</dc:creator>
  <dc:description/>
  <cp:keywords/>
  <dc:language>en-US</dc:language>
  <cp:lastModifiedBy>dreamsummit</cp:lastModifiedBy>
  <cp:lastPrinted>1899-12-30T00:00:00Z</cp:lastPrinted>
  <dcterms:modified xsi:type="dcterms:W3CDTF">2015-08-27T07:53:19Z</dcterms:modified>
  <cp:revision>73</cp:revision>
  <dc:subject/>
  <dc:title>黑孩子罗伯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8</vt:lpwstr>
  </property>
</Properties>
</file>