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coin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118-D373-4A67-93D9-9C079B37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2D1-85BD-402A-9E01-D621A24C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B6E-9667-4917-9FE9-8476294C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79F-86B9-4EA8-B3D0-6626C566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DDC8-75DB-4F55-BCB3-9DD55C1B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7DF4-B6DE-4876-8711-AE6B99A2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D492-DB7A-446F-BA8E-862B99B7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AF52-502A-4524-877D-C69CD6D3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9078-677E-4D9A-89AF-EAB0E564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5D0A-A133-4F7B-A2BC-55CEDEE1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8E55-3C3F-403B-9BF2-2A125863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A6F-FC74-41FF-97C4-F3DCC252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C4A1-0C32-4E97-B2AA-C6B4176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9E0D-F238-4430-9EEB-5FA029C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C2A0-3F97-46A0-8AFE-E4D6CC22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2F70-A18E-40E2-AF02-D632DAE2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D5C5-C104-4AB0-8D0D-26EAC5B6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8615E-4DFD-4C52-A5B6-ED6FBA0B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BAC87-3BFF-40C8-B768-29DE3AFC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17445-4D22-4028-BE11-248BB8FD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72702-6D2C-4118-BFF1-06F7350B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02C71-600B-4D5C-A873-97FF2858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5F8-5D04-44D1-A6E7-83957E5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20D0E-FF38-49E4-82FE-5382BA76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C5F34-3DB1-44FB-ADF3-36940E4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F3ABC-A3FE-4E49-A508-7D0C50E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A5BEB-5EB9-4557-97F9-6B01B759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332F0-4912-46AE-9EB9-1C61E6A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14D10-4F1B-4468-BD40-0D16B49D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A1480-8EA3-444D-8746-C89A05DC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FC061-0C48-4EF7-ACAC-AF6C7237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787B5-72D8-4D8C-A30A-D4835119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954DD-7720-437D-851C-725065C0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B6B-16AB-47FA-9E6B-5D4F20F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D7FD4-7BFE-47C9-B58D-C379CC10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D1797-EDE9-4A67-BA45-89D1239D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7F992D-85BF-4919-9F77-B7FFDDDA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2357F-9B43-424C-9A1E-813840F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88BB0-94C2-4468-80F2-D56D42C1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BCB7C-EA26-4E95-BA80-7CBADFA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BF7E2-6075-4742-9146-A8460939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FF3EC-CDD6-4D48-968E-C83E3C55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E80D0-8E31-4796-BADA-5B89F932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330F-EEE4-4506-9D0C-88D59F27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E83-24CF-42D4-8C3D-4F1E4715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A9465-A960-4108-9CD0-9B381F02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D81A-35C6-4F91-B107-3A36115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66D9-8A42-4F41-B2A2-6958BB9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09113-C0F7-44CF-8CFB-FD62531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B889-3287-4B6A-895F-E29E39F6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2D25-3007-471A-9034-6C97A589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4731-F7C0-42C7-B4E1-31CE1A80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DEAC9-513A-4A01-BF5F-04757249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4E5DC-7702-4C66-84AC-1B230733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BA697-5970-4CBC-A5E3-63B62644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869-9B60-4515-BCE2-B095C904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FC135-8C57-4DB0-8179-E51662A8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85B-768F-411A-872C-99B479EE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91F-E438-4C43-8598-0C8A7BA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9A2-6AD9-4DC8-9C78-04B5F158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03F5-6F99-4E09-A455-1CDBB33FF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1E6D-C2E1-4A8F-A00C-2E3C555F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0E28-969D-4015-B613-32033A1BA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-102960" y="1308240"/>
            <a:ext cx="9350280" cy="5632560"/>
            <a:chOff x="-102960" y="1308240"/>
            <a:chExt cx="9350280" cy="5632560"/>
          </a:xfrm>
        </p:grpSpPr>
        <p:sp>
          <p:nvSpPr>
            <p:cNvPr id="124" name=""/>
            <p:cNvSpPr/>
            <p:nvPr/>
          </p:nvSpPr>
          <p:spPr>
            <a:xfrm flipV="1" rot="20798400">
              <a:off x="-21960" y="164016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20774400">
              <a:off x="-37800" y="1788480"/>
              <a:ext cx="32274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 rot="20757600">
              <a:off x="-42840" y="19011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 rot="20684400">
              <a:off x="-68040" y="203724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20631600">
              <a:off x="-81360" y="2217960"/>
              <a:ext cx="4397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20554800">
              <a:off x="-102960" y="2417400"/>
              <a:ext cx="48546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20466600">
              <a:off x="-147600" y="26902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20343600">
              <a:off x="-156600" y="2958120"/>
              <a:ext cx="5951520" cy="972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20211600">
              <a:off x="-2613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20103000">
              <a:off x="-339480" y="3634920"/>
              <a:ext cx="732132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19923600">
              <a:off x="-4968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19686600">
              <a:off x="14040" y="457632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 rot="19383600">
              <a:off x="2093760" y="4650840"/>
              <a:ext cx="7321320" cy="1008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18994200">
              <a:off x="4255920" y="48780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18603600">
              <a:off x="6427080" y="5560200"/>
              <a:ext cx="33030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 rot="18391200">
              <a:off x="8517600" y="661320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58400">
              <a:off x="-231480" y="3748320"/>
              <a:ext cx="959832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563600">
              <a:off x="-314280" y="5394240"/>
              <a:ext cx="6575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732800">
              <a:off x="-261720" y="57564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68600">
              <a:off x="-174240" y="6229440"/>
              <a:ext cx="222264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86000">
              <a:off x="-342720" y="5115960"/>
              <a:ext cx="8694720" cy="972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983400">
              <a:off x="-182160" y="33814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 rot="930600">
              <a:off x="127080" y="3090240"/>
              <a:ext cx="91375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867600">
              <a:off x="593640" y="2862000"/>
              <a:ext cx="86918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775200">
              <a:off x="1346400" y="2512080"/>
              <a:ext cx="78991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735000">
              <a:off x="1671840" y="234396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692400">
              <a:off x="1974960" y="218628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655800">
              <a:off x="2360880" y="2072160"/>
              <a:ext cx="68482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637200">
              <a:off x="2619000" y="193356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 rot="804000">
              <a:off x="969840" y="2674080"/>
              <a:ext cx="82612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 rot="1273800">
              <a:off x="-323640" y="4727160"/>
              <a:ext cx="976284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1170000">
              <a:off x="-275760" y="42285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7468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7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2360" y="580104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97240" y="422676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14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6600" y="453816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0880" y="4509720"/>
              <a:ext cx="23940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2840" y="421884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0480" y="41965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1680" y="3947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32280" y="3675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78400" y="3421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53120" y="366120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64000" y="30142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07240" y="2846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00880" y="3011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4320" y="2823840"/>
              <a:ext cx="203040" cy="98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02360" y="32148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5280" y="34304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90840" y="389592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57760" y="32209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01920" y="3454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0720" y="36705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32040" y="32511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12960" y="28634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81400" y="3036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63800" y="2860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7560" y="3025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61000" y="2838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280" y="32274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34401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66840" y="3042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2520" y="2854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9640" y="3018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3689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2400" y="34592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2800" y="39261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840" y="320040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13000" y="270000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73440" y="2539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98880" y="2391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35200" y="2532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7480" y="2684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92480" y="24012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13080" y="269352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22760" y="25423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0960" y="26776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79440" y="24012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5880" y="2536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2160" y="2394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9480" y="2696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83160" y="253296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88080" y="23994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91200" y="2680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81720" y="2539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00" y="239148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48560" y="24026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93080" y="2701440"/>
              <a:ext cx="2030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86480" y="2553480"/>
              <a:ext cx="20340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35440" y="5802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22480" y="637632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38800" y="490788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33880" y="455400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14840" y="423792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5628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591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75320" y="365652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18360" y="31989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58000" y="3427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30142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6800" y="2854080"/>
              <a:ext cx="2044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1760" y="2700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9440" y="25455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4800" y="240120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26400" y="22726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88320" y="227088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16760" y="227088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18160" y="216900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04000" y="20516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94480" y="185796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78280" y="2172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2920" y="19371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26040" y="2038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37000" y="2289960"/>
              <a:ext cx="17640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60760" y="22615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70200" y="2038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4200" y="21564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7680" y="18324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4320" y="21675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96240" y="228672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7440" y="2153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02240" y="215316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7720" y="195012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51240" y="176076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880" y="16592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83040" y="16513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20278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12920" y="2143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2480" y="2267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08000" y="16830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44760" y="166716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8120" y="20386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19880" y="1846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62480" y="19515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38920" y="1765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95960" y="22964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16320" y="20548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70440" y="184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7640" y="1747800"/>
              <a:ext cx="177840" cy="70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21280" y="18450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76480" y="2153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71720" y="19418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9040" y="17431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13160" y="20469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89160" y="21326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27480" y="18356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4160" y="19404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86200" y="1765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17920" y="18514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92480" y="17802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89240" y="19310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79640" y="18579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2680" y="1956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9000" y="20833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62240" y="158940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9040" y="160812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158940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6360" y="2255040"/>
              <a:ext cx="16848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59360" y="24076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45240" y="20437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8480" y="1924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8796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0664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44880" y="137952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30600" y="1465560"/>
              <a:ext cx="131760" cy="53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46560" y="152748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08200" y="1513080"/>
              <a:ext cx="1602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48200" y="639684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0528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04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35800" y="4574520"/>
              <a:ext cx="24912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910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41960" y="422028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92960" y="39308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69160" y="36752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80440" y="32115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96400" y="343368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20200" y="3049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52040" y="28699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93240" y="2703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77200" y="2563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69440" y="2415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67440" y="6466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96000" y="58662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77280" y="588528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29440" y="6431760"/>
              <a:ext cx="31140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2760" y="5394240"/>
              <a:ext cx="266400" cy="1522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676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07480" y="54295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2808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02760" y="4949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26400" y="4573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75480" y="4245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83640" y="395172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42520" y="32590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93240" y="36752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42360" y="3456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859960" y="3069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031320" y="2876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990280" y="425664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-102960" y="4550760"/>
              <a:ext cx="2379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" y="393408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-14040" y="22806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28360" y="636984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C0AC-2CD9-4FD3-9618-7954874866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-104760" y="1311120"/>
            <a:ext cx="9350280" cy="5632560"/>
            <a:chOff x="-104760" y="1311120"/>
            <a:chExt cx="9350280" cy="5632560"/>
          </a:xfrm>
        </p:grpSpPr>
        <p:sp>
          <p:nvSpPr>
            <p:cNvPr id="381" name=""/>
            <p:cNvSpPr/>
            <p:nvPr/>
          </p:nvSpPr>
          <p:spPr>
            <a:xfrm flipV="1" rot="20798400">
              <a:off x="-23760" y="164304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20774400">
              <a:off x="-39600" y="1791360"/>
              <a:ext cx="32274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20757600">
              <a:off x="-44640" y="190404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20684400">
              <a:off x="-69840" y="20401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20631600">
              <a:off x="-83160" y="2220840"/>
              <a:ext cx="4397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20554800">
              <a:off x="-104760" y="2420280"/>
              <a:ext cx="48546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20466600">
              <a:off x="-149400" y="26931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 rot="20343600">
              <a:off x="-158400" y="2961000"/>
              <a:ext cx="5951520" cy="972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20211600">
              <a:off x="-263160" y="326340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20103000">
              <a:off x="-341280" y="3637800"/>
              <a:ext cx="732132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19923600">
              <a:off x="-498600" y="415908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19686600">
              <a:off x="12240" y="457920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19383600">
              <a:off x="2091960" y="4653720"/>
              <a:ext cx="7321320" cy="1008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18994200">
              <a:off x="4254120" y="488088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18603600">
              <a:off x="6425280" y="5563080"/>
              <a:ext cx="33030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 rot="18391200">
              <a:off x="8515800" y="661608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058400">
              <a:off x="-233280" y="3751200"/>
              <a:ext cx="959832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563600">
              <a:off x="-316080" y="5397120"/>
              <a:ext cx="6575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732800">
              <a:off x="-263520" y="575928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968600">
              <a:off x="-176040" y="6232320"/>
              <a:ext cx="222264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386000">
              <a:off x="-344520" y="5118840"/>
              <a:ext cx="8694720" cy="972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983400">
              <a:off x="-183960" y="338436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930600">
              <a:off x="125280" y="3093120"/>
              <a:ext cx="91375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867600">
              <a:off x="591840" y="2864880"/>
              <a:ext cx="86918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75200">
              <a:off x="1344600" y="2514960"/>
              <a:ext cx="78991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5000">
              <a:off x="1670040" y="23468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692400">
              <a:off x="1973160" y="218916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 rot="655800">
              <a:off x="2359080" y="2075040"/>
              <a:ext cx="68482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637200">
              <a:off x="2617200" y="19364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 rot="804000">
              <a:off x="968040" y="2676960"/>
              <a:ext cx="82612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 rot="1273800">
              <a:off x="-325440" y="4730040"/>
              <a:ext cx="976284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 rot="1170000">
              <a:off x="-277560" y="423144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72880" y="533844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2960" y="4885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0560" y="580392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95440" y="4229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39680" y="4888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74800" y="454104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89080" y="4512600"/>
              <a:ext cx="23940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1040" y="422172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58680" y="41994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3949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0480" y="3678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76600" y="3423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51320" y="366408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2200" y="30171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05440" y="2849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99080" y="30139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62520" y="2826720"/>
              <a:ext cx="203040" cy="98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00560" y="3217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3480" y="343332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8904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55960" y="32238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0120" y="3457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8892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30240" y="32540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11160" y="28663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79600" y="30394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62000" y="28630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5760" y="3028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9200" y="284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80" y="32302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6200" y="34430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65040" y="304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0720" y="2856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7840" y="3021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4000" y="36925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90600" y="3462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51000" y="392904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37040" y="320328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11200" y="270288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71640" y="2542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97080" y="2394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33400" y="2535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55680" y="26870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90680" y="2404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11280" y="269640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20960" y="25452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59160" y="26805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77640" y="2404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4080" y="2539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360" y="2397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680" y="2699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81360" y="25358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86280" y="24022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9400" y="2683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79920" y="2542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94200" y="2394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6760" y="24055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91280" y="2704320"/>
              <a:ext cx="2030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84680" y="2556360"/>
              <a:ext cx="20340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33640" y="58053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20680" y="63792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37000" y="4910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080" y="455688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13040" y="424080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54480" y="39006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57320" y="5339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3520" y="365940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6560" y="32018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56200" y="3430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7600" y="301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85000" y="2856960"/>
              <a:ext cx="2044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9960" y="27028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97640" y="25484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23000" y="240408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24600" y="227556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86520" y="227376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14960" y="227376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16360" y="21718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02200" y="20545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92680" y="186084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76480" y="21751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35200" y="2292840"/>
              <a:ext cx="17640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58960" y="2264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2400" y="215928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5880" y="18352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02520" y="21704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22896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35640" y="2156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00440" y="215604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25920" y="19530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9440" y="1763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81240" y="16542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25480" y="2030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11120" y="2146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680" y="2270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06200" y="16858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42960" y="167004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56320" y="204156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18080" y="1849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60680" y="19544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7120" y="1768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94160" y="22993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14520" y="20577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8640" y="184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25840" y="1750680"/>
              <a:ext cx="177840" cy="70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19480" y="18478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74680" y="2156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69920" y="19447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57240" y="17460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1360" y="20498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87360" y="21355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25680" y="18385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52360" y="19432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84400" y="1768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16120" y="185436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90680" y="178308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87440" y="19339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77840" y="18608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7200" y="208620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60440" y="159228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27240" y="1611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5736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44560" y="2257920"/>
              <a:ext cx="16848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57560" y="24105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43440" y="20466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6680" y="19274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8616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0484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43080" y="138240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28800" y="1468440"/>
              <a:ext cx="131760" cy="53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1515960"/>
              <a:ext cx="1602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46400" y="63997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03480" y="583380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38640" y="4960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34000" y="4577400"/>
              <a:ext cx="24912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89280" y="5366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40160" y="422316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91160" y="39337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67360" y="36781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78640" y="32144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94600" y="343656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18400" y="3052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50240" y="28728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91440" y="27061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75400" y="2566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567640" y="2418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65640" y="646956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94200" y="58690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75480" y="588816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7640" y="6434640"/>
              <a:ext cx="31140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30960" y="5397120"/>
              <a:ext cx="266400" cy="1522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65840" y="49921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05680" y="54324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26280" y="4566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400960" y="49525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724600" y="4575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3680" y="4248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81840" y="395460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40720" y="32619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191440" y="36781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440560" y="34588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858160" y="3072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029520" y="28789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988480" y="425952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-104760" y="4553640"/>
              <a:ext cx="2379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40" y="39369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-15840" y="22834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926560" y="637272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DDB4-68B8-4C21-B928-8575FA59D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coin.wav" TargetMode="External"/><Relationship Id="rId3" Type="http://schemas.microsoft.com/office/2007/relationships/media" Target="file:///tmp/home/.config/libreoffice/4/user/gallery/coin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file:///tmp/home/.config/libreoffice/4/user/gallery/hammer.wav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rcRect l="704" t="1759" r="0" b="5430"/>
          <a:stretch/>
        </p:blipFill>
        <p:spPr>
          <a:xfrm>
            <a:off x="596880" y="720720"/>
            <a:ext cx="8151840" cy="52135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539640" y="692280"/>
            <a:ext cx="8209080" cy="3146040"/>
          </a:xfrm>
          <a:prstGeom prst="rect">
            <a:avLst/>
          </a:pr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通过前面的学习，我们对黄河有了较多的了解。它孕育了中华民族，养育了中华儿女。从古至今不知有多少文人墨客赞美它、歌颂它。今天，我们继续学习有关黄河的课文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76360" y="393372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中宋"/>
              </a:rPr>
              <a:t>黄河——中华名族的摇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rcRect l="4583" t="6004" r="0" b="0"/>
          <a:stretch/>
        </p:blipFill>
        <p:spPr>
          <a:xfrm>
            <a:off x="209520" y="206280"/>
            <a:ext cx="4362480" cy="32227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2050920" y="2276640"/>
            <a:ext cx="2286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黄河公伯峡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61080" y="260280"/>
            <a:ext cx="4160520" cy="3213000"/>
            <a:chOff x="4861080" y="260280"/>
            <a:chExt cx="4160520" cy="3213000"/>
          </a:xfrm>
        </p:grpSpPr>
        <p:pic>
          <p:nvPicPr>
            <p:cNvPr id="668" name="" descr=""/>
            <p:cNvPicPr/>
            <p:nvPr/>
          </p:nvPicPr>
          <p:blipFill>
            <a:blip r:embed="rId3"/>
            <a:srcRect l="0" t="6488" r="8977" b="-176"/>
            <a:stretch/>
          </p:blipFill>
          <p:spPr>
            <a:xfrm>
              <a:off x="4861080" y="260280"/>
              <a:ext cx="416052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 txBox="1"/>
            <p:nvPr/>
          </p:nvSpPr>
          <p:spPr>
            <a:xfrm>
              <a:off x="4861080" y="260280"/>
              <a:ext cx="4160520" cy="321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4"/>
          <a:srcRect l="8629" t="3780" r="-290" b="13354"/>
          <a:stretch/>
        </p:blipFill>
        <p:spPr>
          <a:xfrm>
            <a:off x="396720" y="3705120"/>
            <a:ext cx="4256280" cy="29005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5"/>
          <a:srcRect l="0" t="0" r="6059" b="15742"/>
          <a:stretch/>
        </p:blipFill>
        <p:spPr>
          <a:xfrm>
            <a:off x="4861080" y="3718080"/>
            <a:ext cx="417348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581280" y="17524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334120" y="5181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395280" y="1484280"/>
            <a:ext cx="8416800" cy="3661920"/>
            <a:chOff x="395280" y="1484280"/>
            <a:chExt cx="8416800" cy="3661920"/>
          </a:xfrm>
        </p:grpSpPr>
        <p:pic>
          <p:nvPicPr>
            <p:cNvPr id="676" name="" descr=""/>
            <p:cNvPicPr/>
            <p:nvPr/>
          </p:nvPicPr>
          <p:blipFill>
            <a:blip r:embed="rId1"/>
            <a:stretch/>
          </p:blipFill>
          <p:spPr>
            <a:xfrm>
              <a:off x="395280" y="1484280"/>
              <a:ext cx="4176720" cy="36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2"/>
            <a:stretch/>
          </p:blipFill>
          <p:spPr>
            <a:xfrm>
              <a:off x="4714920" y="1512720"/>
              <a:ext cx="4097160" cy="36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"/>
          <p:cNvSpPr/>
          <p:nvPr/>
        </p:nvSpPr>
        <p:spPr>
          <a:xfrm>
            <a:off x="2122560" y="557388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华文中宋"/>
              </a:rPr>
              <a:t>注：黄河源于青海省巴颜喀拉山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59280" y="40464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黄河源头景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6959520" cy="48816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7483680" y="1628640"/>
            <a:ext cx="1277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黄河上游景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rcRect l="0" t="0" r="0" b="92"/>
          <a:stretch/>
        </p:blipFill>
        <p:spPr>
          <a:xfrm>
            <a:off x="971640" y="1197000"/>
            <a:ext cx="7488000" cy="48164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3203640" y="40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黄河中游景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oin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539640" y="476280"/>
            <a:ext cx="8315280" cy="5040360"/>
            <a:chOff x="539640" y="476280"/>
            <a:chExt cx="8315280" cy="5040360"/>
          </a:xfrm>
        </p:grpSpPr>
        <p:pic>
          <p:nvPicPr>
            <p:cNvPr id="685" name="" descr=""/>
            <p:cNvPicPr/>
            <p:nvPr/>
          </p:nvPicPr>
          <p:blipFill>
            <a:blip r:embed="rId1"/>
            <a:stretch/>
          </p:blipFill>
          <p:spPr>
            <a:xfrm>
              <a:off x="539640" y="476280"/>
              <a:ext cx="38131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2"/>
            <a:stretch/>
          </p:blipFill>
          <p:spPr>
            <a:xfrm>
              <a:off x="4643280" y="2349360"/>
              <a:ext cx="4211640" cy="31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"/>
          <p:cNvSpPr txBox="1"/>
          <p:nvPr/>
        </p:nvSpPr>
        <p:spPr>
          <a:xfrm rot="9673200">
            <a:off x="4575240" y="794880"/>
            <a:ext cx="3303360" cy="677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华文中宋"/>
              </a:rPr>
              <a:t>黄河入海口</a:t>
            </a:r>
            <a:endParaRPr b="1" i="1" lang="en-US" sz="1800" spc="-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88" name=""/>
          <p:cNvSpPr/>
          <p:nvPr/>
        </p:nvSpPr>
        <p:spPr>
          <a:xfrm>
            <a:off x="1116000" y="57340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中宋"/>
              </a:rPr>
              <a:t>落日                            芦花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3" name="coin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rcRect l="0" t="0" r="-103" b="0"/>
          <a:stretch/>
        </p:blipFill>
        <p:spPr>
          <a:xfrm>
            <a:off x="826920" y="333360"/>
            <a:ext cx="5616720" cy="6120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7380360" y="1700280"/>
            <a:ext cx="6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黄河凌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04000" y="53006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华文中宋"/>
              </a:rPr>
              <a:t>注：浮冰下泻造成凌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5640" cy="5931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066680" y="40384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52880" y="685800"/>
            <a:ext cx="335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oin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038_hhgb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5791320" y="2286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黄河公伯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oin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1768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042920" y="141300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黄河——中华名族的摇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4643280" y="1052640"/>
            <a:ext cx="3529080" cy="1150920"/>
            <a:chOff x="4643280" y="1052640"/>
            <a:chExt cx="3529080" cy="1150920"/>
          </a:xfrm>
        </p:grpSpPr>
        <p:sp>
          <p:nvSpPr>
            <p:cNvPr id="700" name=""/>
            <p:cNvSpPr/>
            <p:nvPr/>
          </p:nvSpPr>
          <p:spPr>
            <a:xfrm>
              <a:off x="4643280" y="1052640"/>
              <a:ext cx="3529080" cy="1150920"/>
            </a:xfrm>
            <a:prstGeom prst="horizontalScroll">
              <a:avLst>
                <a:gd name="adj" fmla="val 12500"/>
              </a:avLst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08560" y="1392480"/>
              <a:ext cx="235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华文中宋"/>
                </a:rPr>
                <a:t>历史文化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826920" y="404640"/>
            <a:ext cx="7201080" cy="5832360"/>
            <a:chOff x="826920" y="404640"/>
            <a:chExt cx="7201080" cy="5832360"/>
          </a:xfrm>
        </p:grpSpPr>
        <p:pic>
          <p:nvPicPr>
            <p:cNvPr id="703" name="" descr=""/>
            <p:cNvPicPr/>
            <p:nvPr/>
          </p:nvPicPr>
          <p:blipFill>
            <a:blip r:embed="rId1"/>
            <a:stretch/>
          </p:blipFill>
          <p:spPr>
            <a:xfrm>
              <a:off x="1042920" y="620640"/>
              <a:ext cx="280980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2"/>
            <a:stretch/>
          </p:blipFill>
          <p:spPr>
            <a:xfrm>
              <a:off x="4284360" y="3068640"/>
              <a:ext cx="3544920" cy="290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"/>
            <p:cNvGrpSpPr/>
            <p:nvPr/>
          </p:nvGrpSpPr>
          <p:grpSpPr>
            <a:xfrm>
              <a:off x="826920" y="404640"/>
              <a:ext cx="7201080" cy="5832360"/>
              <a:chOff x="826920" y="404640"/>
              <a:chExt cx="7201080" cy="5832360"/>
            </a:xfrm>
          </p:grpSpPr>
          <p:sp>
            <p:nvSpPr>
              <p:cNvPr id="706" name=""/>
              <p:cNvSpPr/>
              <p:nvPr/>
            </p:nvSpPr>
            <p:spPr>
              <a:xfrm>
                <a:off x="826920" y="404640"/>
                <a:ext cx="3313080" cy="5832360"/>
              </a:xfrm>
              <a:prstGeom prst="rect">
                <a:avLst/>
              </a:prstGeom>
              <a:noFill/>
              <a:ln w="9360">
                <a:solidFill>
                  <a:srgbClr val="663300"/>
                </a:solidFill>
                <a:miter/>
              </a:ln>
              <a:effectLst>
                <a:outerShdw dist="107932" dir="13500000" blurRad="0" rotWithShape="0">
                  <a:srgbClr val="0101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138560" y="2852640"/>
                <a:ext cx="3889440" cy="3384360"/>
              </a:xfrm>
              <a:prstGeom prst="rect">
                <a:avLst/>
              </a:prstGeom>
              <a:noFill/>
              <a:ln w="9360">
                <a:solidFill>
                  <a:srgbClr val="663300"/>
                </a:solidFill>
                <a:miter/>
              </a:ln>
              <a:effectLst>
                <a:outerShdw dist="107932" dir="13500000" blurRad="0" rotWithShape="0">
                  <a:srgbClr val="0101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amond/>
    <p:sndAc>
      <p:stSnd>
        <p:snd r:embed="rId3" name="coin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仰韶遗址"/>
          <p:cNvPicPr/>
          <p:nvPr/>
        </p:nvPicPr>
        <p:blipFill>
          <a:blip r:embed="rId1"/>
          <a:stretch/>
        </p:blipFill>
        <p:spPr>
          <a:xfrm>
            <a:off x="826920" y="620640"/>
            <a:ext cx="3108600" cy="4680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1187280" y="5805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仰韶遗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大汶口遗址"/>
          <p:cNvPicPr/>
          <p:nvPr/>
        </p:nvPicPr>
        <p:blipFill>
          <a:blip r:embed="rId2"/>
          <a:stretch/>
        </p:blipFill>
        <p:spPr>
          <a:xfrm>
            <a:off x="5003640" y="620640"/>
            <a:ext cx="3156120" cy="47516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5724360" y="57340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大汶口遗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3" name="coin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5435640" y="1655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碛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3959280" cy="294336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rcRect l="0" t="0" r="0" b="-47"/>
          <a:stretch/>
        </p:blipFill>
        <p:spPr>
          <a:xfrm>
            <a:off x="3059280" y="3645000"/>
            <a:ext cx="4752720" cy="28652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1042920" y="4292640"/>
            <a:ext cx="1295640" cy="13129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黄河古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936560" y="3860640"/>
            <a:ext cx="667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大禹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195640" y="609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3" name="coin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608360" cy="30322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4284720" y="3573360"/>
            <a:ext cx="3887640" cy="2917800"/>
          </a:xfrm>
          <a:prstGeom prst="rect">
            <a:avLst/>
          </a:prstGeom>
          <a:ln w="0">
            <a:noFill/>
          </a:ln>
        </p:spPr>
      </p:pic>
      <p:grpSp>
        <p:nvGrpSpPr>
          <p:cNvPr id="720" name=""/>
          <p:cNvGrpSpPr/>
          <p:nvPr/>
        </p:nvGrpSpPr>
        <p:grpSpPr>
          <a:xfrm>
            <a:off x="6443640" y="1125360"/>
            <a:ext cx="1297080" cy="1943280"/>
            <a:chOff x="6443640" y="1125360"/>
            <a:chExt cx="1297080" cy="1943280"/>
          </a:xfrm>
        </p:grpSpPr>
        <p:sp>
          <p:nvSpPr>
            <p:cNvPr id="721" name=""/>
            <p:cNvSpPr/>
            <p:nvPr/>
          </p:nvSpPr>
          <p:spPr>
            <a:xfrm>
              <a:off x="6443640" y="1125360"/>
              <a:ext cx="1297080" cy="1943280"/>
            </a:xfrm>
            <a:prstGeom prst="downArrow">
              <a:avLst>
                <a:gd name="adj1" fmla="val 50000"/>
                <a:gd name="adj2" fmla="val 37455"/>
              </a:avLst>
            </a:prstGeom>
            <a:solidFill>
              <a:srgbClr val="000099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04000" y="1196640"/>
              <a:ext cx="57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华文中宋"/>
                </a:rPr>
                <a:t>黄帝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187280" y="4005360"/>
            <a:ext cx="1728720" cy="2376360"/>
            <a:chOff x="1187280" y="4005360"/>
            <a:chExt cx="1728720" cy="2376360"/>
          </a:xfrm>
        </p:grpSpPr>
        <p:sp>
          <p:nvSpPr>
            <p:cNvPr id="724" name=""/>
            <p:cNvSpPr/>
            <p:nvPr/>
          </p:nvSpPr>
          <p:spPr>
            <a:xfrm>
              <a:off x="1187280" y="4005360"/>
              <a:ext cx="1728720" cy="2376360"/>
            </a:xfrm>
            <a:prstGeom prst="upArrow">
              <a:avLst>
                <a:gd name="adj1" fmla="val 50000"/>
                <a:gd name="adj2" fmla="val 34366"/>
              </a:avLst>
            </a:prstGeom>
            <a:solidFill>
              <a:srgbClr val="000099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63640" y="4294440"/>
              <a:ext cx="647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华文中宋"/>
                </a:rPr>
                <a:t>西夏王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  <p:sndAc>
      <p:stSnd>
        <p:snd r:embed="rId3" name="coin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612720" y="549360"/>
            <a:ext cx="4319640" cy="325764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rcRect l="0" t="0" r="-210" b="33087"/>
          <a:stretch/>
        </p:blipFill>
        <p:spPr>
          <a:xfrm>
            <a:off x="5364000" y="2421000"/>
            <a:ext cx="3063960" cy="27288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76364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鹳雀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012000" y="981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龙门石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95280" y="333360"/>
            <a:ext cx="8209080" cy="6192720"/>
            <a:chOff x="395280" y="333360"/>
            <a:chExt cx="8209080" cy="6192720"/>
          </a:xfrm>
        </p:grpSpPr>
        <p:sp>
          <p:nvSpPr>
            <p:cNvPr id="731" name=""/>
            <p:cNvSpPr/>
            <p:nvPr/>
          </p:nvSpPr>
          <p:spPr>
            <a:xfrm>
              <a:off x="395280" y="333360"/>
              <a:ext cx="4753080" cy="37432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  <a:effectLst>
              <a:outerShdw dist="107932" dir="189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48360" y="1989000"/>
              <a:ext cx="3456000" cy="45370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  <a:effectLst>
              <a:outerShdw dist="107932" dir="189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  <p:sndAc>
      <p:stSnd>
        <p:snd r:embed="rId3" name="coin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6804000" y="1484280"/>
            <a:ext cx="1728720" cy="3887640"/>
            <a:chOff x="6804000" y="1484280"/>
            <a:chExt cx="1728720" cy="3887640"/>
          </a:xfrm>
        </p:grpSpPr>
        <p:sp>
          <p:nvSpPr>
            <p:cNvPr id="734" name=""/>
            <p:cNvSpPr/>
            <p:nvPr/>
          </p:nvSpPr>
          <p:spPr>
            <a:xfrm>
              <a:off x="6804000" y="1484280"/>
              <a:ext cx="1728720" cy="3887640"/>
            </a:xfrm>
            <a:prstGeom prst="verticalScroll">
              <a:avLst>
                <a:gd name="adj" fmla="val 12500"/>
              </a:avLst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70280" y="1844640"/>
              <a:ext cx="72900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华文中宋"/>
                </a:rPr>
                <a:t>风土民俗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474920" y="836640"/>
            <a:ext cx="4752720" cy="5184720"/>
            <a:chOff x="1474920" y="836640"/>
            <a:chExt cx="4752720" cy="5184720"/>
          </a:xfrm>
        </p:grpSpPr>
        <p:pic>
          <p:nvPicPr>
            <p:cNvPr id="737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2640"/>
              <a:ext cx="425556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1474920" y="836640"/>
              <a:ext cx="4752720" cy="5184720"/>
            </a:xfrm>
            <a:prstGeom prst="rect">
              <a:avLst/>
            </a:prstGeom>
            <a:noFill/>
            <a:ln w="28440">
              <a:solidFill>
                <a:srgbClr val="663300"/>
              </a:solidFill>
              <a:miter/>
            </a:ln>
            <a:effectLst>
              <a:outerShdw dist="107932" dir="189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  <p:sndAc>
      <p:stSnd>
        <p:snd r:embed="rId2" name="coin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48844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564000" y="333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黄河纤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oin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470560" cy="35798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535640" cy="3260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4103640" cy="28954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 rot="3556800">
            <a:off x="173520" y="4448880"/>
            <a:ext cx="2592360" cy="1089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黄河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745" name=""/>
          <p:cNvSpPr txBox="1"/>
          <p:nvPr/>
        </p:nvSpPr>
        <p:spPr>
          <a:xfrm rot="5400000">
            <a:off x="5111280" y="585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华文中宋"/>
              </a:rPr>
              <a:t>船</a:t>
            </a:r>
            <a:endParaRPr b="1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46" name=""/>
          <p:cNvSpPr txBox="1"/>
          <p:nvPr/>
        </p:nvSpPr>
        <p:spPr>
          <a:xfrm rot="5400000">
            <a:off x="7732080" y="1636560"/>
            <a:ext cx="8985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华文中宋"/>
              </a:rPr>
              <a:t>夫</a:t>
            </a:r>
            <a:endParaRPr b="1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>
    <p:diamond/>
    <p:sndAc>
      <p:stSnd>
        <p:snd r:embed="rId4" name="coin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835280" y="5373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黄河故道民俗——斗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11280" y="907920"/>
            <a:ext cx="8062920" cy="4135320"/>
            <a:chOff x="611280" y="907920"/>
            <a:chExt cx="8062920" cy="4135320"/>
          </a:xfrm>
        </p:grpSpPr>
        <p:pic>
          <p:nvPicPr>
            <p:cNvPr id="749" name="" descr=""/>
            <p:cNvPicPr/>
            <p:nvPr/>
          </p:nvPicPr>
          <p:blipFill>
            <a:blip r:embed="rId1"/>
            <a:stretch/>
          </p:blipFill>
          <p:spPr>
            <a:xfrm>
              <a:off x="611280" y="907920"/>
              <a:ext cx="4176720" cy="26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2"/>
            <a:stretch/>
          </p:blipFill>
          <p:spPr>
            <a:xfrm>
              <a:off x="5002200" y="2565360"/>
              <a:ext cx="3672000" cy="247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  <p:sndAc>
      <p:stSnd>
        <p:snd r:embed="rId3" name="coin.wav"/>
      </p:stSnd>
    </p:sndAc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rcRect l="0" t="0" r="0" b="-30"/>
          <a:stretch/>
        </p:blipFill>
        <p:spPr>
          <a:xfrm>
            <a:off x="1476360" y="836640"/>
            <a:ext cx="6192720" cy="431964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419640" y="530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兰州羊皮筏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1280" cy="55609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3348000" y="3213000"/>
            <a:ext cx="2916360" cy="1068480"/>
          </a:xfrm>
          <a:custGeom>
            <a:avLst/>
            <a:gdLst/>
            <a:ahLst/>
            <a:rect l="l" t="t" r="r" b="b"/>
            <a:pathLst>
              <a:path w="2101" h="709">
                <a:moveTo>
                  <a:pt x="2101" y="213"/>
                </a:moveTo>
                <a:cubicBezTo>
                  <a:pt x="2069" y="234"/>
                  <a:pt x="2031" y="254"/>
                  <a:pt x="1994" y="266"/>
                </a:cubicBezTo>
                <a:cubicBezTo>
                  <a:pt x="1991" y="275"/>
                  <a:pt x="1992" y="286"/>
                  <a:pt x="1985" y="293"/>
                </a:cubicBezTo>
                <a:cubicBezTo>
                  <a:pt x="1979" y="299"/>
                  <a:pt x="1967" y="297"/>
                  <a:pt x="1959" y="301"/>
                </a:cubicBezTo>
                <a:cubicBezTo>
                  <a:pt x="1866" y="340"/>
                  <a:pt x="1969" y="303"/>
                  <a:pt x="1897" y="328"/>
                </a:cubicBezTo>
                <a:cubicBezTo>
                  <a:pt x="1872" y="401"/>
                  <a:pt x="1811" y="462"/>
                  <a:pt x="1746" y="505"/>
                </a:cubicBezTo>
                <a:cubicBezTo>
                  <a:pt x="1704" y="532"/>
                  <a:pt x="1602" y="528"/>
                  <a:pt x="1560" y="532"/>
                </a:cubicBezTo>
                <a:cubicBezTo>
                  <a:pt x="1495" y="575"/>
                  <a:pt x="1565" y="535"/>
                  <a:pt x="1418" y="558"/>
                </a:cubicBezTo>
                <a:cubicBezTo>
                  <a:pt x="1400" y="561"/>
                  <a:pt x="1365" y="576"/>
                  <a:pt x="1365" y="576"/>
                </a:cubicBezTo>
                <a:cubicBezTo>
                  <a:pt x="1350" y="573"/>
                  <a:pt x="1327" y="581"/>
                  <a:pt x="1321" y="567"/>
                </a:cubicBezTo>
                <a:cubicBezTo>
                  <a:pt x="1314" y="550"/>
                  <a:pt x="1339" y="514"/>
                  <a:pt x="1339" y="514"/>
                </a:cubicBezTo>
                <a:cubicBezTo>
                  <a:pt x="1333" y="455"/>
                  <a:pt x="1327" y="403"/>
                  <a:pt x="1312" y="346"/>
                </a:cubicBezTo>
                <a:cubicBezTo>
                  <a:pt x="1374" y="325"/>
                  <a:pt x="1359" y="346"/>
                  <a:pt x="1374" y="301"/>
                </a:cubicBezTo>
                <a:cubicBezTo>
                  <a:pt x="1362" y="283"/>
                  <a:pt x="1334" y="269"/>
                  <a:pt x="1339" y="248"/>
                </a:cubicBezTo>
                <a:cubicBezTo>
                  <a:pt x="1347" y="212"/>
                  <a:pt x="1353" y="190"/>
                  <a:pt x="1374" y="160"/>
                </a:cubicBezTo>
                <a:cubicBezTo>
                  <a:pt x="1377" y="151"/>
                  <a:pt x="1379" y="141"/>
                  <a:pt x="1383" y="133"/>
                </a:cubicBezTo>
                <a:cubicBezTo>
                  <a:pt x="1388" y="124"/>
                  <a:pt x="1403" y="117"/>
                  <a:pt x="1401" y="107"/>
                </a:cubicBezTo>
                <a:cubicBezTo>
                  <a:pt x="1399" y="96"/>
                  <a:pt x="1383" y="95"/>
                  <a:pt x="1374" y="89"/>
                </a:cubicBezTo>
                <a:cubicBezTo>
                  <a:pt x="1368" y="71"/>
                  <a:pt x="1374" y="42"/>
                  <a:pt x="1356" y="36"/>
                </a:cubicBezTo>
                <a:cubicBezTo>
                  <a:pt x="1286" y="12"/>
                  <a:pt x="1135" y="9"/>
                  <a:pt x="1135" y="9"/>
                </a:cubicBezTo>
                <a:cubicBezTo>
                  <a:pt x="1047" y="16"/>
                  <a:pt x="1027" y="0"/>
                  <a:pt x="984" y="62"/>
                </a:cubicBezTo>
                <a:cubicBezTo>
                  <a:pt x="978" y="80"/>
                  <a:pt x="965" y="117"/>
                  <a:pt x="966" y="133"/>
                </a:cubicBezTo>
                <a:cubicBezTo>
                  <a:pt x="968" y="152"/>
                  <a:pt x="984" y="186"/>
                  <a:pt x="984" y="186"/>
                </a:cubicBezTo>
                <a:cubicBezTo>
                  <a:pt x="965" y="215"/>
                  <a:pt x="942" y="229"/>
                  <a:pt x="922" y="257"/>
                </a:cubicBezTo>
                <a:cubicBezTo>
                  <a:pt x="896" y="334"/>
                  <a:pt x="905" y="324"/>
                  <a:pt x="816" y="337"/>
                </a:cubicBezTo>
                <a:cubicBezTo>
                  <a:pt x="803" y="341"/>
                  <a:pt x="763" y="350"/>
                  <a:pt x="763" y="372"/>
                </a:cubicBezTo>
                <a:cubicBezTo>
                  <a:pt x="763" y="383"/>
                  <a:pt x="780" y="384"/>
                  <a:pt x="789" y="390"/>
                </a:cubicBezTo>
                <a:cubicBezTo>
                  <a:pt x="786" y="402"/>
                  <a:pt x="789" y="418"/>
                  <a:pt x="780" y="426"/>
                </a:cubicBezTo>
                <a:cubicBezTo>
                  <a:pt x="766" y="438"/>
                  <a:pt x="745" y="437"/>
                  <a:pt x="727" y="443"/>
                </a:cubicBezTo>
                <a:cubicBezTo>
                  <a:pt x="686" y="456"/>
                  <a:pt x="644" y="465"/>
                  <a:pt x="603" y="479"/>
                </a:cubicBezTo>
                <a:cubicBezTo>
                  <a:pt x="585" y="476"/>
                  <a:pt x="567" y="474"/>
                  <a:pt x="550" y="470"/>
                </a:cubicBezTo>
                <a:cubicBezTo>
                  <a:pt x="532" y="465"/>
                  <a:pt x="497" y="452"/>
                  <a:pt x="497" y="452"/>
                </a:cubicBezTo>
                <a:cubicBezTo>
                  <a:pt x="467" y="455"/>
                  <a:pt x="436" y="451"/>
                  <a:pt x="408" y="461"/>
                </a:cubicBezTo>
                <a:cubicBezTo>
                  <a:pt x="374" y="472"/>
                  <a:pt x="380" y="537"/>
                  <a:pt x="399" y="567"/>
                </a:cubicBezTo>
                <a:cubicBezTo>
                  <a:pt x="407" y="580"/>
                  <a:pt x="429" y="573"/>
                  <a:pt x="444" y="576"/>
                </a:cubicBezTo>
                <a:cubicBezTo>
                  <a:pt x="462" y="637"/>
                  <a:pt x="502" y="642"/>
                  <a:pt x="550" y="674"/>
                </a:cubicBezTo>
                <a:cubicBezTo>
                  <a:pt x="558" y="697"/>
                  <a:pt x="572" y="709"/>
                  <a:pt x="532" y="709"/>
                </a:cubicBezTo>
                <a:cubicBezTo>
                  <a:pt x="518" y="709"/>
                  <a:pt x="437" y="669"/>
                  <a:pt x="426" y="665"/>
                </a:cubicBezTo>
                <a:cubicBezTo>
                  <a:pt x="361" y="643"/>
                  <a:pt x="404" y="656"/>
                  <a:pt x="275" y="647"/>
                </a:cubicBezTo>
                <a:cubicBezTo>
                  <a:pt x="215" y="626"/>
                  <a:pt x="284" y="658"/>
                  <a:pt x="240" y="594"/>
                </a:cubicBezTo>
                <a:cubicBezTo>
                  <a:pt x="235" y="586"/>
                  <a:pt x="222" y="588"/>
                  <a:pt x="213" y="585"/>
                </a:cubicBezTo>
                <a:cubicBezTo>
                  <a:pt x="210" y="576"/>
                  <a:pt x="212" y="563"/>
                  <a:pt x="204" y="558"/>
                </a:cubicBezTo>
                <a:cubicBezTo>
                  <a:pt x="189" y="547"/>
                  <a:pt x="151" y="541"/>
                  <a:pt x="151" y="541"/>
                </a:cubicBezTo>
                <a:cubicBezTo>
                  <a:pt x="114" y="551"/>
                  <a:pt x="112" y="556"/>
                  <a:pt x="71" y="541"/>
                </a:cubicBezTo>
                <a:cubicBezTo>
                  <a:pt x="61" y="537"/>
                  <a:pt x="55" y="526"/>
                  <a:pt x="45" y="523"/>
                </a:cubicBezTo>
                <a:cubicBezTo>
                  <a:pt x="30" y="519"/>
                  <a:pt x="15" y="523"/>
                  <a:pt x="0" y="5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059280" y="260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介绍黄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4360" y="1413000"/>
            <a:ext cx="7991280" cy="581400"/>
          </a:xfrm>
          <a:prstGeom prst="rect">
            <a:avLst/>
          </a:prstGeom>
          <a:solidFill>
            <a:srgbClr val="008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黄河，我国第二长河，全长约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546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千米。发源于青藏高原巴颜克拉山脉北麓，流经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省、自治区，在山东省注入渤海。其间，有水草丰美的牧场，有风光秀丽的崇山峻岭，有广阔无垠的肥土沃壤，有雄浑粗狂的黄土高原，有一马平川的关中平原，有悠久历史的文明古都，有丰富的物产和地下宝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624720" cy="43354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635280" y="5229360"/>
            <a:ext cx="18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安塞腰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oin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835680" cy="41529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3564000" y="530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闹春秧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132000" y="227664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再    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900000" y="4653000"/>
            <a:ext cx="780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下课三件事：收书本、对桌椅、拾垃圾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24000" y="476280"/>
            <a:ext cx="84960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初读课文，交流文中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蜿蜒曲折  震耳欲聋  曲折壮丽  汩汩而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奔腾不息  融汇百川  自强不息  巨壶倾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鬼斧神工  步履沉重  高山绝壁  奔涌而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雨量充沛  生息劳作  繁衍发展  乘龙归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昏庸无道  百家争鸣  大展宏图  自强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北麓  清冽  险峻  流传  屏障  泛滥  昼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24000" y="476280"/>
            <a:ext cx="8496000" cy="40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行程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464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公里，流经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个省、自治区，汇集了渭河、泾河等几十条主要支流和上千条溪流，流域面积达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75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万平方公里，是中国第二长河，世界第五大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华文中宋"/>
                <a:ea typeface="华文中宋"/>
              </a:rPr>
              <a:t>这句话运用了列数字的说明方法，说明黄河流程长，支流多，流域面积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入海时，黄河已显得步履沉重，只能缓缓向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华文中宋"/>
                <a:ea typeface="华文中宋"/>
              </a:rPr>
              <a:t>这句话运用了拟人的手法，形象地说明了含有大量泥沙的河水使黄河流速大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24000" y="476280"/>
            <a:ext cx="84960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再读课文，交流探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黄河为什么被称为中华民族的摇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黄河孕育了我国几千年的古代文明、创作出了唐诗、宋词、龙门石窟、《清明上河图》等无数艺术珍品，培养了中华民族汇集百川、自强不息、勇于创造的民族精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324000" y="476280"/>
            <a:ext cx="849600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拓  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描写黄河的诗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黄河西来决昆仑，咆哮万里触龙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黄河落尽走东海，万里写入襟怀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有关黄河的图片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 txBox="1"/>
          <p:nvPr/>
        </p:nvSpPr>
        <p:spPr>
          <a:xfrm>
            <a:off x="324000" y="234936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黄河源头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 txBox="1"/>
          <p:nvPr/>
        </p:nvSpPr>
        <p:spPr>
          <a:xfrm>
            <a:off x="6400800" y="2637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黄水黄土奇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0" y="6093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黑三峡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6227640" y="587700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九曲黄河</a:t>
            </a:r>
            <a:endParaRPr b="0" lang="en-US" sz="2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 txBox="1"/>
          <p:nvPr/>
        </p:nvSpPr>
        <p:spPr>
          <a:xfrm>
            <a:off x="0" y="2708280"/>
            <a:ext cx="13683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洪水</a:t>
            </a:r>
            <a:endParaRPr b="0" lang="en-US" sz="2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7596360" y="2565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潼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2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395280" y="6093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黄河龙口</a:t>
            </a:r>
            <a:endParaRPr b="0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7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6:15:02Z</dcterms:created>
  <dc:creator>Administrator</dc:creator>
  <dc:description/>
  <dc:language>en-US</dc:language>
  <cp:lastModifiedBy/>
  <dcterms:modified xsi:type="dcterms:W3CDTF">2015-07-23T07:56:06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