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自定义放映 1" id="0">
      <p:sldLst>
        <p:sld r:id="rId3"/>
        <p:sld r:id="rId4"/>
        <p:sld r:id="rId5"/>
        <p:sld r:id="rId6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580-7CE6-4E3F-975B-DF3A9D73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6D2-E135-4367-8B25-91BB41B2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9CC-0402-47C8-9CB6-08C48C56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0B7-E8A6-4F55-AE00-78FDDD33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05F-F1D9-4B8E-AFB3-242C05FB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FD1-1662-4F8B-BE7E-626EE351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D6D-DB3C-47F2-80A3-84F3E427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B89-A18E-4AE3-8706-743C884F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B0E-3D24-40A9-8660-962B2E04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857-7427-4937-BB73-ACEBF44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C2F-212F-4CAB-B6A5-3F13B19A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FD1B-0B05-4967-9590-6ED2CA6F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AE3-1F7A-4EB6-92BC-3C4FEFEF1E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720" y="260280"/>
            <a:ext cx="792036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19162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4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屯 择菜  薅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喂猪  准头  刁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捂着  岂知  庄稼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啃食  挑剔 耍赖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数九寒冬   左邻右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2360" y="692280"/>
            <a:ext cx="111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cc0000"/>
                </a:solidFill>
                <a:latin typeface="宋体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72720" y="2276640"/>
            <a:ext cx="162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cc0000"/>
                </a:solidFill>
                <a:latin typeface="宋体"/>
              </a:rPr>
              <a:t>--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0720" y="1413000"/>
            <a:ext cx="143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cc0000"/>
                </a:solidFill>
                <a:latin typeface="宋体"/>
              </a:rPr>
              <a:t>--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73440" y="2276640"/>
            <a:ext cx="143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cc0000"/>
                </a:solidFill>
                <a:latin typeface="宋体"/>
              </a:rPr>
              <a:t>--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择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菜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刁</a:t>
            </a: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难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左邻右</a:t>
            </a: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舍       数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九隆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词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屯       耍赖       挑剔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小屯  择菜  薅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喂猪  准头  刁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捂着  岂知  庄稼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啃食  挑剔  耍赖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数九寒冬 左邻右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灵手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广结善缘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牛驮小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啧啧赞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无所不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有求必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喜鹊登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清爽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爽”的三种解释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明朗、清亮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②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率直、痛快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③ 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舒服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54040"/>
            <a:ext cx="22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灵手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广结善缘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牛驮小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啧啧赞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无所不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有求必应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喜鹊登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清爽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第二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段落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上学了，小学、中学、大学——越走越远了。但我还是不断收到姥姥寄来的剪纸，其中有一幅是这样的：一头老牛定定地站着，出神地望着一只欢蹦着远去的小兔子，联结它们的是一片开阔的草地。我知道，这是姥姥对我的期待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事实上，我不管走多远、走多久，梦中总不时映现家乡的窗花和村路两侧的四季田野。无论何时，无论何地，只要忆及那清清爽爽的剪纸声，我的心境与梦境就立刻变得有声有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Richard Clayderman-天空之城钢琴曲(《天空之城》动漫插曲)" descr=""/>
          <p:cNvPicPr/>
          <p:nvPr/>
        </p:nvPicPr>
        <p:blipFill>
          <a:blip r:embed="rId1"/>
          <a:stretch/>
        </p:blipFill>
        <p:spPr>
          <a:xfrm>
            <a:off x="8245440" y="595008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5354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</a:rPr>
              <a:t>第三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理解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技艺高超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---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生活小插曲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---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祖孙情深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--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思念姥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（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姥姥剪纸的技艺高超，深入人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（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姥姥在“我”的刁难下，尽展技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（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姥姥用剪纸表达了与“我”的浓浓深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（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）姥姥用剪纸表达对远方的“我”的挂念，姥姥的剪纸是“我”永远的回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课文描写了（      ）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      ），表达了作者对姥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的（     ）之情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品读文字  揣摩语言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默读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然段，划出写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姥剪纸技艺高超的语句，并简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下自己的感受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你姥姥神了，剪猫像猫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剪虎像虎，剪只母鸡能下蛋，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剪只公鸡能打鸣 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Arial"/>
                <a:ea typeface="바탕"/>
              </a:rPr>
              <a:t>我会写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姥姥神了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仿宋"/>
              </a:rPr>
              <a:t>一把普普通通的剪刀，一张普普通通的彩纸，在姥姥的手里翻来折去，便要什么就有什么了，人物、动物、植物、器物，无所不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我从小就听人啧啧赞叹：“你姥姥神了，剪猫像猫，剪虎像虎，剪只母鸡能下蛋，剪只公鸡能打鸣。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业设计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必做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有感情地诵读课文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在周记中，练习用正面描写和侧面描写相结合的方法写一个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实践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手实践一下剪纸活动，再和同学交流感受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76000"/>
          </a:blip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4292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343640" cy="4295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1989000"/>
            <a:ext cx="245916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9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19162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97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19162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3213000"/>
            <a:ext cx="4281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97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79640" y="19162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3213000"/>
            <a:ext cx="42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姥姥的剪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Arial"/>
              </a:rPr>
              <a:t>闯关训练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楷体"/>
              </a:rPr>
              <a:t>第一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字词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6:13:22Z</dcterms:created>
  <dc:creator>微软用户</dc:creator>
  <dc:description/>
  <dc:language>en-US</dc:language>
  <cp:lastModifiedBy>shen98020</cp:lastModifiedBy>
  <dcterms:modified xsi:type="dcterms:W3CDTF">2015-10-21T17:05:02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