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9A3-EB2D-48BC-B10C-6AEFCA90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024-1271-4E5D-90AC-76A372BC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30C-5491-4717-AD66-6371C56A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3C0-75AD-43C5-8C94-4093AE84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E8614-74EC-4B03-8495-E028B6F7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23368-7A11-4CF1-B43E-46C63F7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493E-7A3C-41B6-BE21-F6761F0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DA50F-9354-44AA-BD05-444D4F7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4DE1-5EC5-486E-A986-2EFF22F2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F76C5-0C41-472E-99ED-D0F35CB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50E03-ED56-4957-91BF-ACD2E3A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2FD-4B4F-4B6F-BFD5-25C8031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014C4-58FB-4F56-BC28-6C03CA1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F01F-123E-47DA-986A-F765146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9756C-4FDB-499E-9B38-97E4F50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370C-9553-4D0C-B2EB-627D4F1A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C790-C521-43B1-BBA5-8C976177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FB4-793C-48F4-A0CD-71963DDC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B8C-32F2-470E-9FEF-19D2139B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C51-E00B-43A8-B568-2041162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85C-8784-49AA-B492-758D287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F07-7F6C-48A5-8A13-6AD0FA6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64B-B1F4-4CE7-91B7-06F5F56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539-4BEF-4CE6-8508-E10D6B8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FB0-5D82-4039-ABF6-6605D25D0E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5D2B-AA3A-4C4E-BDD9-5E30BB1D6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58,6,&#23383;&#35789;&#24847;&#24605;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78,8,&#24187;&#28783;&#29255; 8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5"/>
          <p:cNvSpPr txBox="1"/>
          <p:nvPr/>
        </p:nvSpPr>
        <p:spPr>
          <a:xfrm rot="5400000">
            <a:off x="-69120" y="940320"/>
            <a:ext cx="2665440" cy="1736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凉 </a:t>
            </a:r>
            <a:endParaRPr b="1" lang="en-US" sz="18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WordArt 6"/>
          <p:cNvSpPr txBox="1"/>
          <p:nvPr/>
        </p:nvSpPr>
        <p:spPr>
          <a:xfrm rot="5400000">
            <a:off x="3708000" y="1267920"/>
            <a:ext cx="16002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1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州</a:t>
            </a:r>
            <a:endParaRPr b="1" lang="en-US" sz="18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WordArt 7"/>
          <p:cNvSpPr txBox="1"/>
          <p:nvPr/>
        </p:nvSpPr>
        <p:spPr>
          <a:xfrm rot="5400000">
            <a:off x="6429960" y="2362680"/>
            <a:ext cx="1716120" cy="14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词</a:t>
            </a:r>
            <a:endParaRPr b="1" lang="en-US" sz="18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4653000"/>
            <a:ext cx="446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243640" cy="6183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1052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解诗意，悟诗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分小组合作学习，根据查阅的有关资料，</a:t>
            </a: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理解诗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这首诗表达了作者怎样的思想感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通过描写           表达了作者的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。同时也写出了对戍边战士不能归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感情地朗读诗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6237360"/>
            <a:ext cx="576000" cy="43164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字词意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80503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仞：古代的长度单位，一仞相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七八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羌笛：羌族的一种乐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柳：指一种叫《折杨柳》的歌曲。唐朝有折柳赠别的风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度：经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字词意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6491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河远上：远望黄河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城：指孤零零的戍边的城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玉门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汉武帝置，因西域输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玉石取道于此而得名。故址在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甘肃敦煌西北小方盘城。六朝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址东移至今安西双塔堡附近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”一作“直”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381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48720" cy="624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381720"/>
            <a:ext cx="611280" cy="7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古诗今译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12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辽阔的高原上，黄河奔腾而来，远远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望去，好像是从白云中流出来的一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高山大河的环抱下，一座地处边塞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城巍然屹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羌笛何须老是吹奏那哀怨的《折杨柳》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呢？要知道，玉门关外本来就是春风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到的地方，哪有杨柳可折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653" t="3578" r="269" b="2456"/>
          <a:stretch/>
        </p:blipFill>
        <p:spPr>
          <a:xfrm>
            <a:off x="0" y="189000"/>
            <a:ext cx="9090000" cy="646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凉州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484280"/>
            <a:ext cx="7343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349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34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大西北空旷苍凉的浑然景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292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戍边战士悲壮慷慨和积极豪放，没有半点衰飒颓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6308640"/>
            <a:ext cx="574560" cy="360360"/>
          </a:xfrm>
          <a:prstGeom prst="rightArrow">
            <a:avLst>
              <a:gd name="adj1" fmla="val 50000"/>
              <a:gd name="adj2" fmla="val 398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其他边塞诗阅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8000" y="1916280"/>
            <a:ext cx="6912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时明月汉时关，万里长征人未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龙城飞将在，不教胡马度阴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绝圣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昌龄《出塞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里不惜死，一朝得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图麒麟阁，入朝明光宫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适（《塞下曲》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旗亭画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56000" y="1484280"/>
            <a:ext cx="59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葡萄美酒夜光杯，欲饮琵琶马上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醉卧沙场君莫笑，古来征战几人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翰《凉州词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月天山雪，无花只有寒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笛中闻折柳，春色未曾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战随金鼓，宵眠抱玉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愿将腰下剑，直为斩楼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《塞下曲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flipH="1">
            <a:off x="2484360" y="476280"/>
            <a:ext cx="3960720" cy="6045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04000" cy="6453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2556000" y="2349360"/>
            <a:ext cx="3887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王之涣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(688—742)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字季凌， 原籍晋阳（今山西太原），五世祖隆迁居绛州（今山西新绛）。曾任冀州衡水主簿，因谤辞官，家居十五年。晚年出任文安县（今禹河北）尉，卒于官舍。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是盛唐时期的诗人，为人慷慨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有大略，豪放不羁，常击剑悲歌，其诗多被当时乐工制曲歌唱，名动一时，常与高适、王昌龄等相唱和，以善于描写边塞风光著称。 《全唐诗》 存绝句六首，皆历代传诵名篇。 </a:t>
            </a:r>
            <a:r>
              <a:rPr b="0" lang="en-US" sz="2400" spc="-1" strike="noStrike">
                <a:solidFill>
                  <a:srgbClr val="003399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解题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凉州词：是凉州歌的唱词，是流行于盛唐的一种曲调名，许多诗人都喜欢这个曲调，为他填写新词，因此唐代诗人都写有《凉州词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凉州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484280"/>
            <a:ext cx="7343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2349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4292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7446960" cy="63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820000" cy="661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84360" y="1989000"/>
            <a:ext cx="66596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辽阔的高原上，黄河奔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而来，远远向西望去，好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从白云中流出来的一般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028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952120" cy="631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32000" y="549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5653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孤零零一座边城屹立在崇山峻岭间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052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2924280"/>
            <a:ext cx="6985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兵士们何必老是吹奏那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怨的《折杨柳》曲调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8:21:33Z</dcterms:created>
  <dc:creator>Administrator</dc:creator>
  <dc:description/>
  <dc:language>en-US</dc:language>
  <cp:lastModifiedBy/>
  <dcterms:modified xsi:type="dcterms:W3CDTF">2015-07-23T07:46:41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