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8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081A-D23C-44C8-BF9C-4B3088380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D897-4013-482F-B459-A83FA3B5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1E3E-6304-4842-9660-718FA756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BDA6-7CAE-4B5C-AE1F-83B77BC7E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5634-7072-405C-824F-2548739E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CB62-8578-4F78-982B-37B216DB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D6D6-1DF7-45D2-8785-0FB951DB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71A1-2689-4B91-A5A2-4D37F887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C135-562B-4E06-A358-FF04404B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71F1-5515-4B62-A201-737E6BF2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AE27-3A78-4325-AB10-B8FC9280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EF00-5C04-4F70-A1FD-8BF99F9C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17CA-81E5-4659-BE73-C8D03DA11D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pace.sina.com.cn/1188297871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space.sina.com.cn/1188297871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932360" y="1628640"/>
            <a:ext cx="243828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ln w="9360">
                  <a:solidFill>
                    <a:srgbClr val="00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9000"/>
                    </a:srgbClr>
                  </a:outerShdw>
                </a:effectLst>
                <a:latin typeface="黑体"/>
              </a:rPr>
              <a:t>口哨</a:t>
            </a:r>
            <a:endParaRPr b="0" lang="en-US" sz="9600" spc="-1" strike="noStrike">
              <a:ln w="9360">
                <a:solidFill>
                  <a:srgbClr val="00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300720" y="3933720"/>
            <a:ext cx="228600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楷体_GB2312"/>
              </a:rPr>
              <a:t>张海迪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38080" y="121932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通过吹口哨，“我”究竟找到了哪些快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2743200"/>
            <a:ext cx="7772400" cy="37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不再孤单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充满热情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丰富生命的色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>
            <a:lum contrast="30000"/>
          </a:blip>
          <a:stretch/>
        </p:blipFill>
        <p:spPr>
          <a:xfrm flipH="1">
            <a:off x="1619280" y="4869000"/>
            <a:ext cx="5562720" cy="12189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>
            <a:lum contrast="42000"/>
          </a:blip>
          <a:stretch/>
        </p:blipFill>
        <p:spPr>
          <a:xfrm>
            <a:off x="685800" y="0"/>
            <a:ext cx="1676520" cy="1279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132000" y="189000"/>
            <a:ext cx="4400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Times New Roman"/>
                <a:ea typeface="华文彩云"/>
              </a:rPr>
              <a:t>思考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38080" y="396252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692360" y="1700280"/>
            <a:ext cx="5562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朗读品味第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7</a:t>
            </a: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节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4" name=""/>
          <p:cNvSpPr/>
          <p:nvPr/>
        </p:nvSpPr>
        <p:spPr>
          <a:xfrm>
            <a:off x="1044720" y="400536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作者在这一段中用了哪些语句来描写口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这样的哨声带给你怎么样的感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1413000"/>
            <a:ext cx="878508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黑体"/>
                <a:ea typeface="黑体"/>
              </a:rPr>
              <a:t>在第</a:t>
            </a:r>
            <a:r>
              <a:rPr b="1" lang="zh-CN" sz="3600" spc="-1" strike="noStrike">
                <a:solidFill>
                  <a:srgbClr val="00cc00"/>
                </a:solidFill>
                <a:latin typeface="黑体"/>
                <a:ea typeface="黑体"/>
              </a:rPr>
              <a:t>9</a:t>
            </a:r>
            <a:r>
              <a:rPr b="1" lang="zh-CN" sz="3600" spc="-1" strike="noStrike">
                <a:solidFill>
                  <a:srgbClr val="00cc00"/>
                </a:solidFill>
                <a:latin typeface="黑体"/>
                <a:ea typeface="黑体"/>
              </a:rPr>
              <a:t>小节</a:t>
            </a:r>
            <a:r>
              <a:rPr b="1" lang="zh-CN" sz="3600" spc="-1" strike="noStrike">
                <a:solidFill>
                  <a:srgbClr val="00cc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cc00"/>
                </a:solidFill>
                <a:latin typeface="黑体"/>
                <a:ea typeface="黑体"/>
              </a:rPr>
              <a:t>作者说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i="1" lang="zh-CN" sz="3600" spc="-1" strike="noStrike">
                <a:solidFill>
                  <a:srgbClr val="000000"/>
                </a:solidFill>
                <a:latin typeface="黑体"/>
                <a:ea typeface="楷体_GB2312"/>
              </a:rPr>
              <a:t>我唱歌没有哭过，但我听见自己用口哨吹出的歌却不止一次地流下了眼泪……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br>
              <a:rPr sz="3600"/>
            </a:br>
            <a:r>
              <a:rPr b="1" lang="zh-CN" sz="3600" spc="-1" strike="noStrike">
                <a:solidFill>
                  <a:srgbClr val="00cc00"/>
                </a:solidFill>
                <a:latin typeface="黑体"/>
                <a:ea typeface="黑体"/>
              </a:rPr>
              <a:t>你觉得作者为什么会有这样的情感？</a:t>
            </a:r>
            <a:br>
              <a:rPr sz="36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学会吹口哨让病床上的“我”暂时忘却了孤独和痛苦，但是漫长的岁月过去了，“我”却依然躺在病床上，无法自由自在的生活，吹口哨越发给“我”带来无法排遣的忧伤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32000" y="1700280"/>
            <a:ext cx="6765840" cy="28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宋体"/>
                <a:ea typeface="华文新魏"/>
              </a:rPr>
              <a:t>“</a:t>
            </a:r>
            <a:r>
              <a:rPr b="1" lang="zh-CN" sz="4800" spc="-1" strike="noStrike">
                <a:solidFill>
                  <a:srgbClr val="000099"/>
                </a:solidFill>
                <a:latin typeface="宋体"/>
                <a:ea typeface="华文新魏"/>
              </a:rPr>
              <a:t>木椅碾过乡村土路的坎坷和泥泞，我告别了少女时代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乡村土路的坎坷和泥泞”不仅指现实中乡村土路的情况，实际上也比喻人生道路遇到的困难和艰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62064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朗读品味第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95280" y="477720"/>
            <a:ext cx="828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文章最后说</a:t>
            </a:r>
            <a:r>
              <a:rPr b="1" i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“我很想吹口哨，吹那支悠长缥缈的歌……”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多年过去了为什么当</a:t>
            </a:r>
            <a:r>
              <a:rPr b="1" i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“我又一次躺在病床上时”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又忽然</a:t>
            </a:r>
            <a:r>
              <a:rPr b="1" i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“很想吹口哨”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2852640"/>
            <a:ext cx="7634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再想吹口哨，已不再是当初“盼望吹着口哨病就好了”的心境，这只是一个“飘渺”的梦，现在已三十年过去了，今后“悠长”的岁月仍旧会持续下去，虽不无忧伤，</a:t>
            </a:r>
            <a:r>
              <a:rPr b="1" lang="zh-CN" sz="3200" spc="-1" strike="noStrike">
                <a:solidFill>
                  <a:srgbClr val="d20000"/>
                </a:solidFill>
                <a:latin typeface="Times New Roman"/>
                <a:ea typeface="华文新魏"/>
              </a:rPr>
              <a:t>但“我”已学会了坚强，做好了昂首面对风雨的准备。表明“我”决不放弃生活，决心与病魔不断斗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80880" y="304920"/>
            <a:ext cx="4648320" cy="12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体验感悟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989000"/>
            <a:ext cx="8893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华文新魏"/>
              </a:rPr>
              <a:t>文中多处写到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华文新魏"/>
              </a:rPr>
              <a:t>小鸟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华文新魏"/>
              </a:rPr>
              <a:t>，请把这些文字找出来。你能说说这是为什么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429264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者希望自己能像小鸟一样自由，这是“我”内心的渴望，它激发起“我”对美好生活的向往 、对生命的热爱，促使“我”能坚强起来勇敢地面对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564000" y="1125360"/>
            <a:ext cx="579096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4360" y="2708280"/>
            <a:ext cx="75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世界上的事情永远不是绝对的，结果完全因人而异。苦难对于天才是一块垫脚石……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对能干的人是一笔财富，对弱者是万丈深渊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---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巴尔扎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9640" y="2205000"/>
            <a:ext cx="784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张海迪的故事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曾经激励了你们父辈一代的成长，今天，你们能从她身上感受到什么呢？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380880"/>
            <a:ext cx="5181480" cy="1535400"/>
          </a:xfrm>
          <a:prstGeom prst="cloudCallout">
            <a:avLst>
              <a:gd name="adj1" fmla="val -59254"/>
              <a:gd name="adj2" fmla="val 722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0" y="380880"/>
            <a:ext cx="2590920" cy="16765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3564000" y="549360"/>
            <a:ext cx="324144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各抒己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519200"/>
            <a:ext cx="5040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黑体"/>
                <a:ea typeface="黑体"/>
              </a:rPr>
              <a:t>张海迪：</a:t>
            </a:r>
            <a:r>
              <a:rPr b="1" lang="zh-CN" sz="3600" spc="-1" strike="noStrike">
                <a:solidFill>
                  <a:srgbClr val="9900cc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1955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年生于济南，汉族，哲学硕士，现任中国残联主席。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岁时因患脊髓血管瘤，高位截瘫，她没有进过学校，童年时就开始以顽强的毅力自学知识。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198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年，海迪开始文学创作，至今已出版的作品有：长篇小说《轮椅上的梦》、《生命的追问》等。翻译作品《海边诊所》、《丽贝卡在新学校》、《小米勒旅行记》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462640" y="0"/>
            <a:ext cx="3681360" cy="4508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5029200" cy="1773360"/>
          </a:xfrm>
          <a:prstGeom prst="cloudCallout">
            <a:avLst>
              <a:gd name="adj1" fmla="val 40560"/>
              <a:gd name="adj2" fmla="val 953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华文彩云"/>
                <a:ea typeface="华文彩云"/>
              </a:rPr>
              <a:t>   </a:t>
            </a:r>
            <a:r>
              <a:rPr b="0" lang="zh-CN" sz="6000" spc="-1" strike="noStrike">
                <a:solidFill>
                  <a:srgbClr val="ff3300"/>
                </a:solidFill>
                <a:latin typeface="华文彩云"/>
                <a:ea typeface="华文彩云"/>
              </a:rPr>
              <a:t>知多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48360" y="4203720"/>
            <a:ext cx="399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1997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年被日本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NHK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评为“世界五大杰出残疾人”；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2001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年被新华社《环球》杂志评为“环球二十位最具影响力的世纪女性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2879640" cy="3600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59280" y="404640"/>
            <a:ext cx="60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身体伤残但却像诗一样生存的灵魂——她写小说，画油画，跳芭蕾，拍电视，唱歌，读硕士……甚至，她很喜欢香水，她活得有滋有味。张海迪现在的身份是作家，但写作是痛苦的，她得了大面积的褥疮，骨头都露出来了，但她还在写。她又做过几次手术，手术是痛苦的，她的鼻癌是在没有麻醉的情况下实施手术的，她清晰得感觉到刀把自己的鼻腔打开，针从自己皮肤穿过……只有经历过磨难的人，才会这么单纯，单纯的像一首简短的诗。——搜狐网友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2879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79640" y="260280"/>
            <a:ext cx="594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华文新魏"/>
                <a:ea typeface="华文新魏"/>
              </a:rPr>
              <a:t>读一读  </a:t>
            </a:r>
            <a:r>
              <a:rPr b="1" lang="zh-CN" sz="6000" spc="-1" strike="noStrike">
                <a:solidFill>
                  <a:srgbClr val="333399"/>
                </a:solidFill>
                <a:latin typeface="华文新魏"/>
                <a:ea typeface="华文新魏"/>
              </a:rPr>
              <a:t>写一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21932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胳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3962520"/>
            <a:ext cx="32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无可奈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3640" y="4005360"/>
            <a:ext cx="426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叽叽啾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13372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缥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31240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油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2952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钦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134136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怅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05720" y="22096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00720" y="306864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泥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72360" y="400536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坎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2286000"/>
            <a:ext cx="213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流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05320" y="304812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迷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0920" y="141300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gē  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79640" y="2349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piā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miǎ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88000" y="1413000"/>
            <a:ext cx="15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qīn  pèi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812000" y="148428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wǎ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67640" y="242100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niǎ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422100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ji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2492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liú  li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79640" y="32846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yóu  r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96360" y="414972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kǎn  k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80360" y="321300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ní nì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395280" y="0"/>
            <a:ext cx="111600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8360" y="549360"/>
            <a:ext cx="49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9900ff"/>
                </a:solidFill>
                <a:latin typeface="Arial"/>
                <a:ea typeface="隶书"/>
              </a:rPr>
              <a:t>读读想想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2060640"/>
            <a:ext cx="7345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ff"/>
                </a:solidFill>
                <a:latin typeface="Arial"/>
                <a:ea typeface="华文新魏"/>
              </a:rPr>
              <a:t>课文讲述了什么内容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ff"/>
                </a:solidFill>
                <a:latin typeface="Arial"/>
                <a:ea typeface="华文新魏"/>
              </a:rPr>
              <a:t>“</a:t>
            </a:r>
            <a:r>
              <a:rPr b="1" lang="zh-CN" sz="5400" spc="-1" strike="noStrike">
                <a:solidFill>
                  <a:srgbClr val="9900ff"/>
                </a:solidFill>
                <a:latin typeface="Arial"/>
                <a:ea typeface="华文新魏"/>
              </a:rPr>
              <a:t>我”以吹口哨排遣内心孤寂、寻找快乐的历程。</a:t>
            </a:r>
            <a:r>
              <a:rPr b="0" lang="zh-CN" sz="5400" spc="-1" strike="noStrike">
                <a:solidFill>
                  <a:srgbClr val="9900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</a:rPr>
              <a:t>以时间为线索划分段落层次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童年时，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Arial"/>
              </a:rPr>
              <a:t>学吹口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3300"/>
                </a:solidFill>
                <a:uFillTx/>
                <a:latin typeface="Arial"/>
              </a:rPr>
              <a:t>         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Arial"/>
              </a:rPr>
              <a:t>（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Arial"/>
              </a:rPr>
              <a:t>1—6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Arial"/>
              </a:rPr>
              <a:t>少女时代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口哨伴我成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7—1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中年时，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Arial"/>
              </a:rPr>
              <a:t>寄托希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3300"/>
                </a:solidFill>
                <a:uFillTx/>
                <a:latin typeface="Arial"/>
              </a:rPr>
              <a:t>         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Arial"/>
              </a:rPr>
              <a:t>（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Arial"/>
              </a:rPr>
              <a:t>11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Arial"/>
              </a:rPr>
              <a:t>、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Arial"/>
              </a:rPr>
              <a:t>12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68360" y="0"/>
            <a:ext cx="4400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ff"/>
                </a:solidFill>
                <a:latin typeface="Times New Roman"/>
                <a:ea typeface="隶书"/>
              </a:rPr>
              <a:t>读读品品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981000"/>
            <a:ext cx="889308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华文新魏"/>
              </a:rPr>
              <a:t>“</a:t>
            </a: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华文新魏"/>
              </a:rPr>
              <a:t>我”为什么选择吹口哨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华文新魏"/>
              </a:rPr>
              <a:t>这是一个五岁便高位截瘫的小女孩，久卧病床，不能动弹，她学会了吹口哨。口哨声中寄托了她盼望康复的愿望，还让她摆脱了孤寂，寻找到了快乐。吹口哨是她勇于面对困难，积极乐观面对生活的行动表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31040" y="0"/>
            <a:ext cx="18129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2771640" cy="2276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2852640"/>
            <a:ext cx="914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第三节中，课文用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18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个“我”有什么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连续用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8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个“我”，句子短促有力，强烈地表达出我躺在病床上身不由己，无有尽头的“疼痛”和“难过”，充分表达了“我”身体上的痛苦和精神上的无助。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7020000" y="4941720"/>
            <a:ext cx="1468440" cy="1744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124000" y="189000"/>
            <a:ext cx="4114800" cy="2666880"/>
          </a:xfrm>
          <a:prstGeom prst="cloudCallout">
            <a:avLst>
              <a:gd name="adj1" fmla="val 60685"/>
              <a:gd name="adj2" fmla="val -1041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华文彩云"/>
              </a:rPr>
              <a:t>说一说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68360" y="260280"/>
            <a:ext cx="3672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隶书"/>
              </a:rPr>
              <a:t> 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836640"/>
            <a:ext cx="6624360" cy="39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文中说吹口哨让“孤独中的我找到了快乐”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从文中找出两处表明“我”得到快乐的语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再后来我就会学小鸟叫，学他们啾啾地唱歌。我也吹自己会唱的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村里的男孩子们听见我吹口哨很惊奇地瞪大了眼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 </dc:creator>
  <dc:description/>
  <dc:language>en-US</dc:language>
  <cp:lastModifiedBy>USER</cp:lastModifiedBy>
  <dcterms:modified xsi:type="dcterms:W3CDTF">2015-08-04T23:05:41Z</dcterms:modified>
  <cp:revision>0</cp:revision>
  <dc:subject> 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