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81E-77C2-460C-9957-2DA27CD7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F63-A7BF-4BB7-BF1E-36AD987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D2B-0C1A-4519-9A48-D471209F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75C-CB66-47D3-BE6E-D9E63B1B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695-CED6-45FC-B280-440A9249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D10-5DD0-4E4A-8495-2269B73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77E-E0CB-424F-95CC-F6B9A25A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9B5-BFC4-4F38-804C-4C1FFD54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962-41E6-4EB9-9130-4ADB2B73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F58-C6BF-440E-95FE-28FEE557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B9E-C689-4902-9432-77B8F9F7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42F-E118-4094-BAC3-F69630A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5581-B601-4076-B2AD-1E7E662E19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《留住童年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280" y="3357360"/>
            <a:ext cx="280836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方正姚体"/>
              </a:rPr>
              <a:t>钱万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120" y="907920"/>
            <a:ext cx="25923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66"/>
                </a:solidFill>
                <a:latin typeface="隶书"/>
                <a:ea typeface="隶书"/>
              </a:rPr>
              <a:t>作   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757160"/>
            <a:ext cx="7851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华文行楷"/>
                <a:ea typeface="华文行楷"/>
              </a:rPr>
              <a:t>熟读全诗，挑选你所喜爱的段落背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华文行楷"/>
                <a:ea typeface="华文行楷"/>
              </a:rPr>
              <a:t>运用想象和联想</a:t>
            </a:r>
            <a:r>
              <a:rPr b="0" lang="zh-CN" sz="2800" spc="-1" strike="noStrike">
                <a:solidFill>
                  <a:srgbClr val="cc0066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cc0066"/>
                </a:solidFill>
                <a:latin typeface="华文行楷"/>
                <a:ea typeface="华文行楷"/>
              </a:rPr>
              <a:t>试着写一首小诗或是一段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字，歌颂你想赞美的事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80880" y="18288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1905120"/>
            <a:ext cx="4419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摘下这片树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珍藏起一个不老的春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诗会从此常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直到永远永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童年没有遗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失落的往事是缤纷的花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风中飘来风中飘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芳香在生命中弥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854360"/>
            <a:ext cx="37339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挡在前面的是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踏在脚下的也是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迷路的只是眼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清醒的总是脚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留住童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留住一份勇气和果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如果前面是一片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那就做一条乘风破浪的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95640" y="189000"/>
            <a:ext cx="4752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留住童年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338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经典粗宋简"/>
                <a:ea typeface="经典粗宋简"/>
              </a:rPr>
              <a:t>思 考</a:t>
            </a:r>
            <a:r>
              <a:rPr b="1" lang="zh-CN" sz="4400" spc="-1" strike="noStrike">
                <a:solidFill>
                  <a:srgbClr val="000099"/>
                </a:solidFill>
                <a:latin typeface="经典粗宋简"/>
                <a:ea typeface="经典粗宋简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0320" y="2004480"/>
            <a:ext cx="7623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幼圆"/>
                <a:ea typeface="幼圆"/>
              </a:rPr>
              <a:t>     </a:t>
            </a:r>
            <a:r>
              <a:rPr b="1" lang="zh-CN" sz="4000" spc="-1" strike="noStrike">
                <a:solidFill>
                  <a:srgbClr val="ff33cc"/>
                </a:solidFill>
                <a:latin typeface="文鼎中特广告体"/>
                <a:ea typeface="文鼎中特广告体"/>
              </a:rPr>
              <a:t>你从本诗中读出了诗人的哪些情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90640" y="350640"/>
            <a:ext cx="36608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66"/>
                </a:solidFill>
                <a:latin typeface="方正粗活意简体"/>
                <a:ea typeface="方正粗活意简体"/>
              </a:rPr>
              <a:t>交 流 归 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1640" y="1607760"/>
            <a:ext cx="40338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方正粗活意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方正粗活意简体"/>
                <a:ea typeface="方正粗活意简体"/>
              </a:rPr>
              <a:t>回味童年的美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方正粗活意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方正粗活意简体"/>
                <a:ea typeface="方正粗活意简体"/>
              </a:rPr>
              <a:t>即将告别童年的依    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Font typeface="方正粗活意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方正粗活意简体"/>
                <a:ea typeface="方正粗活意简体"/>
              </a:rPr>
              <a:t>感受成长的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350640"/>
            <a:ext cx="4840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方正综艺简体"/>
              </a:rPr>
              <a:t>感 受 意 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5600" y="1608120"/>
            <a:ext cx="434484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诗歌善于运用比喻、比拟、夸张的手法营造优美的意境，想一想本诗运用了怎样的修辞手法来形容美好的童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3840" y="680760"/>
            <a:ext cx="1452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华文新魏"/>
              </a:rPr>
              <a:t>品  味  语  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8560" y="980640"/>
            <a:ext cx="56768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宋简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宋简"/>
              </a:rPr>
              <a:t>挡在前面的是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宋简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宋简"/>
              </a:rPr>
              <a:t>踏在脚下的也是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宋简"/>
              </a:rPr>
              <a:t>迷路的只是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宋简"/>
              </a:rPr>
              <a:t>清醒的总是脚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理 解 与 感 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55422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如果前面是一片海 ，那就做一条乘风破浪的船”诗句中，“海”指代什么</a:t>
            </a:r>
            <a:r>
              <a:rPr b="1" lang="zh-CN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?“</a:t>
            </a:r>
            <a:r>
              <a:rPr b="1" lang="zh-CN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船”指代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海”指广阔的生活，“船”指驾驭生活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403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摘下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片树叶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珍藏起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不老的春天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诗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从此常绿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到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永远永远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童年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遗憾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落的往事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缤纷的花瓣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风中飘来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风中飘去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芳香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生命中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弥漫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挡在前面的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山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踏在脚下的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是山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迷路的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是眼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清醒的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是脚板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留住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童年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留住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份勇气和果敢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面是一片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</a:t>
            </a:r>
            <a:r>
              <a:rPr b="1" lang="zh-CN" sz="2000" spc="-1" strike="noStrike">
                <a:solidFill>
                  <a:srgbClr val="ff00ff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做一条</a:t>
            </a:r>
            <a:r>
              <a:rPr b="1" lang="zh-CN" sz="2000" spc="-1" strike="noStrike">
                <a:solidFill>
                  <a:srgbClr val="ff33cc"/>
                </a:solidFill>
                <a:latin typeface="华文新魏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风破浪的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55640" y="836640"/>
            <a:ext cx="72723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现当代诗歌朗诵交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/>
  <dc:language>en-US</dc:language>
  <cp:lastModifiedBy>USER</cp:lastModifiedBy>
  <dcterms:modified xsi:type="dcterms:W3CDTF">2015-08-04T23:05:41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