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8A8-B331-4280-8197-BF8124EF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7A6-EC0A-4691-B0D3-A578A63D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52C-AC5C-4665-86BD-71976BB5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B6D-2235-40B0-8ACA-24C7A1BA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330-233C-41CF-8C03-381B41CD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32F-C245-4EEC-9E6A-DED0ADE0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DD7-7AFA-4FA6-AAE9-96E9DAD8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CB8-1DCF-4C83-8F12-48E8FB20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E3D-0AEE-4014-8837-460F2EE0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9A8-8B64-40DB-815C-54AD621A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687-D23A-4641-A5AA-61F30444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62B-F532-4692-BB56-B73DBCFB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982A-14ED-4E58-9229-CECB53A188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src.baidu.com/baike/pic/item/cebd001741d89b174a90a7d6.jp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62160" y="3033720"/>
            <a:ext cx="2973240" cy="8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钱万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2340000" y="1989000"/>
            <a:ext cx="431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solidFill>
                  <a:srgbClr val="ffff00"/>
                </a:solidFill>
                <a:latin typeface="华文新魏"/>
              </a:rPr>
              <a:t>留住童年</a:t>
            </a:r>
            <a:endParaRPr b="1" lang="en-US" sz="3000" spc="1" strike="noStrike">
              <a:ln w="0">
                <a:noFill/>
              </a:ln>
              <a:solidFill>
                <a:srgbClr val="ffff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5"/>
          <p:cNvSpPr txBox="1"/>
          <p:nvPr/>
        </p:nvSpPr>
        <p:spPr>
          <a:xfrm>
            <a:off x="324000" y="333360"/>
            <a:ext cx="237636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第二部分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755640" y="1484280"/>
            <a:ext cx="669600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挡在前面的山”中的“山”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28720" y="2565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我们在成长的过程中遇到的各种困难和挑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55640" y="3573360"/>
            <a:ext cx="669600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踏在脚下的也是山”的含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55640" y="43657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尽管我们会遇到困难与迷茫，但我们只要勇敢地去迎接生活的挑战，“山”就能被你征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5"/>
          <p:cNvSpPr txBox="1"/>
          <p:nvPr/>
        </p:nvSpPr>
        <p:spPr>
          <a:xfrm>
            <a:off x="324000" y="333360"/>
            <a:ext cx="237636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第二部分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900000" y="1859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诗人借“脚板”和“船”这两个意向表达了怎样的情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863640" y="3645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未来有时会迷茫，会受到种种诱惑，但我们只要带着“一份勇气和果敢”，勇敢地迎接生活的挑战。迈出双脚，扬帆远航，山总会踏在脚下，海总会留在身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5"/>
          <p:cNvSpPr txBox="1"/>
          <p:nvPr/>
        </p:nvSpPr>
        <p:spPr>
          <a:xfrm>
            <a:off x="3132000" y="692280"/>
            <a:ext cx="309744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5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表达交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403280" y="1989000"/>
            <a:ext cx="6337440" cy="15562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看了课题，你想留住童年吗，你觉得你的童年又是怎样的呢？（请用比喻句的句式来形容，不少于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40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5"/>
          <p:cNvSpPr txBox="1"/>
          <p:nvPr/>
        </p:nvSpPr>
        <p:spPr>
          <a:xfrm>
            <a:off x="3006720" y="777960"/>
            <a:ext cx="32353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主旨归纳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258920" y="213372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留住童年，是诗人自己的成长体会，更是诗人送给少年朋友的赠言，表达了人们对童年的留恋。童年充满幻想，长大后，就会逐渐感到人生旅途的漫长与艰难。正因为如此，走上人生之路，走好人生之路，为了乘上“一条乘风破浪的船”，驰向理想的彼岸，正需要“一份勇气和果敢”，而这份勇气和果敢，则来自没有遗憾的童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1042920" y="1989000"/>
            <a:ext cx="68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留住童年的勇气和果敢，少年就可以成为“一条乘风破浪的船”驶向理想的彼岸。这样的勇气和豪情与“诗仙”李白的两句诗何其相似呀！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①_______,____②___________”,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自李白的《    ③      》一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68360" y="50958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乘风破浪会有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直挂云帆济沧海。   ③《行路难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2627280" y="692280"/>
            <a:ext cx="388944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阅读延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3"/>
          <p:cNvSpPr/>
          <p:nvPr/>
        </p:nvSpPr>
        <p:spPr>
          <a:xfrm>
            <a:off x="2919600" y="53755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900000" y="2417040"/>
            <a:ext cx="36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雨洒在脸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节月洒在脸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天已成为过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草伸出耳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也着上了新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是梦幻的季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头也想发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惜它缺少热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永不开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4427640" y="241740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雨中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不需要雨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雨滴轻轻拍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至润到心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里也有一颗种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的名字叫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待到春雨过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会与小草同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27"/>
          <p:cNvSpPr txBox="1"/>
          <p:nvPr/>
        </p:nvSpPr>
        <p:spPr>
          <a:xfrm>
            <a:off x="2484360" y="836640"/>
            <a:ext cx="381636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春雨洒在脸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5076720" y="1700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钱万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1547640" y="2075040"/>
            <a:ext cx="60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简隶书"/>
                <a:ea typeface="微软简隶书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钱万成，当代诗人，儿童文学作家。其诗歌作品有《留住童年》、《同学》《妈妈》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2556000" y="836640"/>
            <a:ext cx="36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家简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900000" y="2154240"/>
            <a:ext cx="388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摘下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片树叶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珍藏起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个不老的春天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诗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会从此常绿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直到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永远永远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童年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没有遗憾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失落的往事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缤纷的花瓣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风中飘来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风中飘去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芳香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生命中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弥漫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微软简隶书"/>
                <a:ea typeface="微软简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859280" y="2154240"/>
            <a:ext cx="41054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挡在前面的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山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踏在脚下的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也是山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迷路的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是眼睛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清醒的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是脚板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留住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童年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留住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份勇气和果敢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前面是一片海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就做一条</a:t>
            </a:r>
            <a:r>
              <a:rPr b="1" lang="zh-CN" sz="2400" spc="-1" strike="noStrike">
                <a:solidFill>
                  <a:srgbClr val="ff33cc"/>
                </a:solidFill>
                <a:latin typeface="华文中宋"/>
                <a:ea typeface="华文中宋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乘风破浪的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简隶书"/>
                <a:ea typeface="微软简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2340000" y="549360"/>
            <a:ext cx="431964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留住童年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943280" y="1484280"/>
            <a:ext cx="5257800" cy="5814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这首诗中押韵的字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332000" y="2924280"/>
            <a:ext cx="70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押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n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韵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    远    瓣    漫   山   板    敢    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042920" y="1052640"/>
            <a:ext cx="47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8"/>
          <p:cNvSpPr txBox="1"/>
          <p:nvPr/>
        </p:nvSpPr>
        <p:spPr>
          <a:xfrm>
            <a:off x="2484360" y="692280"/>
            <a:ext cx="3456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阅读芳草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1640" y="1773360"/>
            <a:ext cx="3600360" cy="5814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给文章划分段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971640" y="2860560"/>
            <a:ext cx="7021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节为第一部分，诗人抒写了美好的童年是珍贵的，它将留在一个人的生命中，永远不会失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节为第二部分，交代了未来是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990720" y="1268280"/>
            <a:ext cx="7326360" cy="5814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认为那些诗句很优美？表达了怎样的情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684360" y="476280"/>
            <a:ext cx="2232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第一部分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838080" y="2897280"/>
            <a:ext cx="5399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摘下这片树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珍藏起一个不老的春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826920" y="4653000"/>
            <a:ext cx="78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失落的往事是缤纷的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7"/>
          <p:cNvSpPr/>
          <p:nvPr/>
        </p:nvSpPr>
        <p:spPr>
          <a:xfrm>
            <a:off x="343080" y="1719360"/>
            <a:ext cx="32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赏析第一节中比喻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539640" y="476280"/>
            <a:ext cx="2232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第一部分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2440" y="2644920"/>
            <a:ext cx="818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摘下这片树叶”中的的“树叶”：                                                        运用比喻的手法，把童年具象为珍藏在日记本中的“树叶”，生动形象地写出了童年的美好。因为这片绿叶代表了大自然的春天，代表了生命中的童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85920" y="4797360"/>
            <a:ext cx="793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珍藏起一个不老的春天”中的“春天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用了比喻的修辞手法，生动形象的把童年比作“春天”。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684360" y="1052640"/>
            <a:ext cx="65516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仔细阅读第一节，思考为什么“春天”会不老，而且能被“珍藏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50960" y="2852640"/>
            <a:ext cx="75661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因为春天是四季美好的开端，童心是永存在心中的，童年是永远不会枯萎的记忆，生命的诗篇就会常绿，永远不会老。所以我们会格外的珍惜它，深深的眷恋它，把它珍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914400" y="240192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童年中遇到的挫折、伤感比作缤纷的花瓣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971640" y="3284640"/>
            <a:ext cx="48956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作者如此比喻的目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900000" y="549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童年总是伴随着收获与失落，有些人总是会有些遗憾，而作者为什么说“童年没有遗憾”呢？结合“失落的往事是缤纷的花瓣”这句话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00000" y="39178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把失落的往事比作缤纷的花朵，虽然花瓣飘零，往事失落，但是花落香犹在，事过情还留，我们长大后，这些失落的回忆只有像花儿一样温馨甜蜜，同时也证明了“童年没有遗憾”这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/>
  <dc:language>en-US</dc:language>
  <cp:lastModifiedBy>USER</cp:lastModifiedBy>
  <dcterms:modified xsi:type="dcterms:W3CDTF">2015-08-04T23:05:41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