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B8F-AB86-4697-A0F6-C9EBD7C2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3F0-8FC9-4E3D-88B7-AEAA6AA4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84E-5748-4888-8496-DDA5C3B8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D56-DE82-48F9-AA4F-25F152ED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8208-34AE-4713-9C43-B2311D2D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7346-ECF8-4028-8B89-6669E603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0CCC-6533-4202-ABB0-438F782D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F969-A103-4581-BB6C-576A87A0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60CE-3921-42C6-A79D-183106B0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C581-760C-4A76-9607-AF20649D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E789-ADF3-4995-AE84-B377FC9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AB2-06BB-40BF-BF8B-B2881554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F99B-7E2A-439C-B86C-CC6DD6D4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993B-1845-488C-9C07-4920D45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A34A-09C6-4E09-AAA6-4296F259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4CD2-0356-4D50-87E2-686C8297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412C-B23F-4FC6-B6A8-CE5193AC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AC5-36A8-4A14-BE92-E0EEF412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495-3E62-4810-BA9B-50AE1AAE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A83-B260-486B-B520-BCCAE3EC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E95-11CA-49DF-9FE7-1FD31DEE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A1B-4574-453B-99E7-0DD68854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0BA-6AA1-43E8-8B2E-7EC7A5AE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EB7-BE66-4A14-B9CC-F6A5044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071BD1-25ED-402A-8154-BBE3EEFC6AC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4D083E-9ACA-48BF-B991-2C06361CD11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icture 4"/>
          <p:cNvSpPr/>
          <p:nvPr/>
        </p:nvSpPr>
        <p:spPr>
          <a:xfrm>
            <a:off x="1000080" y="2286000"/>
            <a:ext cx="6500520" cy="36428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981080" y="404640"/>
            <a:ext cx="5105160" cy="863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ObliqueRight"/>
              <a:lightRig dir="t" rig="legacyHarsh3"/>
            </a:scene3d>
            <a:sp3d extrusionH="100000" prstMaterial="legacyMatte">
              <a:extrusionClr>
                <a:srgbClr val="6633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鲁智深倒拔垂杨柳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071880" y="1571760"/>
            <a:ext cx="21333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施耐庵   罗贯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857680" y="6000840"/>
            <a:ext cx="3168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选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水浒传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133360" y="525600"/>
            <a:ext cx="44146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还知道哪些和鲁智深有关的情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1256040" y="2001960"/>
            <a:ext cx="3531600" cy="516240"/>
            <a:chOff x="1256040" y="2001960"/>
            <a:chExt cx="3531600" cy="516240"/>
          </a:xfrm>
        </p:grpSpPr>
        <p:sp>
          <p:nvSpPr>
            <p:cNvPr id="112" name="Line 5"/>
            <p:cNvSpPr/>
            <p:nvPr/>
          </p:nvSpPr>
          <p:spPr>
            <a:xfrm>
              <a:off x="4066920" y="2288880"/>
              <a:ext cx="72072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1256040" y="2001960"/>
              <a:ext cx="18878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鲁提辖拳打镇关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5343840" y="1989000"/>
            <a:ext cx="2396520" cy="516240"/>
            <a:chOff x="5343840" y="1989000"/>
            <a:chExt cx="2396520" cy="516240"/>
          </a:xfrm>
        </p:grpSpPr>
        <p:sp>
          <p:nvSpPr>
            <p:cNvPr id="115" name="Text Box 7"/>
            <p:cNvSpPr/>
            <p:nvPr/>
          </p:nvSpPr>
          <p:spPr>
            <a:xfrm>
              <a:off x="5343840" y="1989000"/>
              <a:ext cx="12477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出家五台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7019640" y="2217600"/>
              <a:ext cx="72072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8"/>
          <p:cNvGrpSpPr/>
          <p:nvPr/>
        </p:nvGrpSpPr>
        <p:grpSpPr>
          <a:xfrm>
            <a:off x="1886040" y="2779560"/>
            <a:ext cx="2253960" cy="516240"/>
            <a:chOff x="1886040" y="2779560"/>
            <a:chExt cx="2253960" cy="516240"/>
          </a:xfrm>
        </p:grpSpPr>
        <p:sp>
          <p:nvSpPr>
            <p:cNvPr id="118" name="Text Box 9"/>
            <p:cNvSpPr/>
            <p:nvPr/>
          </p:nvSpPr>
          <p:spPr>
            <a:xfrm>
              <a:off x="1886040" y="277956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醉打山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3419280" y="3081240"/>
              <a:ext cx="72072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4620960" y="2779560"/>
            <a:ext cx="2543400" cy="516240"/>
            <a:chOff x="4620960" y="2779560"/>
            <a:chExt cx="2543400" cy="516240"/>
          </a:xfrm>
        </p:grpSpPr>
        <p:sp>
          <p:nvSpPr>
            <p:cNvPr id="121" name="Text Box 11"/>
            <p:cNvSpPr/>
            <p:nvPr/>
          </p:nvSpPr>
          <p:spPr>
            <a:xfrm>
              <a:off x="4620960" y="2779560"/>
              <a:ext cx="12477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醉打小霸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6443640" y="3081240"/>
              <a:ext cx="72072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 Box 14"/>
          <p:cNvSpPr/>
          <p:nvPr/>
        </p:nvSpPr>
        <p:spPr>
          <a:xfrm>
            <a:off x="5239440" y="3500280"/>
            <a:ext cx="1341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倒拔垂杨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0"/>
          <p:cNvGrpSpPr/>
          <p:nvPr/>
        </p:nvGrpSpPr>
        <p:grpSpPr>
          <a:xfrm>
            <a:off x="2028240" y="3498840"/>
            <a:ext cx="2543760" cy="516240"/>
            <a:chOff x="2028240" y="3498840"/>
            <a:chExt cx="2543760" cy="516240"/>
          </a:xfrm>
        </p:grpSpPr>
        <p:sp>
          <p:nvSpPr>
            <p:cNvPr id="125" name="Text Box 13"/>
            <p:cNvSpPr/>
            <p:nvPr/>
          </p:nvSpPr>
          <p:spPr>
            <a:xfrm>
              <a:off x="2028240" y="3498840"/>
              <a:ext cx="12477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火烧瓦罐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3850920" y="3801960"/>
              <a:ext cx="72108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95280" y="1628640"/>
            <a:ext cx="86054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通读课文，概括出故事的开端、发展、高潮、结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30840" y="2565360"/>
            <a:ext cx="372600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端：泼皮寻事      发展：技制泼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潮：倒拔杨柳      结局：众泼心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323520" y="409680"/>
            <a:ext cx="5468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熟悉课文、梳理课文脉络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382920" y="549360"/>
            <a:ext cx="522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细读课文，讨论下列问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900000" y="1716120"/>
            <a:ext cx="748800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小说往往运用语言、行动、心理来表现人物的思想性格的发展。请找出这些描写手法并举例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课文主要是介绍鲁智深，为什么穿插了很多描写众泼皮的细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本文是怎样运用环境描写来推动情节、塑造人物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228600" y="-25560"/>
            <a:ext cx="9169200" cy="6883200"/>
          </a:xfrm>
          <a:prstGeom prst="rect">
            <a:avLst/>
          </a:prstGeom>
          <a:ln w="9525">
            <a:noFill/>
          </a:ln>
        </p:spPr>
      </p:pic>
      <p:sp>
        <p:nvSpPr>
          <p:cNvPr id="133" name="TextBox 2"/>
          <p:cNvSpPr/>
          <p:nvPr/>
        </p:nvSpPr>
        <p:spPr>
          <a:xfrm>
            <a:off x="2133720" y="838080"/>
            <a:ext cx="48002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华文隶书"/>
                <a:ea typeface="华文隶书"/>
              </a:rPr>
              <a:t>细读课文，找出有关鲁智深的描写，并分析其性格特点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华文隶书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ffff"/>
                </a:solidFill>
                <a:latin typeface="Calibri"/>
                <a:ea typeface="楷体_GB2312"/>
              </a:rPr>
              <a:t>有关鲁智深的描写，及其性格特点。</a:t>
            </a:r>
            <a:r>
              <a:rPr b="0" lang="en-US" sz="4000" spc="-1" strike="noStrike">
                <a:solidFill>
                  <a:srgbClr val="66ff33"/>
                </a:solidFill>
                <a:latin typeface="Calibri"/>
                <a:ea typeface="楷体_GB2312"/>
              </a:rPr>
              <a:t> 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52640"/>
            <a:ext cx="5257440" cy="53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鲁智深见了，心里早疑忌道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伙人不三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，又不肯前来，莫不要攧洒家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”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智深不等他占身，右脚早起，腾的把李四先踢下粪窖里去。张三恰待走，智深左脚早起，两个泼皮都踢在粪窖里挣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智深相了一相，走到树前，把直裰脱了，用右手向下，把身倒缴着，却把左手拔住下截，把腰一趁，将那株绿杨树带根拔起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智深先居中坐了，指着众人道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那伙鸟人，休要瞒洒家，你等都是什么鸟人，来这里戏弄洒家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”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      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638680" y="1197000"/>
            <a:ext cx="3504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理描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中有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富有心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描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嫉恶如仇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武艺高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描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力大无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语言描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鲁直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458640"/>
            <a:ext cx="854028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简笔式速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10168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鲁智深：嫉恶如仇、力大无比、粗中有细、有心计、武艺高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276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本文通过鲁智深制服大相国寺菜园外二三十个泼皮破落户的故事，表现了鲁智深不惧邪恶、武艺高强、身手不凡、胆大心细的性格特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5"/>
          <p:cNvPicPr/>
          <p:nvPr/>
        </p:nvPicPr>
        <p:blipFill>
          <a:blip r:embed="rId1"/>
          <a:stretch/>
        </p:blipFill>
        <p:spPr>
          <a:xfrm>
            <a:off x="0" y="3048120"/>
            <a:ext cx="9143640" cy="3809520"/>
          </a:xfrm>
          <a:prstGeom prst="rect">
            <a:avLst/>
          </a:prstGeom>
          <a:ln w="9525">
            <a:noFill/>
          </a:ln>
        </p:spPr>
      </p:pic>
      <p:sp>
        <p:nvSpPr>
          <p:cNvPr id="142" name="WordArt 13"/>
          <p:cNvSpPr txBox="1"/>
          <p:nvPr/>
        </p:nvSpPr>
        <p:spPr>
          <a:xfrm>
            <a:off x="3962520" y="228600"/>
            <a:ext cx="1523520" cy="685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ln w="0">
                  <a:noFill/>
                </a:ln>
                <a:solidFill>
                  <a:srgbClr val="0066cc"/>
                </a:solidFill>
                <a:latin typeface="宋体"/>
                <a:ea typeface="宋体"/>
              </a:rPr>
              <a:t>主题</a:t>
            </a:r>
            <a:endParaRPr b="0" lang="en-US" sz="3600" spc="-1" strike="noStrike">
              <a:ln w="0">
                <a:noFill/>
              </a:ln>
              <a:solidFill>
                <a:srgbClr val="0066cc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99" dur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梁山好汉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6960" y="1600200"/>
            <a:ext cx="3558960" cy="44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呼保义－宋 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玉麒麟－卢俊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智多星－吴 用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入云龙－公孙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豹子头－林 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李广－花 荣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旋风－柴 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   者－武 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上蚤－时 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83360" y="1600200"/>
            <a:ext cx="3558960" cy="44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面兽 － 杨 志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行太保－戴 宗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黑旋风 － 李 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九纹龙 － 史 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浪 子 －  燕 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丈青 － 扈三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母大虫 － 顾大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母夜叉 － 孙二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花和尚 － 鲁智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解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拔"/>
          <p:cNvPicPr/>
          <p:nvPr/>
        </p:nvPicPr>
        <p:blipFill>
          <a:blip r:embed="rId1"/>
          <a:srcRect l="0" t="0" r="63" b="4171"/>
          <a:stretch/>
        </p:blipFill>
        <p:spPr>
          <a:xfrm>
            <a:off x="142920" y="142920"/>
            <a:ext cx="4928760" cy="6571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89" name="Text Box 4"/>
          <p:cNvSpPr/>
          <p:nvPr/>
        </p:nvSpPr>
        <p:spPr>
          <a:xfrm>
            <a:off x="5364000" y="1125360"/>
            <a:ext cx="3455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智深相了一相，走到树前，把直掇脱了，用右手向下，把身倒缴着；却把左手拔住上截，把腰只一趁，将那株绿杨树带根拔起。</a:t>
            </a:r>
            <a:r>
              <a:rPr b="0" lang="en-US" sz="3200" spc="-1" strike="noStrike">
                <a:solidFill>
                  <a:srgbClr val="6666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施耐庵和罗贯中"/>
          <p:cNvPicPr/>
          <p:nvPr/>
        </p:nvPicPr>
        <p:blipFill>
          <a:blip r:embed="rId1"/>
          <a:stretch/>
        </p:blipFill>
        <p:spPr>
          <a:xfrm>
            <a:off x="7575480" y="1413000"/>
            <a:ext cx="1533240" cy="4103280"/>
          </a:xfrm>
          <a:prstGeom prst="rect">
            <a:avLst/>
          </a:prstGeom>
          <a:ln w="9525">
            <a:noFill/>
          </a:ln>
        </p:spPr>
      </p:pic>
      <p:sp>
        <p:nvSpPr>
          <p:cNvPr id="91" name="Text Box 5"/>
          <p:cNvSpPr/>
          <p:nvPr/>
        </p:nvSpPr>
        <p:spPr>
          <a:xfrm>
            <a:off x="755640" y="1438200"/>
            <a:ext cx="662436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施耐庵，生平事迹不详，一般认为是元末明初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以来，江苏兴化地区陆续出现一些有关资料，如《施耐庵墓志》、《施耐庵传》等。《墓志》说他生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9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死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7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曾中进士，在钱塘做过两年官，与当道不合，弃官回乡，从事著述。这些材料的真伪问题学术界一直未有定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341720" y="5493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罗贯中画像"/>
          <p:cNvPicPr/>
          <p:nvPr/>
        </p:nvPicPr>
        <p:blipFill>
          <a:blip r:embed="rId2"/>
          <a:stretch/>
        </p:blipFill>
        <p:spPr>
          <a:xfrm>
            <a:off x="3203640" y="189000"/>
            <a:ext cx="763200" cy="107928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11" descr="施耐庵画像"/>
          <p:cNvPicPr/>
          <p:nvPr/>
        </p:nvPicPr>
        <p:blipFill>
          <a:blip r:embed="rId3"/>
          <a:srcRect l="7781" t="0" r="7938" b="0"/>
          <a:stretch/>
        </p:blipFill>
        <p:spPr>
          <a:xfrm>
            <a:off x="3132000" y="189000"/>
            <a:ext cx="791640" cy="112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罗贯中，名本，别号湖海散人。生卒年不详。太原清源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太原市清徐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其祖籍四川成都府，先祖罗仲祥后唐时仕青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今清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后因原籍水灾且路远途遥，落籍太原清源，迁居城西白马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白石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寺沟村。其父罗锦生有六子，贯中行居第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19840" y="446040"/>
            <a:ext cx="15220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明刻本《水浒传》"/>
          <p:cNvPicPr/>
          <p:nvPr/>
        </p:nvPicPr>
        <p:blipFill>
          <a:blip r:embed="rId1"/>
          <a:srcRect l="1049" t="2906" r="2050" b="3107"/>
          <a:stretch/>
        </p:blipFill>
        <p:spPr>
          <a:xfrm>
            <a:off x="971640" y="549360"/>
            <a:ext cx="7703640" cy="5400360"/>
          </a:xfrm>
          <a:prstGeom prst="rect">
            <a:avLst/>
          </a:prstGeom>
          <a:ln w="9525">
            <a:noFill/>
          </a:ln>
        </p:spPr>
      </p:pic>
      <p:sp>
        <p:nvSpPr>
          <p:cNvPr id="98" name="Text Box 6"/>
          <p:cNvSpPr/>
          <p:nvPr/>
        </p:nvSpPr>
        <p:spPr>
          <a:xfrm>
            <a:off x="3635280" y="2205000"/>
            <a:ext cx="52048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0" name="TextBox 2"/>
          <p:cNvSpPr/>
          <p:nvPr/>
        </p:nvSpPr>
        <p:spPr>
          <a:xfrm>
            <a:off x="395280" y="1484280"/>
            <a:ext cx="8497440" cy="249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水浒传》是一部描写北宋末年农民起义的著名长篇古典小说。这部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章回体小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在《宣和遗事》、民间故事及话本的基础上，经过元末明初的施耐庵整理加工，进行再创作而完成的。全书围绕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“官逼民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这一线索展开情节，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回。表现了一群不堪暴政欺压的“好汉”揭杆而起，聚义水泊梁山，直至接受招安致使起义失败的全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《水浒传》以其高度的艺术表现力，生动丰富的文学语言，叙述了许多引人入胜的故事，塑造了众多可爱的个性鲜明的英雄形象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2570040" y="228600"/>
            <a:ext cx="4190760" cy="12189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Triangle">
              <a:avLst>
                <a:gd name="adj" fmla="val 50000"/>
              </a:avLst>
            </a:prstTxWarp>
            <a:noAutofit/>
            <a:scene3d>
              <a:camera prst="legacyObliqueTopLeft"/>
              <a:lightRig dir="r" rig="legacyNormal3"/>
            </a:scene3d>
            <a:sp3d extrusionH="201600" prstMaterial="legacyMatte">
              <a:extrusionClr>
                <a:srgbClr val="0066cc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水浒传》简介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600" y="-7920"/>
            <a:ext cx="9169200" cy="6883200"/>
          </a:xfrm>
          <a:prstGeom prst="rect">
            <a:avLst/>
          </a:prstGeom>
          <a:ln w="9525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3276720" y="1752480"/>
            <a:ext cx="3123720" cy="23619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PerspectiveBottomRight">
                <a:rot lat="0" lon="21239993" rev="0"/>
              </a:camera>
              <a:lightRig dir="l" rig="legacyHarsh3"/>
            </a:scene3d>
            <a:sp3d extrusionH="430200" prstMaterial="legacyMatte">
              <a:extrusionClr>
                <a:srgbClr val="c0c0c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本文背景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1116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19320" y="1738440"/>
            <a:ext cx="7009920" cy="121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5280" y="363600"/>
            <a:ext cx="8353080" cy="88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话说鲁达到五台山落发为僧，智真长老赐 法号智深。后由于鲁智 深两次酒后大闹僧堂，长老又把他推荐到东京相 国寺，投奔智清禅师，为其讨个职事僧做。大相国寺酸枣门外，廨宇后有片菜园，经常被营内军健及门外二十来个破落户侵害 ，纵放羊马。一个老和尚在那里住持，难以管制。于是就让鲁智深 去管这片菜园子。那天，菜园附近的几个破落户泼皮又来偷菜，看见廨门上新挂一道库司榜文，上说：“大相国寺仰委管菜园僧人鲁智深前来住持，自明日为始掌管，并不许闲杂人等入园搅扰。”那几个泼皮看了便去与众破落户商议并设下计策，要寻衅打鲁智深以使鲁智深服输，再任由他们胡作非为。结果会怎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257600" cy="1139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读课文，掌握字词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6771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Calibri"/>
              </a:rPr>
              <a:t>廨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宇  </a:t>
            </a:r>
            <a:r>
              <a:rPr b="1" lang="zh-CN" sz="3200" spc="-1" strike="noStrike">
                <a:solidFill>
                  <a:srgbClr val="66ff33"/>
                </a:solidFill>
                <a:latin typeface="Calibri"/>
              </a:rPr>
              <a:t>兀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那   直</a:t>
            </a:r>
            <a:r>
              <a:rPr b="1" lang="zh-CN" sz="3200" spc="-1" strike="noStrike">
                <a:solidFill>
                  <a:srgbClr val="66ff33"/>
                </a:solidFill>
                <a:latin typeface="Calibri"/>
              </a:rPr>
              <a:t>裰   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    </a:t>
            </a:r>
            <a:r>
              <a:rPr b="1" lang="zh-CN" sz="3200" spc="-1" strike="noStrike">
                <a:solidFill>
                  <a:srgbClr val="66ff33"/>
                </a:solidFill>
                <a:latin typeface="Calibri"/>
              </a:rPr>
              <a:t>秽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   </a:t>
            </a:r>
            <a:r>
              <a:rPr b="1" lang="zh-CN" sz="3200" spc="-1" strike="noStrike">
                <a:solidFill>
                  <a:srgbClr val="66ff33"/>
                </a:solidFill>
                <a:latin typeface="Calibri"/>
              </a:rPr>
              <a:t>攧 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  姓</a:t>
            </a:r>
            <a:r>
              <a:rPr b="1" lang="zh-CN" sz="3200" spc="-1" strike="noStrike">
                <a:solidFill>
                  <a:srgbClr val="66ff33"/>
                </a:solidFill>
                <a:latin typeface="Calibri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iè    wù     duō   nèn   huì    diān    chóng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59"/>
              </a:spcBef>
              <a:buNone/>
              <a:tabLst>
                <a:tab algn="l" pos="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图片1"/>
          <p:cNvPicPr/>
          <p:nvPr/>
        </p:nvPicPr>
        <p:blipFill>
          <a:blip r:embed="rId1"/>
          <a:stretch/>
        </p:blipFill>
        <p:spPr>
          <a:xfrm>
            <a:off x="0" y="3578400"/>
            <a:ext cx="9143640" cy="3279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65" dur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919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09:42:09Z</dcterms:created>
  <dc:creator>Administrator</dc:creator>
  <dc:description/>
  <dc:language>en-US</dc:language>
  <cp:lastModifiedBy>dreamsummit</cp:lastModifiedBy>
  <dcterms:modified xsi:type="dcterms:W3CDTF">2015-07-08T09:47:51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7</vt:r8>
  </property>
</Properties>
</file>