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802-2A20-44DC-B990-E9654AE7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6B9-4C39-4BB5-B317-B544F13B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97B-D000-48CA-95C3-B3E99EF8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703-6CD6-4CAB-857C-AF148CC4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E721-54EC-4B91-955C-E524F264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B7CD-1C24-413F-8A0F-D56A71C3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D502-D5C8-43AA-8E20-9C008B21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E613-860C-42F2-81CD-B39ABDEE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7B52-5DCA-4368-83E5-DA656CAD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F850-4EE9-4533-9438-78BFB30A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0035-F689-4266-9359-BDEBBF06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466-B52B-4370-9AEA-ADB40486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2668-42F5-41AF-80E1-09DEF155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B8A0-EF61-4913-981E-473116C2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DA93-E0DB-4237-A9BB-AB194D82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5DC5-ABD6-4115-9B20-97A3EE39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83D5-72F8-4B8F-BE2A-FD0154B2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454-D712-48D7-A0FD-B62ED487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3C9-3C32-467E-8690-6820BE81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9B1-DB82-4CC6-99E8-0D79ABE6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D65F-F2FE-4E2B-BCC4-410ABBA4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5BCA-2868-437B-9508-B712ABDF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8557-FC29-453E-90B7-37BA6B0B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91D-715A-4419-9EDA-AC62A20A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501B-3E2B-48D1-96DC-B06FC63721F1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193D-296A-4B32-A323-44DBBB8D4D5B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穷人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1194" b="6657"/>
          <a:stretch/>
        </p:blipFill>
        <p:spPr>
          <a:xfrm>
            <a:off x="1219320" y="2057400"/>
            <a:ext cx="71532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主人公何许人也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桑 娜是个 怎样的人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从课文里的哪些描写中可以看出来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默读课文</a:t>
            </a:r>
            <a:r>
              <a:rPr b="0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1-11</a:t>
            </a: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自然段，画出心理描写的句子，从中找出最能体现桑娜从邻居家抱回孩子后的心情的词语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忐忑不安：心神不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52880" y="3352680"/>
            <a:ext cx="373392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桑娜脸色苍白，神情激动。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她忐忑不安地想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他会说什么呢？这是闹着玩的吗？自己的五个孩子已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经够他受的了……是他来啦？……不，还没来……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什么把他们抱过来啊？……他会揍我的，那也活该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我自作自受……嗯，揍我一顿也好。” 　　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门吱嘎一声，仿佛有人进来了，桑娜一惊，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椅子上站起来。 　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不，没有人，上帝，我为什么要这样做？……如今叫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怎么对他说呢……”桑娜沉思着，久久地坐在床前。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  <a:ea typeface="华文新魏"/>
              </a:rPr>
              <a:t>桑娜忐忑不安地想了哪几方面事情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一、他会说什么呢？这是闹着玩的吗？自己的五个孩子已经够他受的了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二、为什么把他们抱过来啊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三、他会揍我的！那也活该，我自作自受……嗯，揍我一顿也好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四、我为什么要这样做？……如今叫我怎么对他说呢？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一、“他会说什么呢？这是闹着玩的吗？自己的五个孩子已经够他受的了……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桑娜为什么会想“自己的五个孩子已经够他受的了”？从课文的那些地方可以看出来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、古老的钟嘶哑地敲了十下、十一下……始终不见丈夫回来。</a:t>
            </a:r>
            <a:r>
              <a:rPr b="0" lang="zh-CN" sz="2800" spc="-1" strike="noStrike">
                <a:solidFill>
                  <a:srgbClr val="cc3300"/>
                </a:solidFill>
                <a:latin typeface="宋体"/>
              </a:rPr>
              <a:t>桑娜沉思着：丈夫不顾惜身体，冒着寒冷和风暴出去打鱼，她自己也从早到晚地干活，可是还只能勉强填饱肚子。孩子们没有鞋穿，不论冬夏都光着脚跑来跑去，吃的是黑面包，菜只有鱼。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不过，感谢上帝，孩子们都还健康，没有什么可抱怨的，桑娜倾听着风暴的声音，“他现在在哪儿？上帝啊，保佑他，救救他，开开恩吧！”她一面自言自语，一面画着十字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685800"/>
            <a:ext cx="3276360" cy="838080"/>
          </a:xfrm>
          <a:prstGeom prst="wedgeRoundRectCallout">
            <a:avLst>
              <a:gd name="adj1" fmla="val -37935"/>
              <a:gd name="adj2" fmla="val 128217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华文新魏"/>
              </a:rPr>
              <a:t>家境艰难，生活贫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桑娜一家生活贫困，那么他们家所住的房子里面是什么样子的呢？从哪些描写中可以看出来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4190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21333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渔夫的妻子桑娜坐在火炉旁补一张破帆。屋外寒风呼啸，汹涌澎湃的海浪拍击着海岸，溅起一阵阵浪花。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海上正起着风暴，外面又黑又冷，这间渔家的小屋里却温暖而舒适。地扫得干干净净，炉子里的火还没有熄，食具在搁板上闪闪发亮。挂着白色帐子的床上，五个孩子正在海风呼啸声中安静地睡着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丈夫清早驾着小船出海，这时候还没有回来。桑娜听着波涛的轰鸣和狂风的怒吼，感到心惊肉跳。 （配乐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环境描写有力地烘托出主人公勤劳能干的品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二、“为什么把他们抱过来啊？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阅读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-7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自然段，想想桑娜为什么把两个孩子抱过来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66880" y="335268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邻居西蒙的情况怎样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邻居西蒙生活困难，是个有两个孩子的寡妇，在一个寒冷的风暴之夜悲惨地死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81080" y="3708360"/>
            <a:ext cx="3429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仿宋"/>
                <a:ea typeface="华文仿宋"/>
              </a:rPr>
              <a:t>列夫</a:t>
            </a:r>
            <a:r>
              <a:rPr b="1" lang="en-US" sz="4400" spc="-1" strike="noStrike">
                <a:solidFill>
                  <a:srgbClr val="0000ff"/>
                </a:solidFill>
                <a:latin typeface="华文仿宋"/>
                <a:ea typeface="华文仿宋"/>
              </a:rPr>
              <a:t>·</a:t>
            </a:r>
            <a:r>
              <a:rPr b="1" lang="zh-CN" sz="4400" spc="-1" strike="noStrike">
                <a:solidFill>
                  <a:srgbClr val="0000ff"/>
                </a:solidFill>
                <a:latin typeface="华文仿宋"/>
                <a:ea typeface="华文仿宋"/>
              </a:rPr>
              <a:t>托尔斯泰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647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1828—1910</a:t>
            </a: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，伟大的</a:t>
            </a:r>
            <a:r>
              <a:rPr b="1" lang="zh-CN" sz="2400" spc="-1" strike="noStrike">
                <a:solidFill>
                  <a:srgbClr val="cc3300"/>
                </a:solidFill>
                <a:latin typeface="华文仿宋"/>
                <a:ea typeface="华文仿宋"/>
              </a:rPr>
              <a:t>俄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华文仿宋"/>
                <a:ea typeface="华文仿宋"/>
              </a:rPr>
              <a:t>作家</a:t>
            </a: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。他出身贵族家庭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但同情被剥削、被压迫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农奴。</a:t>
            </a:r>
            <a:r>
              <a:rPr b="1" lang="en-US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1851</a:t>
            </a: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年参军，不久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开始创作小说《童年》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1856</a:t>
            </a: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年退役后两度出国游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历、考察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代表作：</a:t>
            </a:r>
            <a:r>
              <a:rPr b="1" lang="zh-CN" sz="2400" spc="-1" strike="noStrike">
                <a:solidFill>
                  <a:srgbClr val="cc3300"/>
                </a:solidFill>
                <a:latin typeface="华文仿宋"/>
                <a:ea typeface="华文仿宋"/>
              </a:rPr>
              <a:t>《安娜</a:t>
            </a:r>
            <a:r>
              <a:rPr b="1" lang="en-US" sz="2400" spc="-1" strike="noStrike">
                <a:solidFill>
                  <a:srgbClr val="cc3300"/>
                </a:solidFill>
                <a:latin typeface="华文仿宋"/>
                <a:ea typeface="华文仿宋"/>
              </a:rPr>
              <a:t>·</a:t>
            </a:r>
            <a:r>
              <a:rPr b="1" lang="zh-CN" sz="2400" spc="-1" strike="noStrike">
                <a:solidFill>
                  <a:srgbClr val="cc3300"/>
                </a:solidFill>
                <a:latin typeface="华文仿宋"/>
                <a:ea typeface="华文仿宋"/>
              </a:rPr>
              <a:t>卡列妮娜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华文仿宋"/>
                <a:ea typeface="华文仿宋"/>
              </a:rPr>
              <a:t>《战争与和平》《复活》</a:t>
            </a:r>
            <a:r>
              <a:rPr b="1" lang="en-US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1464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对于西蒙的状况桑娜是怎么想的？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从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-7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自然段里找描写桑娜心理活动的句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没有一个人照顾她啊！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寡妇的日子真困难啊！”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桑娜站在门口想，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“孩子虽然不算多——只有两个，可是全靠她一个人张罗，如今又加上病。唉，寡妇的日子真难过啊，进去看看吧！”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对女邻居非常关心、同情，是个心地善良的劳动妇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  <a:ea typeface="华文新魏"/>
              </a:rPr>
              <a:t>二、“为什么把他们抱过来啊？”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西蒙悲惨的遭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桑娜的心地善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095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三、他会揍我的！那也活该，我自作自受……嗯，揍我一顿也好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桑娜在收养小孩这件事上动摇过吗？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8-9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自然段，哪句话可以看出来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甘愿自己受苦也要帮助他人的高尚心灵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她的心跳得很厉害，自己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知道为什么要这样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是她觉得非这样做不可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。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仿宋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这样做”是指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仿宋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收养西蒙的两个孤儿，把他们抚养成人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仿宋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面对西蒙的悲惨遭遇，桑娜本能地把两个孤儿抱回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自己的家。“不知道为什么要这样做”与“但是觉得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非这样做不可”看似矛盾，实际上反映了桑娜同情穷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人、关心穷人的善良品质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仿宋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收养孩子的想法坚定不动摇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桑娜脸色苍白，神情激动。她忐忑不安地想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他会说什么呢？这是闹着玩的吗？自己的五个孩子已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经够他受的了……是他来啦？……不，还没来……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什么把他们抱过来啊？……他会揍我的，那也活该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我自作自受……嗯，揍我一顿也好！”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通过桑娜的心理活动，读者能充分感受到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生活给桑娜带来的压力，感受到桑娜热爱丈夫，同情孤儿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宁可自己吃苦也要帮助别人的美好心灵。　　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宁可自己吃苦也要帮助别人的桑娜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环境描写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有力地烘托出桑娜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勤劳能干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的品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关于桑娜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心理活动的描写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真实地展现了桑娜的内心世界，刻画了一个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充满爱心、乐于助人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的穷苦劳动妇女的形象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四、“我为什么要这样做？……如今叫我怎么对他说呢？……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有感情地朗读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2-27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自然段。（配乐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桑娜和渔夫的对话中，出现了两次沉默，请找出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0.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两个人沉默了一阵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3. 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我也不知道她什么时候死的，大概是昨天，唉，她死得好惨哪，两个孩子都在她身边，睡着了。他们那么小……一个还不会说话，另一个刚会爬……”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桑娜沉默了。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第一次沉默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0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两个人沉默了一阵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桑娜为什么沉默？渔夫为什么也沉默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桑娜沉默是因为不知怎么向丈夫说出抱回孩子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事，她正在盘算着从何说起，这种沉默正掩盖着桑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内心的激烈斗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渔夫沉默是因为一方面还沉浸在与海浪搏斗的恐怖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中，心里尚存余悸，另一方面生活艰难，压力沉重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看到桑娜沉默了，所以也不说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第二次沉默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3. 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我也不知道她什么时候死的，大概是昨天，唉，她死得好惨哪，两个孩子都在她身边，睡着了。他们那么小……一个还不会说话，另一个刚会爬……”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桑娜沉默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此时的沉默带着试探性，想看看丈夫对这件事有什么反映，等待丈夫做决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列夫</a:t>
            </a:r>
            <a:r>
              <a:rPr b="1" lang="en-US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托尔斯泰的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品气势磅礴，场面广阔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人物众多，</a:t>
            </a:r>
            <a:r>
              <a:rPr b="1" lang="zh-CN" sz="2800" spc="-1" strike="noStrike">
                <a:solidFill>
                  <a:srgbClr val="cc3300"/>
                </a:solidFill>
                <a:latin typeface="华文仿宋"/>
                <a:ea typeface="华文仿宋"/>
              </a:rPr>
              <a:t>心理描写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仿宋"/>
                <a:ea typeface="华文仿宋"/>
              </a:rPr>
              <a:t>真、细腻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，语言质朴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炼，在世界文学史上有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巨大的影响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6576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4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渔夫皱起眉，他的脸色变得严肃，忧虑。“恩，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个问题”他搔搔后脑勺说：“恩，你看怎么办？得把他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们抱来，同死人呆在一起怎么行？哦，我们，我们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能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熬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过去的，快去，别等他们醒来。” 但桑娜坐着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动不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这一段对渔夫进行了什么描写？从“熬”字你读到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什么？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动作、神态、语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这段细致地描写了渔夫做出决定前后的过程，“熬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字可以感受到渔夫为了抚养邻居的孩子准备过更艰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的日子，准备付出更多的辛劳，可见渔夫和桑娜一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有着一颗甘愿自己受苦也要帮助他人的高尚心灵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谁是真正的穷人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穷得只剩下了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贫穷的人往往富于仁慈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人性的光辉：真、善、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0" r="1257" b="7378"/>
          <a:stretch/>
        </p:blipFill>
        <p:spPr>
          <a:xfrm>
            <a:off x="4800600" y="2286000"/>
            <a:ext cx="39877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续写穷人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、把握主要人物的性格特点和思想品质，要前后一致。（桑娜和渔夫心地善良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二、掌握故事情节的主线，要前后连贯。（桑拿的心理，收养孤儿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三、想象要合情合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通过心理活动表现人物的品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这篇课文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注重通过人物心理活动的描写来表现人物的思想品质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如：桑娜抱回孩子后的一段心理描写，深刻地反映了桑娜矛盾的心理状态，表现了她宁愿自己承担痛苦和劳累，也要把西蒙的两个孩子抚养长大的朴实、善良的美好品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中心思想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课文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记叙了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个寒风呼啸的夜晚，桑娜与渔夫主动收养已故邻居西蒙的两个孤儿的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故事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真实地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反映了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沙俄专制制度下渔民的悲惨生活，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赞美了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桑娜和渔夫宁可自己吃苦也要帮助别人的美好品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905120" y="13716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呼啸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抱怨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自作自受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魁梧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倒霉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忧虑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 rot="5400000">
            <a:off x="-343080" y="278136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词语理解</a:t>
            </a:r>
            <a:endParaRPr b="1" i="1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1371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文中形容海风发出高而长的声音，说明寒风猛烈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2362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埋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2971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自己做错了事，自己承受不好的结果。受：承受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40384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身体）强壮高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4572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遇事不利；遭遇不好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5105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忧愁担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182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qiá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qiǎ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ià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ià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u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14600" y="1980720"/>
            <a:ext cx="6330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身强体壮    强弩之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勉强   强迫  强词夺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倔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睡觉 午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感觉 觉悟 发觉 察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419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ū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铺盖 铺垫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ù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稻草铺  床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ó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佛教  佛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ú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仿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é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缝补 缝合 裁缝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èng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缝隙 裂缝  天衣无缝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见缝插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近义词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舒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顾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抱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忧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心惊肉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舒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怜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埋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焦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胆战心惊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反义词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潮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严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寒风呼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干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活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暖风习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388800"/>
            <a:ext cx="838224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省略号的作用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表明心理活动的时断时续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她忐忑不安地想：“他会说什么呢？这是闹着玩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吗？自己的五个孩子已经够他受的了……是他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啦？……不，还没来！……为什么把他们抱过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啊？……他会揍我的！那也活该，我自作自受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嗯，揍我一顿也好！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表示省略递增的次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古老的钟发哑地敲了十下，十一下……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表示语意的跳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谢谢上帝，总算活着回来啦。……我不在，你在家里做些什么呢？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表示说话结巴，欲言又止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8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我？”桑娜脸色发白，说：“我嘛……缝缝补补……风吼得这么凶，真叫人害怕，我可替你担心呢。” 　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743200" y="2514600"/>
            <a:ext cx="40957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Bye-bye</a:t>
            </a: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！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华文新魏"/>
              </a:rPr>
              <a:t>写作背景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《穷人》一文的写作年代，正是俄国历史上阶级矛盾空前激化的时期。封建农奴制一步步地崩溃瓦解，广大人民对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沙皇专制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的反抗斗争日趋高涨，逐渐形成了俄国资产阶级民主革命的高潮。在这个时期，贵族、资产阶级吮吸人民的血汗，生活奢华而道德堕落；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广大劳动人民生活极端贫困，然而他们的道德情操却高尚淳朴。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大声朗读课文，标出不会读的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想一想，课文讲了一件什么事？尝试用自己的话复述一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38480" y="3505320"/>
            <a:ext cx="38862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010280" cy="2121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19320" y="1523880"/>
            <a:ext cx="1447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g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搁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1523880"/>
            <a:ext cx="99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tiá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填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1523880"/>
            <a:ext cx="1066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uà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抱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523880"/>
            <a:ext cx="1143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iā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掀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52388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āi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唉声叹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1523880"/>
            <a:ext cx="914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guǒ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包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4724280"/>
            <a:ext cx="198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kuí   w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魁    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472428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lí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湿淋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4724280"/>
            <a:ext cx="1143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s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撕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724280"/>
            <a:ext cx="1067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méi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倒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724280"/>
            <a:ext cx="99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l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忧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6120" y="1371600"/>
            <a:ext cx="459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304920"/>
            <a:ext cx="2743200" cy="838080"/>
          </a:xfrm>
          <a:prstGeom prst="cloudCallout">
            <a:avLst>
              <a:gd name="adj1" fmla="val -28643"/>
              <a:gd name="adj2" fmla="val 106439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华文新魏"/>
              </a:rPr>
              <a:t>都会了吗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572"/>
                </a:solidFill>
                <a:latin typeface="Arial"/>
                <a:ea typeface="华文新魏"/>
              </a:rPr>
              <a:t>一个怎样的故事？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课文记叙了在一个寒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风呼啸的夜晚</a:t>
            </a:r>
            <a:r>
              <a:rPr b="0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桑娜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渔夫主动收养已故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居西蒙的两个孤儿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故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040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段落大意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一（</a:t>
            </a:r>
            <a:r>
              <a:rPr b="0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1-2</a:t>
            </a:r>
            <a:r>
              <a:rPr b="0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）桑娜焦急地等待出海捕鱼的丈夫归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二（</a:t>
            </a:r>
            <a:r>
              <a:rPr b="0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3-11</a:t>
            </a:r>
            <a:r>
              <a:rPr b="0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）桑娜去探望邻居西蒙，发现她已经死了，就抱回了两个遗孤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三（</a:t>
            </a:r>
            <a:r>
              <a:rPr b="0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12-27</a:t>
            </a:r>
            <a:r>
              <a:rPr b="0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）渔夫出海归来，知道西蒙死了，主动提出抱回孩子抚养，两人的想法不谋而合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06:18:56Z</dcterms:created>
  <dc:creator>Administrator</dc:creator>
  <dc:description/>
  <dc:language>en-US</dc:language>
  <cp:lastModifiedBy/>
  <dcterms:modified xsi:type="dcterms:W3CDTF">2015-07-23T06:22:23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