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082-E144-4BF9-A434-F3D9CD6E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82A-2A2C-4183-BD71-9147954F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E7-A324-4D26-9A3B-8102CC6C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13D-F5A0-401D-8DA8-AA03565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954F-69F7-4C3E-9E9E-E7B7CC0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2633-CEA5-4575-867B-5C12EED8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AA20-EF60-4EB0-B9F2-6780DD5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E2A-6A66-4678-B631-4C749C2F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570-2AF4-4498-B976-40C8B11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928-5D55-4BB2-9D6D-2174289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52A-7C28-4089-ADFA-7001906A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BA-B58C-4426-B88B-60E91BB3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8182-2E6B-492D-9051-F62994C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6A0-C777-481D-86B7-1F580B0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60FB-463E-4C7B-8D79-D7E64C38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8CB-A552-457D-A408-14B66F53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C6BE-3E5A-4669-92B6-D6D757A1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2C8-9254-4565-B601-82D7A6FD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527-E4E3-4C50-B07B-A80B0D4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620-952F-4393-A688-35EBE450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82D-A70F-4769-894F-EB14266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523-C177-4BAB-9FE7-DE67384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1D6-3A76-4ACC-84FE-B123754B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FD1-A0AB-4ADE-82A0-EDD2870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835-099D-496F-AAE2-1D46750D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E3D-1EF8-44B6-9484-E30FAB4F3B8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Picture 4" descr="U_4434~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43200" y="1522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穷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3352320"/>
            <a:ext cx="71168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　　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孩子们没有鞋穿，不论冬夏都光着脚跑来跑去；吃的是黑面包，菜只有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23880" y="16765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２、从“吃、穿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丈夫清早驾着小船出海，这时候还没有回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丈夫不顾惜身体，冒着寒冷和风暴出去打鱼，她自己也从早到晚地干活，还只能勉强填饱肚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糟糕，真糟糕！什么也没有打到，还把网给撕破了。倒霉，倒霉！天气可真厉害！我简直记不起几时有过这样的夜晚了，还谈得上什么打鱼！谢谢上帝，总算活着回来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990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３、从“桑娜和渔夫的忙碌”看出“穷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36720" y="2133360"/>
            <a:ext cx="782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屋外寒风呼啸，汹涌澎湃的海浪拍击着海岸，溅起一阵阵浪花。海上正起着风暴，外面又黑又冷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桑娜听着波涛的轰鸣和狂风的怒吼，感到心惊肉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海面上什么也看不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219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４、从“天气的恶劣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pic_27067202"/>
          <p:cNvPicPr/>
          <p:nvPr/>
        </p:nvPicPr>
        <p:blipFill>
          <a:blip r:embed="rId1"/>
          <a:stretch/>
        </p:blipFill>
        <p:spPr>
          <a:xfrm>
            <a:off x="6553080" y="4114800"/>
            <a:ext cx="22860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1066680" y="1523880"/>
            <a:ext cx="7391520" cy="2667240"/>
            <a:chOff x="1066680" y="1523880"/>
            <a:chExt cx="7391520" cy="2667240"/>
          </a:xfrm>
        </p:grpSpPr>
        <p:sp>
          <p:nvSpPr>
            <p:cNvPr id="115" name="AutoShape 7"/>
            <p:cNvSpPr/>
            <p:nvPr/>
          </p:nvSpPr>
          <p:spPr>
            <a:xfrm>
              <a:off x="1066680" y="1523880"/>
              <a:ext cx="7391520" cy="2667240"/>
            </a:xfrm>
            <a:prstGeom prst="wedgeEllipseCallout">
              <a:avLst>
                <a:gd name="adj1" fmla="val 38143"/>
                <a:gd name="adj2" fmla="val 46486"/>
              </a:avLst>
            </a:prstGeom>
            <a:solidFill>
              <a:srgbClr val="cc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1600200" y="2057400"/>
              <a:ext cx="6400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　　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有人说这篇课文中的“穷人”桑娜和渔夫其实并不“穷”，其实他们很“富有”。你支持这种观点吗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因为他们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善良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所以说他们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富有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413000" y="2962080"/>
            <a:ext cx="6721200" cy="27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38080" y="1752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夫妻俩不顾生活艰难收养孤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371600" y="28195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课文中人物的对话和心理活动描写细腻，让我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真正走进穷人的内心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来体会它们与桑娜和渔夫的</a:t>
            </a:r>
            <a:r>
              <a:rPr b="1" lang="zh-CN" sz="3600" spc="-1" strike="noStrike">
                <a:solidFill>
                  <a:srgbClr val="00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富有</a:t>
            </a:r>
            <a:r>
              <a:rPr b="1" lang="zh-CN" sz="3600" spc="-1" strike="noStrike">
                <a:solidFill>
                  <a:srgbClr val="00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有什么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22380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这样做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指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不知道为什么要这样做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但是觉得非这样做不可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看似矛盾，实际上反映了桑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的善良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她的心跳得很厉害，自己也不知道为什么要这样做，但是觉得非这样做不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  ②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她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忐忑不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地想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会说什么呢？这是闹着玩的吗？自己的五个孩子已经够他受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他来啦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，还没来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什么把他们抱过来啊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会揍我的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也活该，我自作自受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嗯，揍我一顿也好！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6782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　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省略号的连续运用，表明桑娜当时心理活动的时断时续，逼真地写出了桑娜不安的心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57200" y="1523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华文中宋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渔夫皱起眉，他的脸变得严肃、忧虑。“嗯，是个问题！”他搔搔后脑勺说，“嗯，你看怎么办？得把他们抱来，同死人呆在一起怎么行！哦，我们，我们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总能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过去的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快去！别等他们醒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q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7010280" y="26668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黑体"/>
              </a:rPr>
              <a:t>桑娜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90720" y="35053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黑体"/>
              </a:rPr>
              <a:t>渔夫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176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丈夫的理解，使桑娜沉浸在激动、兴奋和快慰中，这“一动不动”的动作恰如其分地表达了她当时的心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45720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华文仿宋"/>
              </a:rPr>
              <a:t>④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但桑娜坐着一动不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怎么啦？不愿意吗？你怎么啦，桑娜？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瞧，他们在这里啦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桑娜拉开了帐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b49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gaoxia8197200651213493812833"/>
          <p:cNvPicPr/>
          <p:nvPr/>
        </p:nvPicPr>
        <p:blipFill>
          <a:blip r:embed="rId2"/>
          <a:stretch/>
        </p:blipFill>
        <p:spPr>
          <a:xfrm>
            <a:off x="380880" y="1066680"/>
            <a:ext cx="2210040" cy="2122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35812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因为：桑娜和渔夫的勤劳、善良、淳朴、富于同情心、宁可自己吃苦也要帮助别人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2590920" y="19051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他们是最“富有”的人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34" name="Picture 11" descr="Gif0405_071"/>
          <p:cNvPicPr/>
          <p:nvPr/>
        </p:nvPicPr>
        <p:blipFill>
          <a:blip r:embed="rId3"/>
          <a:stretch/>
        </p:blipFill>
        <p:spPr>
          <a:xfrm>
            <a:off x="6781680" y="5181480"/>
            <a:ext cx="2019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360" y="3657600"/>
            <a:ext cx="67467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桑娜告诉丈夫自己已经把孩子抱回家后，课文就戛然而止了。孩子的命运会怎样呢？桑娜与渔夫又会带领孩子怎样渡过一个又一个的难关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828800" y="1371600"/>
            <a:ext cx="6705360" cy="2057400"/>
            <a:chOff x="1828800" y="1371600"/>
            <a:chExt cx="6705360" cy="2057400"/>
          </a:xfrm>
        </p:grpSpPr>
        <p:pic>
          <p:nvPicPr>
            <p:cNvPr id="137" name="Picture 6" descr="qr"/>
            <p:cNvPicPr/>
            <p:nvPr/>
          </p:nvPicPr>
          <p:blipFill>
            <a:blip r:embed="rId1"/>
            <a:stretch/>
          </p:blipFill>
          <p:spPr>
            <a:xfrm>
              <a:off x="5867280" y="1371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/>
            <p:cNvSpPr/>
            <p:nvPr/>
          </p:nvSpPr>
          <p:spPr>
            <a:xfrm>
              <a:off x="1828800" y="1676520"/>
              <a:ext cx="350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课后小练笔：续写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《</a:t>
              </a: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穷人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》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2840" y="510552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列夫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托尔斯泰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(1828—1910)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伟大的俄国作家。他出身贵族家庭，早年接受典型的贵族教育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参军，不久开始创作小说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童年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63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起，用六年时间写成巨著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战争与和平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后来又写成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安娜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卡列尼娜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复活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等著名作品。他的作品气势磅礴，场面广阔，人物众多，心理描写逼真、细腻，语言质朴洗炼，在世界文学史上有着巨大的影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200601120519_573370"/>
          <p:cNvPicPr/>
          <p:nvPr/>
        </p:nvPicPr>
        <p:blipFill>
          <a:blip r:embed="rId1"/>
          <a:stretch/>
        </p:blipFill>
        <p:spPr>
          <a:xfrm>
            <a:off x="7391520" y="4495680"/>
            <a:ext cx="14475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06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词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抱怨   魁梧   忧虑   湿淋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呼啸   嘶哑   蜷缩   黧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汹涌澎湃  心惊肉跳  忐忑不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2520" y="12193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速读课文，</a:t>
            </a:r>
            <a:br>
              <a:rPr sz="4000"/>
            </a:b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复述故事内容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9280" y="3618000"/>
            <a:ext cx="608832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课文记叙了在一个寒风呼啸的夜晚</a:t>
            </a:r>
            <a:r>
              <a:rPr b="1" lang="en-US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桑娜与渔夫主动收养已故邻居西蒙的两个孤儿的故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4" descr="qr"/>
          <p:cNvPicPr/>
          <p:nvPr/>
        </p:nvPicPr>
        <p:blipFill>
          <a:blip r:embed="rId1"/>
          <a:stretch/>
        </p:blipFill>
        <p:spPr>
          <a:xfrm>
            <a:off x="533520" y="129528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905120" y="1752480"/>
            <a:ext cx="604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想一想，课文分几个部分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71640" y="692280"/>
            <a:ext cx="727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一段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节）：讲桑娜在海上起风暴的夜晚，焦急等待着出海捕鱼的丈夫归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00000" y="2637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二段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—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节）：讲桑娜看望生病的邻居西蒙，发现西蒙病死，便把她的两个孩子抱回自己家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826920" y="4653000"/>
            <a:ext cx="70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三段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—2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节）：讲渔夫出海归来，听说西蒙死了，主动提出把西蒙的孩子抱过来抚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课文中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人”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 指的是谁，他们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”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体现在哪些地方？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划出能说明他们贫穷的句子，想想这些句子是从哪些方面来写“穷”的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762120" y="914400"/>
            <a:ext cx="6705000" cy="1371600"/>
            <a:chOff x="762120" y="914400"/>
            <a:chExt cx="6705000" cy="1371600"/>
          </a:xfrm>
        </p:grpSpPr>
        <p:sp>
          <p:nvSpPr>
            <p:cNvPr id="103" name="WordArt 4"/>
            <p:cNvSpPr txBox="1"/>
            <p:nvPr/>
          </p:nvSpPr>
          <p:spPr>
            <a:xfrm>
              <a:off x="2895480" y="914400"/>
              <a:ext cx="457164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黑体"/>
                </a:rPr>
                <a:t>理解课文内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104" name="Picture 5" descr="063ck"/>
            <p:cNvPicPr/>
            <p:nvPr/>
          </p:nvPicPr>
          <p:blipFill>
            <a:blip r:embed="rId1"/>
            <a:stretch/>
          </p:blipFill>
          <p:spPr>
            <a:xfrm>
              <a:off x="762120" y="914400"/>
              <a:ext cx="144756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885680" y="3551040"/>
            <a:ext cx="561636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古老的钟嘶哑地敲了十下，十一下</a:t>
            </a:r>
            <a:r>
              <a:rPr b="1" lang="en-US" sz="3600" spc="-1" strike="noStrike">
                <a:solidFill>
                  <a:srgbClr val="ff00ff"/>
                </a:solidFill>
                <a:latin typeface="华文仿宋"/>
                <a:ea typeface="华文仿宋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20574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１、从“屋内装饰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6T09:15:29Z</dcterms:modified>
  <cp:revision>2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