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2.png" ContentType="image/png"/>
  <Override PartName="/ppt/media/image24.jpeg" ContentType="image/jpeg"/>
  <Override PartName="/ppt/media/image7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1.wmf" ContentType="image/x-wmf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9AC8-E59B-48AE-B146-F8D8E3D2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266A-FDFE-459B-9127-F067EB25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DEB-D2F4-4C1C-A4E9-B46EF486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0B0B-FACB-487D-8F9D-3A260F73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8F9-0CB6-4361-87BF-504E5E80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5061-6F75-4106-99E2-8ED6D492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2AB5-C74D-4C10-9C78-8E02A644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E0AD-9E9B-41EF-A5E1-33B330BB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FF3-DEFB-480C-8597-1DD0FEA5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1EFF-97FA-4E51-A85E-502AC94A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9571-BFB4-4004-BCDD-2B9FE316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7F13-2DCC-4F41-833E-DCB39701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28D6-C669-4678-A24A-E6C8699ACD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hyperlink" Target="269,14,&#24187;&#28783;&#29255; 14" TargetMode="External"/><Relationship Id="rId7" Type="http://schemas.openxmlformats.org/officeDocument/2006/relationships/hyperlink" Target="270,18,&#24187;&#28783;&#29255; 18" TargetMode="External"/><Relationship Id="rId8" Type="http://schemas.openxmlformats.org/officeDocument/2006/relationships/hyperlink" Target="268,16,&#24187;&#28783;&#29255; 16" TargetMode="External"/><Relationship Id="rId9" Type="http://schemas.openxmlformats.org/officeDocument/2006/relationships/hyperlink" Target="268,16,&#24187;&#28783;&#29255; 16" TargetMode="External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92000" y="638280"/>
            <a:ext cx="7515360" cy="4186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086280" y="2349360"/>
            <a:ext cx="3587400" cy="1122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三峡之秋</a:t>
            </a:r>
            <a:endParaRPr b="1" lang="en-US" sz="60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357720" y="3159000"/>
            <a:ext cx="285732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隶书"/>
              </a:rPr>
              <a:t>SANXIAZHIQIU</a:t>
            </a:r>
            <a:endParaRPr b="1" lang="en-US" sz="2400" spc="-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隶书"/>
              <a:ea typeface="隶书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736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基础学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640" y="1449360"/>
            <a:ext cx="5112000" cy="63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、会认、会写的字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57360" y="2349360"/>
          <a:ext cx="7921440" cy="4159080"/>
        </p:xfrm>
        <a:graphic>
          <a:graphicData uri="http://schemas.openxmlformats.org/drawingml/2006/table">
            <a:tbl>
              <a:tblPr/>
              <a:tblGrid>
                <a:gridCol w="1321920"/>
                <a:gridCol w="1317600"/>
                <a:gridCol w="1322640"/>
                <a:gridCol w="1319040"/>
                <a:gridCol w="1320840"/>
                <a:gridCol w="131940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701640" y="2421000"/>
            <a:ext cx="14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ò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7360" y="3024360"/>
            <a:ext cx="14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q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7360" y="3743280"/>
            <a:ext cx="13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é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7360" y="4419720"/>
            <a:ext cx="17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7360" y="5138640"/>
            <a:ext cx="14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yù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7360" y="5813280"/>
            <a:ext cx="13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y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41640" y="24843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宋体"/>
              </a:rPr>
              <a:t>柚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41640" y="3068640"/>
            <a:ext cx="9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宋体"/>
              </a:rPr>
              <a:t>陡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62000" y="3789360"/>
            <a:ext cx="17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  <a:ea typeface="宋体"/>
              </a:rPr>
              <a:t>果实累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41640" y="45086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宋体"/>
              </a:rPr>
              <a:t>荡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41640" y="518472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宋体"/>
              </a:rPr>
              <a:t>晕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41640" y="59040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宋体"/>
              </a:rPr>
              <a:t>摇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67000" y="5904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p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5994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瀑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67000" y="2438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x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67000" y="3122640"/>
            <a:ext cx="17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hu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67000" y="37702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x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67000" y="4518000"/>
            <a:ext cx="1395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wǎ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67000" y="5184720"/>
            <a:ext cx="12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m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252900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狭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70280" y="320364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闪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70280" y="387828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呼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459900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宛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07000" y="5273640"/>
            <a:ext cx="12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水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7360" y="2394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jǐ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6640" y="243828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宋体"/>
              </a:rPr>
              <a:t>锦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2360" y="189000"/>
            <a:ext cx="28339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同音字组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000" y="863640"/>
            <a:ext cx="8504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柚（柚子）  曳（摇曳）  累（累赘）  晕（晕船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幼（幼小）  页（书页）  雷（雷声）  侠（侠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360" y="1989000"/>
            <a:ext cx="28339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形近字组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6280" y="2664000"/>
            <a:ext cx="8937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柚（蜜柚） 峭（峭壁） 晕（晕船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抽（抽取） 俏（俏丽） 荤（荤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狭（狭路相逢）              曳（弃甲曳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峡（长江三峡）              拽（生拉硬拽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000" y="4778280"/>
            <a:ext cx="28335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多音字组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800000">
            <a:off x="1421280" y="5498640"/>
            <a:ext cx="144360" cy="1143000"/>
          </a:xfrm>
          <a:custGeom>
            <a:avLst/>
            <a:gdLst>
              <a:gd name="textAreaLeft" fmla="*/ 0 w 144360"/>
              <a:gd name="textAreaRight" fmla="*/ 52200 w 1443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1640" y="531972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果实累累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1640" y="5724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i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累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1640" y="617364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劳累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2000" y="5769000"/>
            <a:ext cx="5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rot="10800000">
            <a:off x="4840920" y="5498640"/>
            <a:ext cx="144360" cy="1143000"/>
          </a:xfrm>
          <a:custGeom>
            <a:avLst/>
            <a:gdLst>
              <a:gd name="textAreaLeft" fmla="*/ 0 w 144360"/>
              <a:gd name="textAreaRight" fmla="*/ 52200 w 1443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1280" y="5319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晕倒、晕头转向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1280" y="617364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晕车、光晕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1640" y="5769000"/>
            <a:ext cx="5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2360" y="189000"/>
            <a:ext cx="418464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、词语的理解和运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000" y="863640"/>
            <a:ext cx="850428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陡峭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『释义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山势等）坡度很大，直上直下的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【词语搭配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势陡峭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「造句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座陡峭的山峰连羊也上不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坚硬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『释义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又结实又硬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【词语搭配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坚硬的水泥地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「造句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钢筋混泥土工事非常坚硬，一般的炮火是无法摧毁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显露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『释义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现出；表露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【词语搭配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显露头角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「造句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晨，对面的房屋逐渐从晨雾中显露出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闪耀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『释义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闪烁；光彩耀眼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【词语搭配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波光闪耀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「造句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融化的雪水从峭壁断崖上飞泻下来，像千百条闪耀的银链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41280" y="279360"/>
            <a:ext cx="850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消逝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『释义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消失；逝去；看不见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【词语搭配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消失的背影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「造句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鸟儿飞走了，渐渐地消逝在远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360" y="1854360"/>
            <a:ext cx="22050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六、近义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000" y="2529000"/>
            <a:ext cx="8640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陡峭（</a:t>
            </a:r>
            <a:r>
              <a:rPr b="1" lang="en-US" sz="3200" spc="-1" strike="noStrike">
                <a:solidFill>
                  <a:srgbClr val="2b2b81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　显露（</a:t>
            </a:r>
            <a:r>
              <a:rPr b="1" lang="en-US" sz="3200" spc="-1" strike="noStrike">
                <a:solidFill>
                  <a:srgbClr val="2b2b81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闪耀（</a:t>
            </a:r>
            <a:r>
              <a:rPr b="1" lang="zh-CN" sz="3200" spc="-1" strike="noStrike">
                <a:solidFill>
                  <a:srgbClr val="2b2b81"/>
                </a:solidFill>
                <a:latin typeface="楷体_GB2312"/>
                <a:ea typeface="楷体_GB2312"/>
              </a:rPr>
              <a:t>　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跳跃（ 　）  轻缓（ 　） 摇曳（　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2360" y="3968640"/>
            <a:ext cx="22050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七、反义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000" y="464328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陡峭（</a:t>
            </a:r>
            <a:r>
              <a:rPr b="1" lang="en-US" sz="3200" spc="-1" strike="noStrike">
                <a:solidFill>
                  <a:srgbClr val="2b2b81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　显露（</a:t>
            </a:r>
            <a:r>
              <a:rPr b="1" lang="en-US" sz="3200" spc="-1" strike="noStrike">
                <a:solidFill>
                  <a:srgbClr val="2b2b81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挺直（</a:t>
            </a:r>
            <a:r>
              <a:rPr b="1" lang="zh-CN" sz="3200" spc="-1" strike="noStrike">
                <a:solidFill>
                  <a:srgbClr val="2b2b81"/>
                </a:solidFill>
                <a:latin typeface="楷体_GB2312"/>
                <a:ea typeface="楷体_GB2312"/>
              </a:rPr>
              <a:t>　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71640" y="25290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峻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1640" y="31590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跳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27720" y="2529000"/>
            <a:ext cx="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显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27720" y="3159000"/>
            <a:ext cx="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轻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71640" y="468936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平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27720" y="4689360"/>
            <a:ext cx="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遮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02360" y="25290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闪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02360" y="31590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摇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02360" y="468936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弯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2360" y="279360"/>
            <a:ext cx="31942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八、词语积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000" y="954000"/>
            <a:ext cx="8847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强硬  挺直  闪烁  光辉  呼啸  显现  闪光  跳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奔腾  明丽  摇曳  偶尔  宛若  朦胧  翻滚  橘柚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波光荡漾  激荡跳跃  沉沉欲睡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7000" y="2484360"/>
            <a:ext cx="31939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九、词语搭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000" y="3114720"/>
            <a:ext cx="8847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陡峭的（  ）  青色的（  ）  发黑的（  ）  累累的（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透明的（  ）  洁白的（  ）  朦胧的（  ）  热烈的（  ）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轻缓地（  ）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5880" y="5410080"/>
            <a:ext cx="381240" cy="466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73480" y="1268280"/>
            <a:ext cx="66780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  峡  之  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rot="10800000">
            <a:off x="1105200" y="2033640"/>
            <a:ext cx="190440" cy="3060720"/>
          </a:xfrm>
          <a:custGeom>
            <a:avLst/>
            <a:gdLst>
              <a:gd name="textAreaLeft" fmla="*/ 0 w 190440"/>
              <a:gd name="textAreaRight" fmla="*/ 68760 w 190440"/>
              <a:gd name="textAreaTop" fmla="*/ 79560 h 3060720"/>
              <a:gd name="textAreaBottom" fmla="*/ 2981160 h 30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6280" y="1898640"/>
            <a:ext cx="7245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起：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三峡充满了秋天成熟的气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87360" y="3608280"/>
            <a:ext cx="72453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述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-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中秋这天不同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三峡景物的不同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3654360"/>
            <a:ext cx="0" cy="22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32360" y="3654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4375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32360" y="50958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32360" y="5904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7000" y="3519360"/>
            <a:ext cx="609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华文中宋"/>
              </a:rPr>
              <a:t>早上</a:t>
            </a:r>
            <a:endParaRPr b="1" lang="en-US" sz="2400" spc="-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华文中宋"/>
              <a:ea typeface="华文中宋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81640" y="419400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华文中宋"/>
              </a:rPr>
              <a:t>中午</a:t>
            </a:r>
            <a:endParaRPr b="1" lang="en-US" sz="2400" spc="-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华文中宋"/>
              <a:ea typeface="华文中宋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7000" y="4915080"/>
            <a:ext cx="6289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华文中宋"/>
              </a:rPr>
              <a:t>下午</a:t>
            </a:r>
            <a:endParaRPr b="1" lang="en-US" sz="2400" spc="-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华文中宋"/>
              <a:ea typeface="华文中宋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81640" y="5678640"/>
            <a:ext cx="6094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>
                    <a:alpha val="80000"/>
                  </a:srgbClr>
                </a:solidFill>
                <a:latin typeface="华文中宋"/>
              </a:rPr>
              <a:t>夜晚</a:t>
            </a:r>
            <a:endParaRPr b="1" lang="en-US" sz="2400" spc="-1" strike="noStrike">
              <a:ln w="9360">
                <a:solidFill>
                  <a:srgbClr val="008000"/>
                </a:solidFill>
                <a:miter/>
              </a:ln>
              <a:solidFill>
                <a:srgbClr val="008000">
                  <a:alpha val="80000"/>
                </a:srgbClr>
              </a:solidFill>
              <a:latin typeface="华文中宋"/>
              <a:ea typeface="华文中宋"/>
            </a:endParaRPr>
          </a:p>
        </p:txBody>
      </p:sp>
      <p:sp>
        <p:nvSpPr>
          <p:cNvPr id="138" name=""/>
          <p:cNvSpPr/>
          <p:nvPr/>
        </p:nvSpPr>
        <p:spPr>
          <a:xfrm>
            <a:off x="297000" y="368280"/>
            <a:ext cx="85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章先总的介绍三峡秋天的特点，然后具体介绍其中一天的不同景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lyjsh fb" descr=""/>
          <p:cNvPicPr/>
          <p:nvPr/>
        </p:nvPicPr>
        <p:blipFill>
          <a:blip r:embed="rId1"/>
          <a:stretch/>
        </p:blipFill>
        <p:spPr>
          <a:xfrm>
            <a:off x="0" y="0"/>
            <a:ext cx="2906640" cy="329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黄昏月色" descr=""/>
          <p:cNvPicPr/>
          <p:nvPr/>
        </p:nvPicPr>
        <p:blipFill>
          <a:blip r:embed="rId2"/>
          <a:stretch/>
        </p:blipFill>
        <p:spPr>
          <a:xfrm>
            <a:off x="6058080" y="0"/>
            <a:ext cx="3085920" cy="33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下午" descr=""/>
          <p:cNvPicPr/>
          <p:nvPr/>
        </p:nvPicPr>
        <p:blipFill>
          <a:blip r:embed="rId3"/>
          <a:stretch/>
        </p:blipFill>
        <p:spPr>
          <a:xfrm>
            <a:off x="2952720" y="0"/>
            <a:ext cx="3059280" cy="3338640"/>
          </a:xfrm>
          <a:prstGeom prst="rect">
            <a:avLst/>
          </a:prstGeom>
          <a:ln w="0">
            <a:noFill/>
          </a:ln>
        </p:spPr>
      </p:pic>
      <p:pic>
        <p:nvPicPr>
          <p:cNvPr id="142" name="夜晚" descr=""/>
          <p:cNvPicPr/>
          <p:nvPr/>
        </p:nvPicPr>
        <p:blipFill>
          <a:blip r:embed="rId4"/>
          <a:stretch/>
        </p:blipFill>
        <p:spPr>
          <a:xfrm>
            <a:off x="0" y="3378240"/>
            <a:ext cx="4842000" cy="3479760"/>
          </a:xfrm>
          <a:prstGeom prst="rect">
            <a:avLst/>
          </a:prstGeom>
          <a:ln w="0">
            <a:noFill/>
          </a:ln>
        </p:spPr>
      </p:pic>
      <p:pic>
        <p:nvPicPr>
          <p:cNvPr id="143" name="月是故乡明 副本" descr=""/>
          <p:cNvPicPr/>
          <p:nvPr/>
        </p:nvPicPr>
        <p:blipFill>
          <a:blip r:embed="rId5"/>
          <a:stretch/>
        </p:blipFill>
        <p:spPr>
          <a:xfrm>
            <a:off x="4842000" y="3384720"/>
            <a:ext cx="4302000" cy="3473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92600" y="1719360"/>
            <a:ext cx="668520" cy="64728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6"/>
              </a:rPr>
              <a:t>早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7960" y="1673280"/>
            <a:ext cx="668520" cy="64728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7"/>
              </a:rPr>
              <a:t>中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47600" y="1673280"/>
            <a:ext cx="668520" cy="64728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8"/>
              </a:rPr>
              <a:t>下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12240" y="4959360"/>
            <a:ext cx="668520" cy="64728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9"/>
              </a:rPr>
              <a:t>夜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22360" cy="3473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322360" y="0"/>
            <a:ext cx="2173320" cy="3519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495680" y="0"/>
            <a:ext cx="2362320" cy="3473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6858000" y="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0" y="3473280"/>
            <a:ext cx="2676600" cy="3384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2666880" y="3473280"/>
            <a:ext cx="3429000" cy="3384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6095880" y="3429000"/>
            <a:ext cx="304812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rot="19780800">
            <a:off x="971640" y="2033280"/>
            <a:ext cx="141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隶书"/>
              </a:rPr>
              <a:t>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9780800">
            <a:off x="971640" y="2123640"/>
            <a:ext cx="141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cc33"/>
                </a:solidFill>
                <a:latin typeface="Times New Roman"/>
                <a:ea typeface="隶书"/>
              </a:rPr>
              <a:t>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20900400">
            <a:off x="2816280" y="1494000"/>
            <a:ext cx="141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隶书"/>
              </a:rPr>
              <a:t>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20900400">
            <a:off x="2816280" y="1584360"/>
            <a:ext cx="141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cc33"/>
                </a:solidFill>
                <a:latin typeface="Times New Roman"/>
                <a:ea typeface="隶书"/>
              </a:rPr>
              <a:t>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859800">
            <a:off x="4976280" y="1584360"/>
            <a:ext cx="14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隶书"/>
              </a:rPr>
              <a:t>学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775800">
            <a:off x="4932000" y="1628280"/>
            <a:ext cx="141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cc33"/>
                </a:solidFill>
                <a:latin typeface="Times New Roman"/>
                <a:ea typeface="隶书"/>
              </a:rPr>
              <a:t>学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374600">
            <a:off x="7137000" y="2303640"/>
            <a:ext cx="141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cc33"/>
                </a:solidFill>
                <a:latin typeface="Times New Roman"/>
                <a:ea typeface="隶书"/>
              </a:rPr>
              <a:t>习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539600">
            <a:off x="7181280" y="2303640"/>
            <a:ext cx="141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隶书"/>
              </a:rPr>
              <a:t>习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97000" y="5003640"/>
            <a:ext cx="841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同学们分小组自读、齐读，读后想一想每一部分讲了什么？并从中找出能概括内容的关键句子、重点词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lyjsh" descr=""/>
          <p:cNvPicPr/>
          <p:nvPr/>
        </p:nvPicPr>
        <p:blipFill>
          <a:blip r:embed="rId1"/>
          <a:stretch/>
        </p:blipFill>
        <p:spPr>
          <a:xfrm>
            <a:off x="0" y="0"/>
            <a:ext cx="506736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134040" y="2535120"/>
            <a:ext cx="16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67360" y="189000"/>
            <a:ext cx="4076640" cy="520560"/>
          </a:xfrm>
          <a:prstGeom prst="rect">
            <a:avLst/>
          </a:prstGeom>
          <a:solidFill>
            <a:srgbClr val="ff00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时令已经是秋天了。三峡的秋色，是从大江两岸的橘树和柚树开始显现的。这些树，生长在陡峭的山岩上，叶子也同那青色的岩石一般，坚硬、挺直。越到秋天，它们越显出绿得发黑的颜色；而那累累的果实，正在由青变黄，渐渐从叶子中间显露出来。就在这时候，它们开始散发出一种清香，使三峡充满了成熟的秋天的气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37360" y="317016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86280" y="638280"/>
            <a:ext cx="20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三峡的秋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67360" y="5769000"/>
            <a:ext cx="22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充满了成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67360" y="617364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的秋天的气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921280" y="1089000"/>
            <a:ext cx="2791080" cy="4464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246640" y="1942920"/>
            <a:ext cx="1709640" cy="4572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97720" y="3699000"/>
            <a:ext cx="211464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57720" y="4103640"/>
            <a:ext cx="355464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202360" y="4508280"/>
            <a:ext cx="3554280" cy="442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157720" y="5364000"/>
            <a:ext cx="3598920" cy="4464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202360" y="4959000"/>
            <a:ext cx="3554280" cy="442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246640" y="5724000"/>
            <a:ext cx="3554640" cy="8892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246640" y="1538280"/>
            <a:ext cx="3554640" cy="460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202360" y="6173640"/>
            <a:ext cx="3554280" cy="460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202360" y="6624720"/>
            <a:ext cx="2025360" cy="460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36640" y="491508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成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7360" y="36828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808000"/>
                  </a:solidFill>
                  <a:miter/>
                </a:ln>
                <a:solidFill>
                  <a:srgbClr val="808000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楷体_GB2312"/>
              </a:rPr>
              <a:t>作者介绍：</a:t>
            </a:r>
            <a:endParaRPr b="1" lang="en-US" sz="2400" spc="1" strike="noStrike">
              <a:ln w="12600">
                <a:solidFill>
                  <a:srgbClr val="808000"/>
                </a:solidFill>
                <a:miter/>
              </a:ln>
              <a:solidFill>
                <a:srgbClr val="808000"/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7000" y="1133640"/>
            <a:ext cx="2970000" cy="4590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836640" y="5543640"/>
            <a:ext cx="180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华文楷体"/>
              </a:rPr>
              <a:t>方  继</a:t>
            </a:r>
            <a:endParaRPr b="1" lang="en-US" sz="24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华文楷体"/>
              <a:ea typeface="华文楷体"/>
            </a:endParaRPr>
          </a:p>
        </p:txBody>
      </p:sp>
      <p:sp>
        <p:nvSpPr>
          <p:cNvPr id="47" name=""/>
          <p:cNvSpPr/>
          <p:nvPr/>
        </p:nvSpPr>
        <p:spPr>
          <a:xfrm>
            <a:off x="3446640" y="1584360"/>
            <a:ext cx="535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方继：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919—1998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）原名冯骥，现当代作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他的主要作品有：长篇小说《老桑树底下的故事》；中篇小说《不连续的故事》；长诗《大江东去》；散文集《挥手之间》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765920" y="255744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92720" y="86364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早晨，透明的露水闪耀着，峡风有些凉意，仿佛满山的橘柚树上撒了一层洁白的霜，清新而明净；太阳出来，露水消逝了，橘柚树闪烁着阳光，绿叶金实。三峡中又是一片秋天的明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lyjsh fb" descr=""/>
          <p:cNvPicPr/>
          <p:nvPr/>
        </p:nvPicPr>
        <p:blipFill>
          <a:blip r:embed="rId1"/>
          <a:stretch/>
        </p:blipFill>
        <p:spPr>
          <a:xfrm>
            <a:off x="0" y="0"/>
            <a:ext cx="511164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863320" y="5724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明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37360" y="1403280"/>
            <a:ext cx="7650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427720" y="4824360"/>
            <a:ext cx="3193920" cy="4464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27720" y="5319360"/>
            <a:ext cx="3240000" cy="442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27720" y="5813280"/>
            <a:ext cx="32400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27720" y="6308640"/>
            <a:ext cx="11700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92080" y="863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早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62000" y="5364000"/>
            <a:ext cx="233352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99000"/>
                  </a:srgbClr>
                </a:solidFill>
                <a:latin typeface="黑体"/>
              </a:rPr>
              <a:t>新鲜、明丽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99000"/>
                </a:srgbClr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2000" y="414000"/>
            <a:ext cx="7245360" cy="1143000"/>
          </a:xfrm>
          <a:prstGeom prst="rect">
            <a:avLst/>
          </a:prstGeom>
          <a:solidFill>
            <a:srgbClr val="ff00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早晨</a:t>
            </a:r>
            <a:r>
              <a:rPr b="1" lang="en-US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:    </a:t>
            </a: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景物—露水、橘柚树、太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52360" y="2349360"/>
            <a:ext cx="5715000" cy="581400"/>
          </a:xfrm>
          <a:prstGeom prst="rect">
            <a:avLst/>
          </a:pr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特点—露珠闪耀，绿叶金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73800" y="3878280"/>
            <a:ext cx="1992600" cy="581400"/>
          </a:xfrm>
          <a:prstGeom prst="rect">
            <a:avLst/>
          </a:pr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三峡—新鲜、明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7586640" y="621972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下午" descr=""/>
          <p:cNvPicPr/>
          <p:nvPr/>
        </p:nvPicPr>
        <p:blipFill>
          <a:blip r:embed="rId1"/>
          <a:stretch/>
        </p:blipFill>
        <p:spPr>
          <a:xfrm>
            <a:off x="71280" y="98280"/>
            <a:ext cx="4337280" cy="6400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751280" y="276120"/>
            <a:ext cx="41911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中午，群峰披上金甲，阳光在水面上跳跃，长江也变得热烈了，像一条金鳞巨蟒，翻滚着，呼啸着，奔腾流去；同时又把那激荡跳跃的光辉，投向两岸峭壁。于是，整个峡谷波光荡漾，三峡又充满了秋天的热烈的气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32960" y="5138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热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51640" y="773280"/>
            <a:ext cx="7650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46640" y="1808280"/>
            <a:ext cx="23400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42000" y="2303640"/>
            <a:ext cx="7650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02360" y="5184720"/>
            <a:ext cx="22953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42000" y="5769000"/>
            <a:ext cx="35557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8320" y="233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中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06640" y="5273640"/>
            <a:ext cx="25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奔腾、热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42000" y="3249720"/>
            <a:ext cx="7650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01640" y="773280"/>
            <a:ext cx="7245360" cy="114300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中午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景物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—群峰、阳光、长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2664000"/>
            <a:ext cx="8307360" cy="64260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特点—群峰披甲，金麟巨莽、激荡跳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64200" y="4059360"/>
            <a:ext cx="2218320" cy="642600"/>
          </a:xfrm>
          <a:prstGeom prst="rect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三峡—奔腾、热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黄昏月色" descr=""/>
          <p:cNvPicPr/>
          <p:nvPr/>
        </p:nvPicPr>
        <p:blipFill>
          <a:blip r:embed="rId1"/>
          <a:stretch/>
        </p:blipFill>
        <p:spPr>
          <a:xfrm>
            <a:off x="206280" y="54000"/>
            <a:ext cx="4654800" cy="6534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029200" y="91440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Times New Roman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ff7c80"/>
                </a:solidFill>
                <a:latin typeface="Times New Roman"/>
                <a:ea typeface="楷体_GB2312"/>
              </a:rPr>
              <a:t>下午，太阳还没有落，峡谷里早升起一层青色的雾。这使得峡里的黄昏来得特别早，而去得特别迟。于是，在青色的透明的黄昏中，两岸峭壁的倒影，一齐拥向江心，使江面上只剩下一线发光的天空，长江平静而轻缓地流淌，变得有如一条明亮的小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17520" y="4754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平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58080" y="1403280"/>
            <a:ext cx="7650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877000" y="5229000"/>
            <a:ext cx="2835360" cy="442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157720" y="5678280"/>
            <a:ext cx="3645000" cy="4572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57720" y="6129360"/>
            <a:ext cx="134928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66720" y="907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下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80920" y="5499000"/>
            <a:ext cx="27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平静、明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26440" y="5229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30720" y="5634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06280" y="189000"/>
            <a:ext cx="8712360" cy="6534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62000" y="458640"/>
            <a:ext cx="8756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下午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景物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—雾、长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81280" y="1808280"/>
            <a:ext cx="79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特点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青色的雾、长江如带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01040" y="288936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三峡—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  <a:ea typeface="宋体"/>
              </a:rPr>
              <a:t>平静、明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夜晚" descr=""/>
          <p:cNvPicPr/>
          <p:nvPr/>
        </p:nvPicPr>
        <p:blipFill>
          <a:blip r:embed="rId1"/>
          <a:stretch/>
        </p:blipFill>
        <p:spPr>
          <a:xfrm>
            <a:off x="250920" y="98280"/>
            <a:ext cx="4681440" cy="6508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105520" y="7621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夜，终于来了。岸边的渔火，江心的灯标，接连地亮起，连同它们在水面映出的红色光晕，使长江像是眨着眼睛，沉沉欲睡。只有偶尔驶过的驳船，响着汽笛，在江面划开一条发光的路；于是渔火和灯光，都像惊醒了一般，在水面上轻轻地摇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77000" y="1268280"/>
            <a:ext cx="4953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86640" y="2978280"/>
            <a:ext cx="2025720" cy="144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246640" y="3338280"/>
            <a:ext cx="2430360" cy="442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月是故乡明 副本" descr=""/>
          <p:cNvPicPr/>
          <p:nvPr/>
        </p:nvPicPr>
        <p:blipFill>
          <a:blip r:embed="rId1"/>
          <a:stretch/>
        </p:blipFill>
        <p:spPr>
          <a:xfrm>
            <a:off x="117360" y="54000"/>
            <a:ext cx="4442040" cy="6534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648320" y="152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也许由于这里的山太高，峡谷太深，天空过于狭小，连月亮也来得很迟很迟。起初，只能感觉到它朦胧的青光，和黄昏连在一起；也不知在什么时候，它忽然出现在山上，就像从山上生长出来，是山的一部分，宛若一块巨大的、磨平发亮的云母石。这时，月亮和山的阴影，对比得异常明显——山是墨一般的黑，陡立着，倾向江心，仿佛就要扑跌下来，而月亮，从山顶上，顺着直立的深深谷壑，把它那清冽的光辉，一直泻到江面。就像一道道瀑布凌空飞降，又像一匹匹素锦从山上挂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551640" y="1672920"/>
            <a:ext cx="1530360" cy="442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5742000" y="3114360"/>
            <a:ext cx="3014640" cy="442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97360" y="3473280"/>
            <a:ext cx="1800360" cy="460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28080" y="5319720"/>
            <a:ext cx="6285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797360" y="5678280"/>
            <a:ext cx="3105360" cy="442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632280" y="126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朦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567864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朦胧、神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06280" y="458640"/>
            <a:ext cx="8756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下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景物—渔火、灯标、驳船、山、月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1640" y="1719360"/>
            <a:ext cx="73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云母石似的月，朦胧 、清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10280" y="306864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三峡—朦胧、神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月、神女峰" descr=""/>
          <p:cNvPicPr/>
          <p:nvPr/>
        </p:nvPicPr>
        <p:blipFill>
          <a:blip r:embed="rId1"/>
          <a:stretch/>
        </p:blipFill>
        <p:spPr>
          <a:xfrm>
            <a:off x="71280" y="54000"/>
            <a:ext cx="8915400" cy="67881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844440" y="2124000"/>
            <a:ext cx="16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这一天，正是中秋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773" t="22416" r="1014" b="9335"/>
          <a:stretch/>
        </p:blipFill>
        <p:spPr>
          <a:xfrm>
            <a:off x="297000" y="1719360"/>
            <a:ext cx="6408720" cy="4116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788400" y="3068640"/>
            <a:ext cx="3166560" cy="2790720"/>
          </a:xfrm>
          <a:prstGeom prst="rect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朝辞白帝彩云间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千里江陵一日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两岸猿声啼不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轻舟已过万重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7047000" y="504000"/>
            <a:ext cx="1484640" cy="1393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欣赏</a:t>
            </a:r>
            <a:endParaRPr b="1" lang="en-US" sz="60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601640" y="6354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77000" y="2168640"/>
            <a:ext cx="23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江三峡群峰耸立，雄奇壮丽，就像一幅连绵不断的画卷一样，今天让我们一起走进三峡，去领略作家方继笔下的三峡神韵吧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6640" y="907920"/>
            <a:ext cx="1979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中宋"/>
              </a:rPr>
              <a:t>第一课时</a:t>
            </a:r>
            <a:endParaRPr b="1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lyjsh fb" descr=""/>
          <p:cNvPicPr/>
          <p:nvPr/>
        </p:nvPicPr>
        <p:blipFill>
          <a:blip r:embed="rId1"/>
          <a:stretch/>
        </p:blipFill>
        <p:spPr>
          <a:xfrm>
            <a:off x="0" y="0"/>
            <a:ext cx="4114800" cy="220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9" name="下午" descr=""/>
          <p:cNvPicPr/>
          <p:nvPr/>
        </p:nvPicPr>
        <p:blipFill>
          <a:blip r:embed="rId2"/>
          <a:stretch/>
        </p:blipFill>
        <p:spPr>
          <a:xfrm>
            <a:off x="0" y="2286000"/>
            <a:ext cx="4114800" cy="2138400"/>
          </a:xfrm>
          <a:prstGeom prst="rect">
            <a:avLst/>
          </a:prstGeom>
          <a:ln w="0">
            <a:noFill/>
          </a:ln>
        </p:spPr>
      </p:pic>
      <p:pic>
        <p:nvPicPr>
          <p:cNvPr id="250" name="黄昏月色" descr=""/>
          <p:cNvPicPr/>
          <p:nvPr/>
        </p:nvPicPr>
        <p:blipFill>
          <a:blip r:embed="rId3"/>
          <a:stretch/>
        </p:blipFill>
        <p:spPr>
          <a:xfrm>
            <a:off x="0" y="4495680"/>
            <a:ext cx="4114800" cy="236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1" name="夜晚" descr=""/>
          <p:cNvPicPr/>
          <p:nvPr/>
        </p:nvPicPr>
        <p:blipFill>
          <a:blip r:embed="rId4"/>
          <a:stretch/>
        </p:blipFill>
        <p:spPr>
          <a:xfrm>
            <a:off x="4952880" y="11160"/>
            <a:ext cx="4211640" cy="3373560"/>
          </a:xfrm>
          <a:prstGeom prst="rect">
            <a:avLst/>
          </a:prstGeom>
          <a:ln w="0">
            <a:noFill/>
          </a:ln>
        </p:spPr>
      </p:pic>
      <p:pic>
        <p:nvPicPr>
          <p:cNvPr id="252" name="月是故乡明 副本" descr=""/>
          <p:cNvPicPr/>
          <p:nvPr/>
        </p:nvPicPr>
        <p:blipFill>
          <a:blip r:embed="rId5"/>
          <a:stretch/>
        </p:blipFill>
        <p:spPr>
          <a:xfrm>
            <a:off x="4952880" y="3352680"/>
            <a:ext cx="4191120" cy="3451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2862360" y="1449360"/>
            <a:ext cx="3284280" cy="3328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latin typeface="华文新魏"/>
              </a:rPr>
              <a:t>美</a:t>
            </a:r>
            <a:endParaRPr b="1" lang="en-US" sz="9600" spc="-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月、神女峰" descr=""/>
          <p:cNvPicPr/>
          <p:nvPr/>
        </p:nvPicPr>
        <p:blipFill>
          <a:blip r:embed="rId1"/>
          <a:stretch/>
        </p:blipFill>
        <p:spPr>
          <a:xfrm>
            <a:off x="-58680" y="1440"/>
            <a:ext cx="9229680" cy="7027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97000" y="503280"/>
            <a:ext cx="5265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同学们，作家方继用优美的文字描绘出了三峡秋景的壮丽多姿，表达了他对祖国山河的无比热爱之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可是，我们的母亲河目前却存在着一幅不和谐的画面， 我们怎么不痛心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486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1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3638520" y="2840040"/>
            <a:ext cx="18669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华文中宋"/>
              </a:rPr>
              <a:t>生物灭绝！</a:t>
            </a:r>
            <a:endParaRPr b="1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11724" t="2572" r="0" b="10614"/>
          <a:stretch/>
        </p:blipFill>
        <p:spPr>
          <a:xfrm>
            <a:off x="549360" y="230040"/>
            <a:ext cx="4037040" cy="5954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rcRect l="0" t="0" r="4781" b="14167"/>
          <a:stretch/>
        </p:blipFill>
        <p:spPr>
          <a:xfrm>
            <a:off x="4662360" y="233280"/>
            <a:ext cx="4311720" cy="58881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2097000" y="2889360"/>
            <a:ext cx="4114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华文中宋"/>
              </a:rPr>
              <a:t>无节制抽水、排污！</a:t>
            </a:r>
            <a:endParaRPr b="1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3132000" y="2843280"/>
            <a:ext cx="36576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华文中宋"/>
              </a:rPr>
              <a:t>河床干涸、改道！</a:t>
            </a:r>
            <a:endParaRPr b="1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01640" y="27936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课后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61640" y="953640"/>
            <a:ext cx="868500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积累（描写三峡的诗歌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早发白帝城                    三峡歌                    出入峡有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唐）李白              （宋）陆游               （唐）白居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朝辞白帝彩云间，     十二巫山见九峰，      上有万仞山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里江陵一日还。     船头彩翠满秋空。      下有千丈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岸猿声啼不住，     朝云暮雨浑虚雨，      苍苍两崖间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轻舟已过万重山。     一夜猿啼月明中。      阔峡容一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、看拼音，写词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jú yòu  dǒu qiào  shǎn shuò  bó chuá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yáo yè mé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ló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dà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yà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在括号里填上合适的词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）的秋天    （  ）的露水    （  ）的光辉    （  ）的黄昏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）的倒影    （  ）的带子    （  ）的月光    （  ）的渔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52000" y="368280"/>
            <a:ext cx="8550360" cy="57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照样子，把句子写具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叶子如同岩石一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雨如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心情如同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山是墨一般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五、修改病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湖边柳树低垂的枝条被风吹得迎风摇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经过治疗，小明的病很快恢复了健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51280" y="1719360"/>
            <a:ext cx="157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51280" y="2259000"/>
            <a:ext cx="157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67000" y="3249720"/>
            <a:ext cx="157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67000" y="3789360"/>
            <a:ext cx="157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71640" y="5410080"/>
            <a:ext cx="634500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71640" y="6264360"/>
            <a:ext cx="6435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2000" y="368280"/>
            <a:ext cx="8891640" cy="57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六、判断下列句子中哪些是比喻句，是的请写出把什么比作什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山陡立着，倾向江心，仿佛就要扑到下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月亮从山顶上，顺着直立的深深的谷壑，把它那清冽的光辉一直泻到江面，就像一道道瀑布凌空飞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江平静而轻缓地流淌，变得有如一条明亮的带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它忽然出现在山上，就像从山上生长出来，是山的一部分，宛如一块巨大的、磨平发亮的云母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七、理解课文填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课文按时间      ，依次描写了    、    、    、    的美景。早上的三峡的特点是     、    ，中午的三峡的特点是    、    ，下午的三峡的特点是      、    ，晚上的三峡的特点是    、   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八、《我的视角》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67000" y="4508640"/>
            <a:ext cx="44928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27720" y="4508640"/>
            <a:ext cx="4489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11640" y="4508640"/>
            <a:ext cx="44928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02000" y="4869000"/>
            <a:ext cx="44928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1640" y="4869000"/>
            <a:ext cx="44928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97360" y="4508640"/>
            <a:ext cx="44928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81640" y="4508640"/>
            <a:ext cx="44928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6280" y="5229360"/>
            <a:ext cx="44928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87720" y="5229360"/>
            <a:ext cx="44928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07000" y="4869000"/>
            <a:ext cx="44928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47000" y="4869000"/>
            <a:ext cx="44928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81640" y="5229360"/>
            <a:ext cx="44928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21640" y="5229360"/>
            <a:ext cx="44928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152360" y="1268280"/>
            <a:ext cx="6956640" cy="2775240"/>
          </a:xfrm>
          <a:prstGeom prst="rect">
            <a:avLst/>
          </a:prstGeom>
          <a:solidFill>
            <a:srgbClr val="ff99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让我们行动吧！从我做起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保护长江的生态环境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让我们的母亲河——长江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永远绽放她的魅力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176640" y="4599000"/>
            <a:ext cx="293508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楷体_GB2312"/>
              </a:rPr>
              <a:t>谢谢同学们！</a:t>
            </a:r>
            <a:endParaRPr b="1" lang="en-US" sz="2400" spc="1" strike="noStrike">
              <a:ln w="38160">
                <a:solidFill>
                  <a:srgbClr val="ffcc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97" name=""/>
          <p:cNvSpPr/>
          <p:nvPr/>
        </p:nvSpPr>
        <p:spPr>
          <a:xfrm>
            <a:off x="1152360" y="1268280"/>
            <a:ext cx="6956640" cy="2775240"/>
          </a:xfrm>
          <a:prstGeom prst="rect">
            <a:avLst/>
          </a:prstGeom>
          <a:solidFill>
            <a:srgbClr val="ff99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让我们行动吧！从我做起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保护长江的生态环境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让我们的母亲河——长江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永远绽放她的魅力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复件 三峡8" descr=""/>
          <p:cNvPicPr/>
          <p:nvPr/>
        </p:nvPicPr>
        <p:blipFill>
          <a:blip r:embed="rId1"/>
          <a:stretch/>
        </p:blipFill>
        <p:spPr>
          <a:xfrm>
            <a:off x="206280" y="144360"/>
            <a:ext cx="8712360" cy="6534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577360" y="6264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nx2_1" descr=""/>
          <p:cNvPicPr/>
          <p:nvPr/>
        </p:nvPicPr>
        <p:blipFill>
          <a:blip r:embed="rId1"/>
          <a:stretch/>
        </p:blipFill>
        <p:spPr>
          <a:xfrm>
            <a:off x="162000" y="368280"/>
            <a:ext cx="864720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675_1" descr=""/>
          <p:cNvPicPr/>
          <p:nvPr/>
        </p:nvPicPr>
        <p:blipFill>
          <a:blip r:embed="rId1"/>
          <a:stretch/>
        </p:blipFill>
        <p:spPr>
          <a:xfrm>
            <a:off x="387360" y="189000"/>
            <a:ext cx="8577360" cy="64324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nhxsx2_1" descr=""/>
          <p:cNvPicPr/>
          <p:nvPr/>
        </p:nvPicPr>
        <p:blipFill>
          <a:blip r:embed="rId1"/>
          <a:stretch/>
        </p:blipFill>
        <p:spPr>
          <a:xfrm>
            <a:off x="431640" y="189000"/>
            <a:ext cx="846792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dnhxsx1_1" descr=""/>
          <p:cNvPicPr/>
          <p:nvPr/>
        </p:nvPicPr>
        <p:blipFill>
          <a:blip r:embed="rId1"/>
          <a:stretch/>
        </p:blipFill>
        <p:spPr>
          <a:xfrm>
            <a:off x="476280" y="144360"/>
            <a:ext cx="844236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x2_1" descr=""/>
          <p:cNvPicPr/>
          <p:nvPr/>
        </p:nvPicPr>
        <p:blipFill>
          <a:blip r:embed="rId1"/>
          <a:stretch/>
        </p:blipFill>
        <p:spPr>
          <a:xfrm>
            <a:off x="387360" y="144360"/>
            <a:ext cx="8486640" cy="6365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07:30:12Z</dcterms:created>
  <dc:creator>Administrator</dc:creator>
  <dc:description/>
  <dc:language>en-US</dc:language>
  <cp:lastModifiedBy/>
  <cp:lastPrinted>1900-01-02T05:08:28Z</cp:lastPrinted>
  <dcterms:modified xsi:type="dcterms:W3CDTF">2015-07-23T07:41:24Z</dcterms:modified>
  <cp:revision>1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