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9B2B-4A70-4340-AE91-E1DE4257C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B1D7-C145-4992-8799-6F014A50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BAA1-3B70-4518-8E8D-58C91E83D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9CE7-D3EE-4F57-B167-DF8397E97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6560-C255-4C5E-A158-AD9DE9DF6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4169-1AD4-4708-AAC1-2458FA7D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7957-3BB4-47F0-9331-6EB9FB31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DD97-1F32-4EAE-AC9E-47961CCB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FC65-FF09-48AF-9189-D4D8705F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58FF-1793-4622-8DD5-9F84CDC5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54A8-5B96-4D61-81F6-5B2DCBAC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D85A-ACAF-4A89-99EE-753D2DB4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9D15-B241-4997-9B15-0231331D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6AB1-BEA3-4E65-9FEA-42DFB29C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5540-E3D0-48DF-89AE-8E156459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48B2-A768-4E5C-AE07-DE255A192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B3B6-BEDC-403C-998B-ABFA0A32C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7331D-7CE3-4A70-939B-E353DDE10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5522D-33E0-4932-B7FF-CA85EB7E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63E82-A31C-493C-9400-F625CB68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8ACB1-17E7-45A7-8466-6DE7A1BD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3A179-9ADB-426B-B16A-185EEDD4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DECA-96D9-4B92-8541-B9F67BC9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25D7D-1464-4D5E-AE1D-C9D088FB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EC687-867D-4C44-9641-DE5A1F3D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3F303-C211-43D6-AA21-A8362326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7C5E8-97CE-43BB-B2B5-0E34826E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AE44D-BD5D-452F-9883-97A09930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F880D-000B-44EE-BCAF-0BD3B3F0D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7386D-88D7-4734-8795-1B54DFB6A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4DC6D-542A-450B-A78E-6451F9773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F294A-37CF-4B0E-A1AE-472E6B48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22E99-6E18-4AA0-9F94-9A2B0867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1148-E29F-4D7E-977F-D5EC5BF9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55505-925D-462B-A6BB-08970B87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68799-9EB7-4FEF-97EC-08F69E36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C0547-900B-4E4D-A105-4F5798D7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E0D65-A839-4CFB-8ED3-A86434E1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6F806-57CB-4A60-9AB6-8FC005CB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A9EF5-0812-4342-8543-25571ABC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30E67-74A9-48D1-BA3C-F4AC58E6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415C5-E373-47DC-898C-8CE62614E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D529E-9037-46C0-99D0-03AB46221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794C4-E16B-4BFE-B2F0-0FBCC6DC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1991-A9B1-481C-A19A-B3E12C04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7A920-32B8-4C54-870F-920FF3E1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0CA96-6E0B-4941-9E53-97B4FED3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80BDB-497A-41DD-AB39-357F9197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F2FB6-1FA2-4966-9171-AC718D16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F8C8D-3E34-4015-BBCA-32B1FFB5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898E7-A95C-49EB-8B5C-DB38E5E4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DCB52-D5ED-44E9-94D2-EEB6E29A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EAEC4-F705-43F5-8EDB-5DEF8AAB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6E6C0-D5D5-4681-BDB4-56B90FF9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4E8FE-33D8-4104-A1CF-B976FDA8A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EE86-A897-44A0-8B25-ED36A42E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02281-9B7A-411D-9D37-CD323ABA7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CD88-65DF-4C6A-AF1E-7891E8F2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F0E9-5D27-44EC-8DE1-965CBCC8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7424-CEB6-42CA-8466-E139BD49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11401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11401"/>
              </a:buClr>
              <a:buSzPct val="60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11401"/>
              </a:buClr>
              <a:buSzPct val="90000"/>
              <a:buFont typeface="Calibri"/>
              <a:buChar char="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11401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000" y="648288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8288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3000" y="6482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AAF8-6F92-450B-ADD8-1454D973E8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11401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11401"/>
              </a:buClr>
              <a:buSzPct val="60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11401"/>
              </a:buClr>
              <a:buSzPct val="90000"/>
              <a:buFont typeface="Calibri"/>
              <a:buChar char="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11401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000" y="648288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8288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93000" y="6482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BD48-A8D3-4A2D-B839-526E4B2B16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e6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e6e6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e6e6"/>
              </a:buClr>
              <a:buSzPct val="60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e6e6"/>
              </a:buClr>
              <a:buSzPct val="90000"/>
              <a:buFont typeface="Calibri"/>
              <a:buChar char="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e6e6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9000" y="648288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8288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993000" y="6482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C24A-FCAE-41F3-867C-FAF7F422F7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11401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11401"/>
              </a:buClr>
              <a:buSzPct val="60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11401"/>
              </a:buClr>
              <a:buSzPct val="90000"/>
              <a:buFont typeface="Calibri"/>
              <a:buChar char="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11401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9000" y="648288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8288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993000" y="6482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A5CB-44A0-4CCD-8FC3-474FB1A0F5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组合 6"/>
          <p:cNvGrpSpPr/>
          <p:nvPr/>
        </p:nvGrpSpPr>
        <p:grpSpPr>
          <a:xfrm>
            <a:off x="1501200" y="453600"/>
            <a:ext cx="7500240" cy="4969080"/>
            <a:chOff x="1501200" y="453600"/>
            <a:chExt cx="7500240" cy="4969080"/>
          </a:xfrm>
        </p:grpSpPr>
        <p:sp>
          <p:nvSpPr>
            <p:cNvPr id="165" name="矩形 7"/>
            <p:cNvSpPr/>
            <p:nvPr/>
          </p:nvSpPr>
          <p:spPr>
            <a:xfrm rot="21480000">
              <a:off x="1581120" y="580320"/>
              <a:ext cx="7340040" cy="47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640" dir="5400000" blurRad="0" rotWithShape="0">
                <a:srgbClr val="000000">
                  <a:alpha val="6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矩形 8"/>
            <p:cNvSpPr/>
            <p:nvPr/>
          </p:nvSpPr>
          <p:spPr>
            <a:xfrm rot="21540000">
              <a:off x="1589400" y="571680"/>
              <a:ext cx="7340040" cy="47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640" dir="5400000" blurRad="0" rotWithShape="0">
                <a:srgbClr val="000000">
                  <a:alpha val="6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矩形 9"/>
            <p:cNvSpPr/>
            <p:nvPr/>
          </p:nvSpPr>
          <p:spPr>
            <a:xfrm>
              <a:off x="1589760" y="554040"/>
              <a:ext cx="7340040" cy="47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640" dir="5400000" blurRad="0" rotWithShape="0">
                <a:srgbClr val="000000">
                  <a:alpha val="6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11401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11401"/>
              </a:buClr>
              <a:buSzPct val="60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11401"/>
              </a:buClr>
              <a:buSzPct val="90000"/>
              <a:buFont typeface="Calibri"/>
              <a:buChar char="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11401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9000" y="648288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48288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993000" y="6482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375D-43A7-468E-88FB-E65F2A0B41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2"/>
          <p:cNvSpPr txBox="1"/>
          <p:nvPr/>
        </p:nvSpPr>
        <p:spPr>
          <a:xfrm>
            <a:off x="1042920" y="2924280"/>
            <a:ext cx="754380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24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选读一、</a:t>
            </a:r>
            <a:endParaRPr b="1" lang="en-US" sz="5400" spc="1" strike="noStrike">
              <a:ln w="0">
                <a:noFill/>
              </a:ln>
              <a:solidFill>
                <a:srgbClr val="ff66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“</a:t>
            </a:r>
            <a:r>
              <a:rPr b="1" lang="zh-CN" sz="5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神舟”五号飞船着陆记</a:t>
            </a:r>
            <a:endParaRPr b="1" lang="en-US" sz="5400" spc="1" strike="noStrike">
              <a:ln w="0">
                <a:noFill/>
              </a:ln>
              <a:solidFill>
                <a:srgbClr val="ff66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181080" y="2631240"/>
            <a:ext cx="89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WordArt 3"/>
          <p:cNvSpPr txBox="1"/>
          <p:nvPr/>
        </p:nvSpPr>
        <p:spPr>
          <a:xfrm>
            <a:off x="539640" y="476280"/>
            <a:ext cx="186696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还有作业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250920" y="1916280"/>
            <a:ext cx="878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写一写：想象我国或世界的航天前景，写下来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905120" y="167652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971640" y="170028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250920" y="2086920"/>
            <a:ext cx="8462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一、自主阅读，交流讨论</a:t>
            </a:r>
            <a:br>
              <a:rPr sz="4000"/>
            </a:b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　　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用自己喜欢的方式读课文。将自己不理解的新词，不会读的字画记出来，通过查字典、联系上下文、和同学讨论交流解决。</a:t>
            </a:r>
            <a:br>
              <a:rPr sz="4000"/>
            </a:b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　　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播放一段“神舟”五号顺利返回地面的录像，结合课文阅读，对课文描述的新闻事件，谈谈自己的了解。</a:t>
            </a:r>
            <a:br>
              <a:rPr sz="4000"/>
            </a:b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8236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611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遨游    清晰    果断    搜索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沉稳     不约而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安然无恙       神采奕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1905120" y="335268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4241160" y="988560"/>
            <a:ext cx="6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二、分组进行阅读比赛，交流阅读体会。</a:t>
            </a:r>
            <a:r>
              <a:rPr b="0" lang="zh-CN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201560" y="1779120"/>
            <a:ext cx="112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、读了这篇课文，你了解了些什么？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574560" y="370296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   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、课文哪些地方让你紧张？读到飞船顺利着陆，你想说什么？</a:t>
            </a:r>
            <a:r>
              <a:rPr b="0" lang="zh-CN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324000" y="50713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、课文最后一个自然段，你是怎么理解的？</a:t>
            </a:r>
            <a:r>
              <a:rPr b="0" lang="zh-CN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4187160" y="2606040"/>
            <a:ext cx="8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、你有什么想法？你的心情怎样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1116000" y="1646280"/>
            <a:ext cx="7777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395280" y="1197000"/>
            <a:ext cx="7726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时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45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分，身着白色宇航服的杨利伟从返回舱中神采奕奕地探出头来，他把面罩向上一推，微笑向迎接他回家的人们挥手致意。一时间，草原上掌声雷动，许多人激动得流下了热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116000" y="1646280"/>
            <a:ext cx="7777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826920" y="1197000"/>
            <a:ext cx="77266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，身着白色宇航服的杨利伟从返回舱中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神采奕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地探出头来，他把面罩向上一推，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微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着向迎接他回家的人们挥手致意。一时间，草原上掌声雷动，许多人激动得流下了热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914400" y="692280"/>
            <a:ext cx="78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“</a:t>
            </a:r>
            <a:r>
              <a:rPr b="1" lang="zh-CN" sz="4000" spc="-1" strike="noStrike">
                <a:solidFill>
                  <a:srgbClr val="ff00ff"/>
                </a:solidFill>
                <a:latin typeface="Calibri"/>
              </a:rPr>
              <a:t>神采奕奕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”“</a:t>
            </a:r>
            <a:r>
              <a:rPr b="1" lang="zh-CN" sz="4000" spc="-1" strike="noStrike">
                <a:solidFill>
                  <a:srgbClr val="ff00ff"/>
                </a:solidFill>
                <a:latin typeface="Calibri"/>
              </a:rPr>
              <a:t>微笑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”说明经过艰苦的太空飞行，杨利伟依然精神饱满，体现了他坚强的意志，良好的心理素质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最后一句是比喻句，体现了人们对航天事业、航天英雄的热爱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8236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着重（       ）着魔（　　　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着装（　　）着陆（　　　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着手（　　）着落（　　　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着色（　　）着实（　　　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着凉（　　）着地（　　　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着数（　　）走着瞧（　　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　　棋高一着（　　　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1476360" y="1125360"/>
            <a:ext cx="1150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hu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203640" y="1125360"/>
            <a:ext cx="1150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ā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4859280" y="1125360"/>
            <a:ext cx="1150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6588000" y="112536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808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1476000" y="1125000"/>
            <a:ext cx="115092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zhu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ó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3203640" y="1125360"/>
            <a:ext cx="1150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ā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4859280" y="1125360"/>
            <a:ext cx="1150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6588000" y="112536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2435040" y="1989000"/>
            <a:ext cx="5156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着重（       ）着魔（　　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着装（　　）着陆（　　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着手（　　）着落（　　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着色（　　）着实（　　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着凉（　　）着地（　　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着数（　　）走着瞧（　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棋高一着（　　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3132000" y="2060640"/>
            <a:ext cx="1150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zhu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3132000" y="2708280"/>
            <a:ext cx="1150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zhu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3132000" y="3213000"/>
            <a:ext cx="1150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zhu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1"/>
          <p:cNvSpPr/>
          <p:nvPr/>
        </p:nvSpPr>
        <p:spPr>
          <a:xfrm>
            <a:off x="3132000" y="4005360"/>
            <a:ext cx="1150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zhu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6443640" y="3357720"/>
            <a:ext cx="11509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zhu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6300720" y="2133720"/>
            <a:ext cx="11509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zh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4"/>
          <p:cNvSpPr/>
          <p:nvPr/>
        </p:nvSpPr>
        <p:spPr>
          <a:xfrm>
            <a:off x="3203640" y="4653000"/>
            <a:ext cx="1150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zh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6516720" y="4653000"/>
            <a:ext cx="1150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zh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6"/>
          <p:cNvSpPr/>
          <p:nvPr/>
        </p:nvSpPr>
        <p:spPr>
          <a:xfrm>
            <a:off x="6443640" y="4005360"/>
            <a:ext cx="1150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zhu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7"/>
          <p:cNvSpPr/>
          <p:nvPr/>
        </p:nvSpPr>
        <p:spPr>
          <a:xfrm>
            <a:off x="6372360" y="2708280"/>
            <a:ext cx="1150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zhu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8"/>
          <p:cNvSpPr/>
          <p:nvPr/>
        </p:nvSpPr>
        <p:spPr>
          <a:xfrm>
            <a:off x="3203640" y="5229360"/>
            <a:ext cx="11509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zh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ā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"/>
          <p:cNvSpPr/>
          <p:nvPr/>
        </p:nvSpPr>
        <p:spPr>
          <a:xfrm>
            <a:off x="4500720" y="5877000"/>
            <a:ext cx="1150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zh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ā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0"/>
          <p:cNvSpPr/>
          <p:nvPr/>
        </p:nvSpPr>
        <p:spPr>
          <a:xfrm>
            <a:off x="6732720" y="51577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z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Windows 用户</cp:lastModifiedBy>
  <dcterms:modified xsi:type="dcterms:W3CDTF">2015-09-14T03:21:38Z</dcterms:modified>
  <cp:revision>3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