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3C6F-586D-4DEA-ABAA-733760CD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F98E-7C3E-46F3-B600-FCCA1F2F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017-9F4F-43A9-9701-58932D1F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293-0084-489E-AF10-7783DF08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E22D-564E-41DC-841E-541AC668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9E50-46D0-470C-A052-3E43319E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8064-A017-4F1A-A1E0-0E735F09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F24B-31EC-4CCD-9D6A-1252695F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BF18-2F72-4925-BB8E-1FCB8681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D91C-A0FF-4B4A-B63F-1A371F52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6F4C-2A1C-4243-B841-EC01F5B6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3A1-D7A9-40C7-8035-F9DD8E7E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0125-028D-4613-9552-AD224E40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08F4-5E67-4E6E-BA76-7CFDA13D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DC3B-3C0C-4B66-8A1D-63965E7D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513F-1C36-4485-9B1D-3DACFC3F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D5B1-2136-4C7F-8CF8-96681E38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E959-ABD2-4090-9906-5BF00B43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F177-A663-468B-B3A7-BBF35A89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1BB23-6BDF-4173-86ED-A8F00D1E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5946-FBB3-4017-BCD7-E4860C3C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5F90C-64ED-473D-A95E-8B7B60C0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7CF-26CF-46C3-884C-B377288A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D732-0F84-4290-B1C9-28A9604E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06A9-6BA0-4F24-909E-3F22B1D1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9833-421A-4C37-8E51-50799B21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C16E-CA78-4674-A093-035F425D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53F8-A33C-44B7-8B6C-31A4C44D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7DF42-81AE-4A3B-83D6-B1755D9D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21AD-ED13-410F-83A7-251FA3E2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D260B-81C1-46E2-84EB-6E77F0D5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CF55-5352-4ACB-AC86-4B1EAD9A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655FD-BBC1-4ABD-B1EE-0CC0DE19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364-9BF8-4DAD-B932-B13C18B7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AD485-7892-4C0D-8267-1375BEE9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20450-60DB-401C-A121-4B7E02FE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AEA31-C57C-4729-8254-A9F5B8D4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A8AF-B94E-4D4D-A42F-740BC0C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9FCA-A1EC-4220-BA5A-8E9F740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5FCB3-72C2-4AC2-96E9-D77A92D0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50642-CB05-4B7C-B85A-18A81B7B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6DCC-8D74-4C9E-8571-B3B44BE6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1CFE-BF68-483D-8A10-D722BB24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09A7E-194A-4E8E-8FEA-E8BE4255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8A5A-D17A-43FC-BB36-FE884C9E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31DDA-5CEC-4445-A5F8-6DCF5418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9560B-1601-4BA0-BF98-EEB5FFCF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867AF-FA71-41A6-A78D-E9890124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8AE70-7B89-4CF0-81BF-C4861782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88DB4-F8E0-4309-8470-A566B820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F2FDC-E34B-41BD-BE7E-BEAD3B8F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88304-6E47-46DA-9F65-E6F320F8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E4515-91EC-4E16-92ED-AAD547FA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64124-6F91-4B2D-AA03-DF6002B2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05F0F-77C6-48B2-8EFD-43EBC0A4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5B1-4D44-4A06-BAA2-619818ED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F9084-9406-4012-9E64-33798AE0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84B-B05B-4F1B-BB19-23FFE507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FFF-54A1-4025-979F-82835439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6C9-B61F-4994-9356-DB0370DA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0BB6-9DDF-4BB8-94CE-DB4021431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3F58-7083-4661-AA0E-BB834E2FA7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e6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e6e6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e6e6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e6e6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e6e6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DA30-1A40-443F-97D9-988F7E4A71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A502-21FD-426D-8F4D-66697126A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6"/>
          <p:cNvGrpSpPr/>
          <p:nvPr/>
        </p:nvGrpSpPr>
        <p:grpSpPr>
          <a:xfrm>
            <a:off x="1501200" y="453600"/>
            <a:ext cx="7500240" cy="4969080"/>
            <a:chOff x="1501200" y="453600"/>
            <a:chExt cx="7500240" cy="4969080"/>
          </a:xfrm>
        </p:grpSpPr>
        <p:sp>
          <p:nvSpPr>
            <p:cNvPr id="165" name="矩形 7"/>
            <p:cNvSpPr/>
            <p:nvPr/>
          </p:nvSpPr>
          <p:spPr>
            <a:xfrm rot="21480000">
              <a:off x="1581120" y="58032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8"/>
            <p:cNvSpPr/>
            <p:nvPr/>
          </p:nvSpPr>
          <p:spPr>
            <a:xfrm rot="21540000">
              <a:off x="1589400" y="57168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9"/>
            <p:cNvSpPr/>
            <p:nvPr/>
          </p:nvSpPr>
          <p:spPr>
            <a:xfrm>
              <a:off x="1589760" y="554040"/>
              <a:ext cx="7340040" cy="47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520F-8664-485C-BC41-B0A622034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2"/>
          <p:cNvSpPr txBox="1"/>
          <p:nvPr/>
        </p:nvSpPr>
        <p:spPr>
          <a:xfrm>
            <a:off x="1042920" y="2924280"/>
            <a:ext cx="754380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24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选读一、</a:t>
            </a:r>
            <a:endParaRPr b="1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“</a:t>
            </a:r>
            <a:r>
              <a:rPr b="1" lang="zh-CN" sz="5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神舟”五号飞船着陆记</a:t>
            </a:r>
            <a:endParaRPr b="1" lang="en-US" sz="54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181080" y="2631240"/>
            <a:ext cx="89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3"/>
          <p:cNvSpPr txBox="1"/>
          <p:nvPr/>
        </p:nvSpPr>
        <p:spPr>
          <a:xfrm>
            <a:off x="539640" y="476280"/>
            <a:ext cx="18669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还有作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50920" y="1916280"/>
            <a:ext cx="87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写一写：想象我国或世界的航天前景，写下来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905120" y="16765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71640" y="170028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50920" y="2086920"/>
            <a:ext cx="846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一、自主阅读，交流讨论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　　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用自己喜欢的方式读课文。将自己不理解的新词，不会读的字画记出来，通过查字典、联系上下文、和同学讨论交流解决。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　　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播放一段“神舟”五号顺利返回地面的录像，结合课文阅读，对课文描述的新闻事件，谈谈自己的了解。</a:t>
            </a:r>
            <a:br>
              <a:rPr sz="4000"/>
            </a:b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23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遨游    清晰    果断    搜索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沉稳     不约而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安然无恙       神采奕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905120" y="33526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241160" y="988560"/>
            <a:ext cx="6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二、分组进行阅读比赛，交流阅读体会。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201560" y="1779120"/>
            <a:ext cx="11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、读了这篇课文，你了解了些什么？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74560" y="37029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、课文哪些地方让你紧张？读到飞船顺利着陆，你想说什么？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4000" y="50713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、课文最后一个自然段，你是怎么理解的？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187160" y="2606040"/>
            <a:ext cx="8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、你有什么想法？你的心情怎样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116000" y="16462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95280" y="1197000"/>
            <a:ext cx="7726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时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45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分，身着白色宇航服的杨利伟从返回舱中神采奕奕地探出头来，他把面罩向上一推，微笑向迎接他回家的人们挥手致意。一时间，草原上掌声雷动，许多人激动得流下了热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16000" y="16462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826920" y="1197000"/>
            <a:ext cx="7726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，身着白色宇航服的杨利伟从返回舱中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神采奕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探出头来，他把面罩向上一推，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微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向迎接他回家的人们挥手致意。一时间，草原上掌声雷动，许多人激动得流下了热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14400" y="69228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“</a:t>
            </a:r>
            <a:r>
              <a:rPr b="1" lang="zh-CN" sz="4000" spc="-1" strike="noStrike">
                <a:solidFill>
                  <a:srgbClr val="ff00ff"/>
                </a:solidFill>
                <a:latin typeface="Calibri"/>
              </a:rPr>
              <a:t>神采奕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”“</a:t>
            </a:r>
            <a:r>
              <a:rPr b="1" lang="zh-CN" sz="4000" spc="-1" strike="noStrike">
                <a:solidFill>
                  <a:srgbClr val="ff00ff"/>
                </a:solidFill>
                <a:latin typeface="Calibri"/>
              </a:rPr>
              <a:t>微笑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”说明经过艰苦的太空飞行，杨利伟依然精神饱满，体现了他坚强的意志，良好的心理素质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最后一句是比喻句，体现了人们对航天事业、航天英雄的热爱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23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重（       ）着魔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装（　　）着陆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手（　　）着落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色（　　）着实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凉（　　）着地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着数（　　）走着瞧（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棋高一着（　　　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76360" y="112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203640" y="112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859280" y="112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588000" y="1125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808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476000" y="1125000"/>
            <a:ext cx="11509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zhu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ó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3203640" y="112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859280" y="112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588000" y="1125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2435040" y="1989000"/>
            <a:ext cx="5156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重（       ）着魔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装（　　）着陆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手（　　）着落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色（　　）着实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凉（　　）着地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数（　　）走着瞧（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棋高一着（　　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132000" y="206064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3132000" y="270828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132000" y="321300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3132000" y="400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43640" y="3357720"/>
            <a:ext cx="1150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300720" y="2133720"/>
            <a:ext cx="1150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3203640" y="465300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516720" y="465300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6443640" y="400536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6372360" y="270828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u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3203640" y="5229360"/>
            <a:ext cx="11509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4500720" y="5877000"/>
            <a:ext cx="1150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zh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6732720" y="51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z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Windows 用户</cp:lastModifiedBy>
  <dcterms:modified xsi:type="dcterms:W3CDTF">2015-09-14T03:21:38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