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EEB-A34E-4FA1-98D3-A426C435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116-12A2-40BD-B3D1-3A38C673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C38-42E2-4425-8412-840CED74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6D6-592F-4823-9111-B1CEEAC7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2C99-399E-4570-BC69-BF4C2C68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80B9-EDDF-4557-8DDE-5DCCE517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CDAE-D303-42DA-A7BB-E90CF690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B4D5-3A61-421D-828F-5B2A363F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4ABB-0F70-472E-B799-B128FDFB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565B-4A6B-46C7-AD78-0D0352B0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E1CD-9B6F-435C-A063-E1C93416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122-AD43-443E-B024-DAB77377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A8BB-DBDF-4B27-8354-91E22A3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6E21-A40C-4EFD-BA7A-25F4C720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291F-F477-42AD-8957-F7A3E2FD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87CD-F4AB-48BA-8F1C-CFF63982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B8A1-4251-46B7-87B4-C84E933A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B40D-AB20-4A2F-8285-7E27586B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7C8EF-7B5B-430B-982A-9558121F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0571-C02F-497F-B2BC-DF6B7176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AD0C-77C6-46B6-B705-E38E7B9E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CF68-DB87-47DF-9125-0AA17638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968-465A-4487-8359-66E55176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CB0A-8CEB-4096-91E0-D8395D88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86ECF-DF4D-4F14-98E8-9F6245B7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E6078-ABD3-408D-BD79-A8019A8A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D1A2-692B-4D9C-ABFC-52F12BFB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8EE51-63D7-4662-8D53-05E8D67C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1FC3-1577-45E6-8B5A-4AC611D7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C6A6-F1A2-41FB-BF54-9DDA30B2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EC8-2279-4037-98EE-521E9750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F9F-5899-46D9-A83C-D6A51E01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921-4FB2-4834-98D4-FA349ABB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857-A2DF-4405-AD67-D56231B0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793-4246-4686-9AD3-799A0937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258-416E-49EC-98FB-B544CF47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EC97-10B4-4EB7-A5F1-EDAA1420E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C44E-FCA5-43C3-A540-C5B2CA9A7CA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593D-EAC8-4C1B-8FFC-A76AE686469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1181160" y="3013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13* </a:t>
            </a:r>
            <a:r>
              <a:rPr b="1" lang="zh-CN" sz="66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世界的边沿在哪儿</a:t>
            </a:r>
            <a:endParaRPr b="1" lang="en-US" sz="66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838080" y="20890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　同学们你们是怎么评价杨卡的，从他身上学到了什么，我们以后要怎么做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34360" y="365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889280" y="3222720"/>
            <a:ext cx="489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62120" y="17398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你们知道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夸父追日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故事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结合这节课内容，发挥自己的想象，写一个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夸父追日新编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吗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2590920" y="2286000"/>
            <a:ext cx="4419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程结束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延伸的道路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傍晚延伸的道路"/>
          <p:cNvPicPr/>
          <p:nvPr/>
        </p:nvPicPr>
        <p:blipFill>
          <a:blip r:embed="rId2"/>
          <a:stretch/>
        </p:blipFill>
        <p:spPr>
          <a:xfrm>
            <a:off x="-304920" y="-33480"/>
            <a:ext cx="9753840" cy="6924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0" y="152280"/>
            <a:ext cx="929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你有没有傻傻地想过，只要沿着上学的小路一直奔跑就可以跑到天边找到太阳的家，只要沿着放学的路一直追赶，就能把准备“下班”的太阳重新追回到天空中？想不想知道路的尽头在哪里，世界的边沿在哪儿呀？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2057400" y="762120"/>
            <a:ext cx="72388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自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）选择自己喜欢的方式朗读课文，要求读准字音、读通顺句子，课文要读流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）勾画出你认为的文中好词好句，多读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）思考：课文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685800" y="990720"/>
            <a:ext cx="2743200" cy="685800"/>
            <a:chOff x="685800" y="990720"/>
            <a:chExt cx="2743200" cy="685800"/>
          </a:xfrm>
        </p:grpSpPr>
        <p:sp>
          <p:nvSpPr>
            <p:cNvPr id="133" name="Rectangle 3"/>
            <p:cNvSpPr/>
            <p:nvPr/>
          </p:nvSpPr>
          <p:spPr>
            <a:xfrm>
              <a:off x="685800" y="990720"/>
              <a:ext cx="27432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"/>
            <p:cNvSpPr/>
            <p:nvPr/>
          </p:nvSpPr>
          <p:spPr>
            <a:xfrm>
              <a:off x="1301040" y="9907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我来说读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23"/>
          <p:cNvSpPr/>
          <p:nvPr/>
        </p:nvSpPr>
        <p:spPr>
          <a:xfrm>
            <a:off x="5715000" y="2133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114300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黑黝黝  融合    鞭子  轰隆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默    镀金    桦树  渲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篝火    嘎嘎    晚霞  橡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闪烁    隐藏    笼罩  逗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参差不齐  沉默不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聚精会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362240" y="1905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同学们用一两句话概括课文的主要内容。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277080" y="533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带着问题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600200" y="203832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世界的边沿究竟在哪儿？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小杨卡为了找到这个问题的答案作了哪些努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　　你认为小杨卡是一个怎样的孩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551400" y="533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起来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219320" y="203832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—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用好奇的眼睛观察着这个世界，（    ）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—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为了找到问题的答案，不仅整天地想，而且（      　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—2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决心要（    ）搞清楚这个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201560" y="24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提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028600" y="37479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过身边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716160" y="42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亲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143000" y="1612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—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用好奇的眼睛观察着这个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—2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杨卡决心要亲自搞清楚这个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4343400" y="1676520"/>
            <a:ext cx="380880" cy="2743200"/>
          </a:xfrm>
          <a:custGeom>
            <a:avLst/>
            <a:gdLst>
              <a:gd name="textAreaLeft" fmla="*/ 0 w 380880"/>
              <a:gd name="textAreaRight" fmla="*/ 13752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5092200" y="8654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杨卡看到了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791320" y="2895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597720" y="2209680"/>
            <a:ext cx="193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景物描写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066680" y="18288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　同学们讨论一下，看看能不能给杨卡的问题找到答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29800" y="1364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家来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0:24:06Z</dcterms:created>
  <dc:creator/>
  <dc:description/>
  <dc:language>en-US</dc:language>
  <cp:lastModifiedBy>Administrator</cp:lastModifiedBy>
  <dcterms:modified xsi:type="dcterms:W3CDTF">2016-01-06T00:46:51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