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4F7-E167-45BA-BD78-F22868D9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39A-BEB8-4A3E-BAB2-2616EF18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1EC-3882-4083-8784-D0B7F7F8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B2E-3057-4D3A-BD64-8C0DDF75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4C6E-4E57-4B83-B410-4E464CB6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1668-D3F1-426C-86F8-85591F92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FE52-7AA6-453D-8AAC-3E8A6945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F7E9-14C3-494E-9BDC-2F66EF6D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F824-1FBF-47F6-A2A3-C0AECCD2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BAA6-E3AA-4069-AF9A-4640C8C0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BFB4-2EB9-416E-AF89-D0DF0FA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12E-2936-41E6-B18D-541DC249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457E-6848-4BE5-A229-FB6BF99F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3BB9-2A9F-4D4A-A312-C09003FE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D50A-5005-46C8-BCAF-EDB7E46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0033-2CB0-4F7E-AB65-83AAF0FF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3F23-0958-4C32-821C-5CA39DB9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F652-AB56-48C8-9ACF-DD7D9B31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13BA-F3C9-43C8-9323-6F97B0FB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D164-983F-45D2-9207-B3F97CE3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D9C95-2529-4EBF-8E4E-A995678D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3F1B-7299-4FCF-80A3-48E28ECC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A81-4C58-4576-9E57-80450FDB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8E7A-0F0F-4541-8144-362179F3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DE52-A795-469C-9848-BEA5201D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882F-6843-49AA-B73D-19F51DC4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DB93-425D-41C0-9EB6-A4E0EEC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B4B6-B83F-42F6-BAE3-A9ED7F0D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48AE-1F8C-4C18-9F8B-165A6147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9960-AB04-4515-BC70-5A7F3D03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5B8-9FA3-46FF-8E98-5DA04C20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1DF-4B14-48F2-BA0F-277BF2BF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B00-C1EC-4D80-B3AC-EF34C734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26A-80A5-438E-90AD-1ABB7F5E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1C4-D21F-40CD-BE06-31AB1BDC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FDC-B3EA-4E04-B0C5-91BF881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06B-0B72-4AEC-A82E-5381A977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67DE-984D-4204-A2E2-5C7E50A9EB7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9978-F726-4C59-A2E6-AE72783676F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181160" y="3013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13* </a:t>
            </a:r>
            <a:r>
              <a:rPr b="1" lang="zh-CN" sz="66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世界的边沿在哪儿</a:t>
            </a:r>
            <a:endParaRPr b="1" lang="en-US" sz="66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838080" y="20890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　同学们你们是怎么评价杨卡的，从他身上学到了什么，我们以后要怎么做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34360" y="365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889280" y="3222720"/>
            <a:ext cx="489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62120" y="17398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你们知道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夸父追日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故事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结合这节课内容，发挥自己的想象，写一个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夸父追日新编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吗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2590920" y="2286000"/>
            <a:ext cx="4419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程结束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延伸的道路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傍晚延伸的道路"/>
          <p:cNvPicPr/>
          <p:nvPr/>
        </p:nvPicPr>
        <p:blipFill>
          <a:blip r:embed="rId2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0" y="152280"/>
            <a:ext cx="92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你有没有傻傻地想过，只要沿着上学的小路一直奔跑就可以跑到天边找到太阳的家，只要沿着放学的路一直追赶，就能把准备“下班”的太阳重新追回到天空中？想不想知道路的尽头在哪里，世界的边沿在哪儿呀？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2057400" y="762120"/>
            <a:ext cx="7238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自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选择自己喜欢的方式朗读课文，要求读准字音、读通顺句子，课文要读流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勾画出你认为的文中好词好句，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思考：课文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685800" y="990720"/>
            <a:ext cx="2743200" cy="685800"/>
            <a:chOff x="685800" y="990720"/>
            <a:chExt cx="2743200" cy="685800"/>
          </a:xfrm>
        </p:grpSpPr>
        <p:sp>
          <p:nvSpPr>
            <p:cNvPr id="133" name="Rectangle 3"/>
            <p:cNvSpPr/>
            <p:nvPr/>
          </p:nvSpPr>
          <p:spPr>
            <a:xfrm>
              <a:off x="685800" y="990720"/>
              <a:ext cx="27432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"/>
            <p:cNvSpPr/>
            <p:nvPr/>
          </p:nvSpPr>
          <p:spPr>
            <a:xfrm>
              <a:off x="1301040" y="9907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我来说读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23"/>
          <p:cNvSpPr/>
          <p:nvPr/>
        </p:nvSpPr>
        <p:spPr>
          <a:xfrm>
            <a:off x="5715000" y="2133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114300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黑黝黝  融合    鞭子  轰隆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默    镀金    桦树  渲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篝火    嘎嘎    晚霞  橡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闪烁    隐藏    笼罩  逗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差不齐  沉默不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聚精会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362240" y="1905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同学们用一两句话概括课文的主要内容。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77080" y="533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带着问题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600200" y="203832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世界的边沿究竟在哪儿？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小杨卡为了找到这个问题的答案作了哪些努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你认为小杨卡是一个怎样的孩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551400" y="533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起来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219320" y="203832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—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用好奇的眼睛观察着这个世界，（    ）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—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为了找到问题的答案，不仅整天地想，而且（      　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—2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决心要（    ）搞清楚这个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201560" y="24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提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028600" y="3747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过身边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71616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亲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43000" y="1612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—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用好奇的眼睛观察着这个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—2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决心要亲自搞清楚这个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4343400" y="1676520"/>
            <a:ext cx="380880" cy="2743200"/>
          </a:xfrm>
          <a:custGeom>
            <a:avLst/>
            <a:gdLst>
              <a:gd name="textAreaLeft" fmla="*/ 0 w 380880"/>
              <a:gd name="textAreaRight" fmla="*/ 13752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092200" y="8654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杨卡看到了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791320" y="2895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597720" y="2209680"/>
            <a:ext cx="193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景物描写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066680" y="18288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　同学们讨论一下，看看能不能给杨卡的问题找到答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29800" y="1364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家来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0:24:06Z</dcterms:created>
  <dc:creator/>
  <dc:description/>
  <dc:language>en-US</dc:language>
  <cp:lastModifiedBy>Administrator</cp:lastModifiedBy>
  <dcterms:modified xsi:type="dcterms:W3CDTF">2016-01-06T00:46:5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