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2.png" ContentType="image/png"/>
  <Override PartName="/ppt/media/image1.png" ContentType="image/png"/>
  <Override PartName="/ppt/media/image3.jpeg" ContentType="image/jpeg"/>
  <Override PartName="/ppt/media/camera.wav" ContentType="audio/x-wav"/>
  <Override PartName="/ppt/media/image7.jpeg" ContentType="image/jpeg"/>
  <Override PartName="/ppt/media/type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944-20E7-4731-A4E3-23333D3B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E3B-5456-47B1-896B-F256D59A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E48-9B63-4C2F-A149-7FF0C9DD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D9B-2F28-4B84-8460-EFB51930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AA53-36DD-44CE-B3C6-29C721F9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7393-90C5-4D90-8F7F-FB8C03DD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9B6D-0F98-4A75-BC9B-DB55D950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0772-B6DB-4BDD-B070-53971B1A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AD8C-2BC7-4659-BB25-EB45BE70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0BCA-28B5-4ABF-AF31-56D4B1BF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63AC-1952-493D-B20A-F5F06985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B04-B539-4357-8EB0-4237D9A8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B58F-8A4E-41B8-9ACD-B45609D1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1EB3-F397-4917-8BE2-C7975D55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30E6-B891-47EE-8D37-03F05721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8F4B-FE29-42C6-82BB-6E3496AC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0D1E-1AB3-4658-9D92-B1396BEE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565-9725-4818-B1C1-567E54B0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B2D-D75F-4F7C-93A3-A2B06DE5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6B7-2F56-4711-BB3C-2449A1A9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1E9-F936-4FF3-AEF6-A21D57E4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7CA-061A-4EFD-A9D7-1ED483F6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808-EE94-495A-8519-A77553D5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DD0-2625-4C71-BD4F-1893EA79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1BCE-9C27-454F-895F-29379524047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6040"/>
            <a:ext cx="2427480" cy="2247120"/>
            <a:chOff x="7171560" y="-8604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6040"/>
              <a:ext cx="2427480" cy="2247120"/>
              <a:chOff x="7171560" y="-8604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6040"/>
                <a:ext cx="2427480" cy="2247120"/>
                <a:chOff x="7171560" y="-8604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148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88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15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2880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72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9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08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2464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51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0" name="Group 18"/>
          <p:cNvGrpSpPr/>
          <p:nvPr/>
        </p:nvGrpSpPr>
        <p:grpSpPr>
          <a:xfrm>
            <a:off x="7797600" y="4318200"/>
            <a:ext cx="979560" cy="1159560"/>
            <a:chOff x="7797600" y="4318200"/>
            <a:chExt cx="979560" cy="1159560"/>
          </a:xfrm>
        </p:grpSpPr>
        <p:sp>
          <p:nvSpPr>
            <p:cNvPr id="101" name="Freeform 19"/>
            <p:cNvSpPr/>
            <p:nvPr/>
          </p:nvSpPr>
          <p:spPr>
            <a:xfrm rot="7320000">
              <a:off x="7791120" y="465912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21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4" name="Group 22"/>
            <p:cNvGrpSpPr/>
            <p:nvPr/>
          </p:nvGrpSpPr>
          <p:grpSpPr>
            <a:xfrm>
              <a:off x="7797600" y="4318200"/>
              <a:ext cx="979560" cy="1159560"/>
              <a:chOff x="7797600" y="4318200"/>
              <a:chExt cx="979560" cy="1159560"/>
            </a:xfrm>
          </p:grpSpPr>
          <p:sp>
            <p:nvSpPr>
              <p:cNvPr id="105" name="Freeform 23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7320000">
                <a:off x="775764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7320000">
                <a:off x="8037720" y="47595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7320000">
                <a:off x="8514360" y="456192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CAE2-8DD6-429B-AAFB-474B83BA3A0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611280" y="3141720"/>
            <a:ext cx="8353440" cy="1099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  <a:ea typeface="黑体"/>
              </a:rPr>
              <a:t>16  </a:t>
            </a: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黑体"/>
              </a:rPr>
              <a:t>世界儿童和平条约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836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六年级 语文 上册 第四单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BAF9826-D13E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"/>
          <p:cNvSpPr/>
          <p:nvPr/>
        </p:nvSpPr>
        <p:spPr>
          <a:xfrm>
            <a:off x="1763640" y="1773360"/>
            <a:ext cx="678204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我们全世界的儿童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向世界宣告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未来的世界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应该和平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我们要一个没有战争和武器的星球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我们要消除破坏和疾病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我们再也不要战争和饥饿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我们再也不要无家可归的事情发生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6" descr="60744"/>
          <p:cNvPicPr/>
          <p:nvPr/>
        </p:nvPicPr>
        <p:blipFill>
          <a:blip r:embed="rId2"/>
          <a:stretch/>
        </p:blipFill>
        <p:spPr>
          <a:xfrm>
            <a:off x="7667640" y="501336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with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AF9826-D13E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1944720" y="1773360"/>
            <a:ext cx="74516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我们将共享大地给予我们的足够食品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我们将保卫天空中美丽的彩虹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我们将保护我们的生命之源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我们将让河水永远洁净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我们要共同游戏，共同欢笑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互相学习，一起探索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努力提高大家的生活水平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7" descr="60744"/>
          <p:cNvPicPr/>
          <p:nvPr/>
        </p:nvPicPr>
        <p:blipFill>
          <a:blip r:embed="rId2"/>
          <a:stretch/>
        </p:blipFill>
        <p:spPr>
          <a:xfrm>
            <a:off x="7740720" y="4941720"/>
            <a:ext cx="1143000" cy="1333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BAF9826-D13E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692360" y="2205000"/>
            <a:ext cx="71294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我们为了和平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为现在的和平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永久的和平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大家的和平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让世界上的成年人和我们一起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丢掉恐惧和悲伤，抓住欢乐和梦想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世界就一定和平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7" descr="60744"/>
          <p:cNvPicPr/>
          <p:nvPr/>
        </p:nvPicPr>
        <p:blipFill>
          <a:blip r:embed="rId2"/>
          <a:stretch/>
        </p:blipFill>
        <p:spPr>
          <a:xfrm>
            <a:off x="7812000" y="4941720"/>
            <a:ext cx="1143000" cy="1333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with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95280" y="1890720"/>
            <a:ext cx="828216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uān 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      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ì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ɡ    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ó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jiā kě ɡuī      z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ē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suǒ       kǒnɡ 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ù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bēi shānɡ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ǎ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ó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   gònɡ xiǎn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01000" y="299880"/>
            <a:ext cx="1826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课堂检测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拼音写词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vp2005-shijianhua-050930-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1116000" y="34290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未来的世界应该和平，没有战争、破坏、仇恨，人类应共享大自然的恩惠，共创美好的生活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332000" y="90792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世界儿童向世界宣告了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u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vp2005-shijianhua-050930-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"/>
          <p:cNvSpPr/>
          <p:nvPr/>
        </p:nvSpPr>
        <p:spPr>
          <a:xfrm>
            <a:off x="971640" y="3429000"/>
            <a:ext cx="77770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写一篇学习之后的感想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搜集资料，继续往下说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全世界（亚洲、非洲</a:t>
            </a:r>
            <a:r>
              <a:rPr b="1" lang="en-US" sz="3200" spc="-1" strike="noStrike">
                <a:solidFill>
                  <a:srgbClr val="9966ff"/>
                </a:solidFill>
                <a:latin typeface="宋体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）的儿童手拉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（               ）的儿童手拉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692360" y="692280"/>
            <a:ext cx="351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作业：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9" descr="U397P1T1D3373224F21DT20040531162846"/>
          <p:cNvPicPr/>
          <p:nvPr/>
        </p:nvPicPr>
        <p:blipFill>
          <a:blip r:embed="rId1"/>
          <a:stretch/>
        </p:blipFill>
        <p:spPr>
          <a:xfrm>
            <a:off x="826920" y="907920"/>
            <a:ext cx="7848720" cy="52801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5"/>
          <p:cNvSpPr txBox="1"/>
          <p:nvPr/>
        </p:nvSpPr>
        <p:spPr>
          <a:xfrm>
            <a:off x="2411280" y="2492280"/>
            <a:ext cx="4321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9" descr="{4A0CB27D-44AC-480B-9951-56442F32768C}"/>
          <p:cNvPicPr/>
          <p:nvPr/>
        </p:nvPicPr>
        <p:blipFill>
          <a:blip r:embed="rId1"/>
          <a:srcRect l="1008" t="117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15640" y="2205000"/>
            <a:ext cx="7201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正确、流利、有感情地朗读课文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会写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课文内容，理解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童和平条约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并了解世界儿童渴望和平的美好心愿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WordArt 6"/>
          <p:cNvSpPr txBox="1"/>
          <p:nvPr/>
        </p:nvSpPr>
        <p:spPr>
          <a:xfrm>
            <a:off x="2340000" y="134136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58" name="Picture 20" descr="60744"/>
          <p:cNvPicPr/>
          <p:nvPr/>
        </p:nvPicPr>
        <p:blipFill>
          <a:blip r:embed="rId2"/>
          <a:stretch/>
        </p:blipFill>
        <p:spPr>
          <a:xfrm>
            <a:off x="7236000" y="105264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</a:rPr>
              <a:t>导学提示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自由读课文，读准字音，读通诗歌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读了课文，你觉得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世界儿童和平条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表达了世界各国儿童们怎么的美好愿望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4" descr="{4A0CB27D-44AC-480B-9951-56442F32768C}"/>
          <p:cNvPicPr/>
          <p:nvPr/>
        </p:nvPicPr>
        <p:blipFill>
          <a:blip r:embed="rId1"/>
          <a:srcRect l="1008" t="117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60744"/>
          <p:cNvPicPr/>
          <p:nvPr/>
        </p:nvPicPr>
        <p:blipFill>
          <a:blip r:embed="rId2"/>
          <a:stretch/>
        </p:blipFill>
        <p:spPr>
          <a:xfrm>
            <a:off x="7236000" y="105264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503360" y="2319480"/>
            <a:ext cx="39736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               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虹               恐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惧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221440" y="22035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Calibri"/>
              </a:rPr>
              <a:t>z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ē</a:t>
            </a:r>
            <a:r>
              <a:rPr b="1" lang="en-US" sz="3200" spc="-1" strike="noStrike">
                <a:solidFill>
                  <a:srgbClr val="ff33cc"/>
                </a:solidFill>
                <a:latin typeface="Calibri"/>
              </a:rPr>
              <a:t>ng</a:t>
            </a: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766880" y="220356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Calibri"/>
              </a:rPr>
              <a:t>jí</a:t>
            </a: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846520" y="22035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疾病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6446880" y="22035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憎恨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2484360" y="1125360"/>
            <a:ext cx="280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619280" y="37116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Calibri"/>
              </a:rPr>
              <a:t>h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ǒ</a:t>
            </a:r>
            <a:r>
              <a:rPr b="1" lang="en-US" sz="3200" spc="-1" strike="noStrike">
                <a:solidFill>
                  <a:srgbClr val="ff33cc"/>
                </a:solidFill>
                <a:latin typeface="Calibri"/>
              </a:rPr>
              <a:t>ng</a:t>
            </a: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2844720" y="37116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彩虹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005440" y="37116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Calibri"/>
              </a:rPr>
              <a:t>kǒng</a:t>
            </a: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6445080" y="371160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恐慌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622520" y="51544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Calibri"/>
              </a:rPr>
              <a:t>jù</a:t>
            </a:r>
            <a:r>
              <a:rPr b="1" lang="zh-CN" sz="3200" spc="-1" strike="noStrike">
                <a:solidFill>
                  <a:srgbClr val="ff33cc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2844720" y="51544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惧怕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5" descr="vp2005-shijianhua-050930-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395280" y="26208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思考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讨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1042920" y="2997360"/>
            <a:ext cx="7377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读了课文，你觉得宣告是什么意思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全世界儿童向世界宣告了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你从这个条约，想到了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106"/>
          <p:cNvPicPr/>
          <p:nvPr/>
        </p:nvPicPr>
        <p:blipFill>
          <a:blip r:embed="rId1"/>
          <a:stretch/>
        </p:blipFill>
        <p:spPr>
          <a:xfrm>
            <a:off x="773280" y="1413000"/>
            <a:ext cx="3817800" cy="48974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4573440" y="928800"/>
            <a:ext cx="453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日，世界各国的儿童代表共聚美国纽约，分别代表本国儿童共同签定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儿童和平条约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，表达世界儿童渴望和平的美好心愿。石家庄市刘玲同学代表中国儿童在纽约法拉兴草坪公园举行的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儿童和平条约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签字仪式上签了字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爆炸之后 "/>
          <p:cNvPicPr/>
          <p:nvPr/>
        </p:nvPicPr>
        <p:blipFill>
          <a:blip r:embed="rId1"/>
          <a:stretch/>
        </p:blipFill>
        <p:spPr>
          <a:xfrm>
            <a:off x="0" y="-12528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1835280" y="476280"/>
            <a:ext cx="34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楷体_GB2312"/>
              </a:rPr>
              <a:t>爆炸之后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611280" y="993600"/>
            <a:ext cx="7632720" cy="581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他们那一双双渴望和平的眼睛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写满虔诚和期盼</a:t>
            </a:r>
            <a:r>
              <a:rPr b="1" lang="en-US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1040780417iraqi"/>
          <p:cNvPicPr/>
          <p:nvPr/>
        </p:nvPicPr>
        <p:blipFill>
          <a:blip r:embed="rId1"/>
          <a:stretch/>
        </p:blipFill>
        <p:spPr>
          <a:xfrm>
            <a:off x="324000" y="2349360"/>
            <a:ext cx="2857320" cy="388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200301030009_42754"/>
          <p:cNvPicPr/>
          <p:nvPr/>
        </p:nvPicPr>
        <p:blipFill>
          <a:blip r:embed="rId2"/>
          <a:stretch/>
        </p:blipFill>
        <p:spPr>
          <a:xfrm>
            <a:off x="3276720" y="2349360"/>
            <a:ext cx="2798640" cy="388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Img209660325"/>
          <p:cNvPicPr/>
          <p:nvPr/>
        </p:nvPicPr>
        <p:blipFill>
          <a:blip r:embed="rId3"/>
          <a:stretch/>
        </p:blipFill>
        <p:spPr>
          <a:xfrm>
            <a:off x="6156360" y="2300400"/>
            <a:ext cx="2628720" cy="3865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08efdd79801a6b2031d73f395a2e7a55"/>
          <p:cNvPicPr/>
          <p:nvPr/>
        </p:nvPicPr>
        <p:blipFill>
          <a:blip r:embed="rId1"/>
          <a:stretch/>
        </p:blipFill>
        <p:spPr>
          <a:xfrm>
            <a:off x="179280" y="620640"/>
            <a:ext cx="4824360" cy="2954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b_14316_0605192338"/>
          <p:cNvPicPr/>
          <p:nvPr/>
        </p:nvPicPr>
        <p:blipFill>
          <a:blip r:embed="rId2"/>
          <a:stretch/>
        </p:blipFill>
        <p:spPr>
          <a:xfrm>
            <a:off x="4992840" y="620640"/>
            <a:ext cx="3971880" cy="590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U364P6T12D2133062F44DT20060330205356"/>
          <p:cNvPicPr/>
          <p:nvPr/>
        </p:nvPicPr>
        <p:blipFill>
          <a:blip r:embed="rId3"/>
          <a:stretch/>
        </p:blipFill>
        <p:spPr>
          <a:xfrm>
            <a:off x="179280" y="3573360"/>
            <a:ext cx="4824360" cy="2941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07:17:09Z</dcterms:created>
  <dc:creator/>
  <dc:description/>
  <dc:language>en-US</dc:language>
  <cp:lastModifiedBy>Administrator</cp:lastModifiedBy>
  <dcterms:modified xsi:type="dcterms:W3CDTF">2016-01-06T00:41:55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