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04B-3584-4014-AD85-F0BCC714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911-FC37-41CB-A888-5CC9199B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F766-9E9D-4D35-AA33-92D916AA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CFC4-D9EE-48D2-A904-78C19630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9FC-70B3-4380-BA58-B8F7002E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49D-050B-4B4D-85C9-46B9602B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107-32DD-48ED-86FE-0489CA3B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BFC7-4B3D-4538-A89F-E6956975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7FA-7E3B-4597-B4B2-9C1147EC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C31F-D96B-4604-BA7A-A3A5CAA4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AE4-14DE-43D2-8F62-17CC1503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827-36D1-48FA-8E2F-D8C596BA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E0B9-F87A-46FD-93E4-9DD1DF0536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153 - 副本.jpg"/>
          <p:cNvPicPr/>
          <p:nvPr/>
        </p:nvPicPr>
        <p:blipFill>
          <a:blip r:embed="rId2"/>
          <a:srcRect l="0" t="0" r="0" b="3481"/>
          <a:stretch/>
        </p:blipFill>
        <p:spPr>
          <a:xfrm>
            <a:off x="34920" y="0"/>
            <a:ext cx="91267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方正胖娃_GBK"/>
                <a:ea typeface="方正胖娃_GBK"/>
              </a:rPr>
              <a:t>25</a:t>
            </a:r>
            <a:r>
              <a:rPr b="0" lang="zh-CN" sz="9600" spc="-1" strike="noStrike">
                <a:solidFill>
                  <a:srgbClr val="ff0000"/>
                </a:solidFill>
                <a:latin typeface="方正胖娃_GBK"/>
                <a:ea typeface="方正胖娃_GBK"/>
              </a:rPr>
              <a:t>* </a:t>
            </a:r>
            <a:r>
              <a:rPr b="0" lang="zh-CN" sz="9600" spc="-1" strike="noStrike">
                <a:solidFill>
                  <a:srgbClr val="ff0000"/>
                </a:solidFill>
                <a:latin typeface="方正胖娃_GBK"/>
                <a:ea typeface="方正胖娃_GBK"/>
              </a:rPr>
              <a:t>挑柴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转过两道山弯，峨山城毗连的房屋让青山遮断了。拐过两个山嘴，峨山城多情的炊烟让绿树隐没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路曲折，漫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伙伴们还在不歇气地往前走，一个个就像刚放青的小马驹，撒欢蹦跳，嬉闹声追撵着河滩上嘎嘎飞的野鸭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快乐的孩子们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8760" y="6429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路边尽是山林。栗树、松树、水冬瓜树，多好的烧柴呀，想砍多少砍多少！伙伴们全当没看见似的，一个劲儿地笑着闹着往前赶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我感到劳累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康布丁体W12"/>
                <a:ea typeface="华康布丁体W12"/>
              </a:rPr>
              <a:t>拓展练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华康布丁体W12"/>
                <a:ea typeface="华康布丁体W12"/>
              </a:rPr>
              <a:t>1·</a:t>
            </a:r>
            <a:r>
              <a:rPr b="0" lang="zh-CN" sz="4800" spc="-1" strike="noStrike">
                <a:solidFill>
                  <a:srgbClr val="00b050"/>
                </a:solidFill>
                <a:latin typeface="华康布丁体W12"/>
                <a:ea typeface="华康布丁体W12"/>
              </a:rPr>
              <a:t>趣填“不”字成语。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　　生生不（ ） 迫不（ ）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爱不（ ） 奋不（ 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　  </a:t>
            </a:r>
            <a:r>
              <a:rPr b="0" lang="zh-CN" sz="44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漠不（ ） 情不（ ）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（ ）不苟 （ ）不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　　（ ）不屈 （ ）不易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（ ）不理 （ ）不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74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b050"/>
                </a:solidFill>
                <a:latin typeface="华康布丁体W12"/>
                <a:ea typeface="华康布丁体W12"/>
              </a:rPr>
              <a:t>2·</a:t>
            </a:r>
            <a:r>
              <a:rPr b="0" lang="zh-CN" sz="4300" spc="-1" strike="noStrike">
                <a:solidFill>
                  <a:srgbClr val="00b050"/>
                </a:solidFill>
                <a:latin typeface="华康布丁体W12"/>
                <a:ea typeface="华康布丁体W12"/>
              </a:rPr>
              <a:t>将括号里能与前面搭配的词画出来。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树立（理想 决心）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端正（态度 目标）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克服（困难 失误）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生活（艰苦 艰巨）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山河（华丽 壮丽）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形势（严肃 严峻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办法（美妙 巧妙）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国家（富强 富裕）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倾诉（心灵 心声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观赏（风景 情景）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精通（业务 业绩）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创造（奇迹 奇特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华康布丁体W12"/>
                <a:ea typeface="华康布丁体W12"/>
              </a:rPr>
              <a:t>3·</a:t>
            </a:r>
            <a:r>
              <a:rPr b="0" lang="zh-CN" sz="3600" spc="-1" strike="noStrike">
                <a:solidFill>
                  <a:srgbClr val="00b050"/>
                </a:solidFill>
                <a:latin typeface="华康布丁体W12"/>
                <a:ea typeface="华康布丁体W12"/>
              </a:rPr>
              <a:t>改病句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．同学们脸上洋溢着愉快的心情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．中国名胜古迹很多，长城是唯一的一处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．一辆日本朋友乘坐的汽车去故宫参观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华康布丁体W12"/>
                <a:ea typeface="华康布丁体W12"/>
              </a:rPr>
              <a:t>4·</a:t>
            </a:r>
            <a:r>
              <a:rPr b="0" lang="zh-CN" sz="3600" spc="-1" strike="noStrike">
                <a:solidFill>
                  <a:srgbClr val="00b050"/>
                </a:solidFill>
                <a:latin typeface="华康布丁体W12"/>
                <a:ea typeface="华康布丁体W12"/>
              </a:rPr>
              <a:t>作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题目：那件事我真难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康布丁体W12"/>
                <a:ea typeface="华康布丁体W12"/>
              </a:rPr>
              <a:t>　　要求：表现中心思想的地方要具体细致，用词恰当，表达真情实感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内容占位符 4" descr="5932_162114580200_2 - 副本 - 副本.jpg"/>
          <p:cNvPicPr/>
          <p:nvPr/>
        </p:nvPicPr>
        <p:blipFill>
          <a:blip r:embed="rId1"/>
          <a:stretch/>
        </p:blipFill>
        <p:spPr>
          <a:xfrm>
            <a:off x="176040" y="208080"/>
            <a:ext cx="7742520" cy="48704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5" descr="257507_212146319189_2.jpg"/>
          <p:cNvPicPr/>
          <p:nvPr/>
        </p:nvPicPr>
        <p:blipFill>
          <a:blip r:embed="rId2"/>
          <a:stretch/>
        </p:blipFill>
        <p:spPr>
          <a:xfrm>
            <a:off x="3670200" y="1189080"/>
            <a:ext cx="294336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70c0"/>
                </a:solidFill>
                <a:latin typeface="方正粗倩简体"/>
                <a:ea typeface="方正粗倩简体"/>
              </a:rPr>
              <a:t>学习目标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1·</a:t>
            </a:r>
            <a:r>
              <a:rPr b="0" lang="zh-CN" sz="4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体会“人生的担子不管有多重，咬紧牙，挺住”的含义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2·</a:t>
            </a:r>
            <a:r>
              <a:rPr b="0" lang="zh-CN" sz="4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学习作者自强自立的品质，做一个能勇敢面对人生的人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70c0"/>
                </a:solidFill>
                <a:latin typeface="方正粗倩简体"/>
                <a:ea typeface="方正粗倩简体"/>
              </a:rPr>
              <a:t>生字通关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1·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迷</a:t>
            </a:r>
            <a:r>
              <a:rPr b="0" lang="zh-CN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茫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（</a:t>
            </a:r>
            <a:r>
              <a:rPr b="0" lang="en-US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máng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2·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温</a:t>
            </a:r>
            <a:r>
              <a:rPr b="0" lang="zh-CN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馨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（</a:t>
            </a:r>
            <a:r>
              <a:rPr b="0" lang="en-US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xīn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3·</a:t>
            </a:r>
            <a:r>
              <a:rPr b="0" lang="zh-CN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寂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静（</a:t>
            </a:r>
            <a:r>
              <a:rPr b="0" lang="en-US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jì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4·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清</a:t>
            </a:r>
            <a:r>
              <a:rPr b="0" lang="zh-CN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晰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（</a:t>
            </a:r>
            <a:r>
              <a:rPr b="0" lang="en-US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xī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b050"/>
                </a:solidFill>
                <a:latin typeface="方正毡笔黑简体"/>
                <a:ea typeface="方正毡笔黑简体"/>
              </a:rPr>
              <a:t>课文分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峨山，在我的记忆里，有松针的涩香味，有干巴菌的泥土味。小城迷茫在烟雨里，润润的，像一块玉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写小城的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004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小城的街道用青石板铺就。乡村的马蹄铁，山里人的光脚板，沾沾连连的牛毛细雨，把这条窄窄的石板街洗磨得好滑好亮，亮得能照出房檐和行人的影子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美好的乡村风景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第一部分（</a:t>
            </a:r>
            <a:r>
              <a:rPr b="0" lang="en-US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1</a:t>
            </a: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段）写“我”记忆里的峨山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4" descr="u=1062238346,3747490880&amp;fm=52&amp;gp=0.jpg"/>
          <p:cNvPicPr/>
          <p:nvPr/>
        </p:nvPicPr>
        <p:blipFill>
          <a:blip r:embed="rId1"/>
          <a:stretch/>
        </p:blipFill>
        <p:spPr>
          <a:xfrm>
            <a:off x="1189080" y="3492360"/>
            <a:ext cx="395604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7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那是我们家刚搬来峨山不久。一天，峨山的小伙伴来到我家，邀我上山砍柴。他们借给我砍刀，给我拿挑绳，左说右说，妈妈才答应。临行时，还在我的衣兜里塞了个烤得喷香的青包谷粑粑（</a:t>
            </a:r>
            <a:r>
              <a:rPr b="1" lang="en-US" sz="37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en-US" sz="37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ā </a:t>
            </a:r>
            <a:r>
              <a:rPr b="0" lang="zh-CN" sz="37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）。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乡村孩子是热情的，淳朴的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760" y="9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我们这一群樵夫，大呼小叫来到了新修的公路上。开始，我还觉得新鲜，就像出来春游似的；可走着走着，脚脖子就开始发酸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新鲜感慢慢消失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我担心：待会儿再挑上一担柴，怎么往回走哇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心里开始退却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5-07-07T00:24:52Z</dcterms:modified>
  <cp:revision>11</cp:revision>
  <dc:subject/>
  <dc:title/>
</cp:coreProperties>
</file>