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gif" ContentType="image/gif"/>
  <Override PartName="/ppt/media/image21.jpeg" ContentType="image/jpeg"/>
  <Override PartName="/ppt/media/image23.jpeg" ContentType="image/jpeg"/>
  <Override PartName="/ppt/media/image16.gif" ContentType="image/gif"/>
  <Override PartName="/ppt/media/image9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25.jpeg" ContentType="image/jpe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B05-41AD-42F2-B81C-BE040636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103-89F7-45F2-A829-5CFF501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47C-51CB-4563-A6BC-EE8924C0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081-E4CE-430E-B372-B2E2E789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9488-EC80-46BA-A100-804BC684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3A41-18CC-495D-985E-63BE24DC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6CA2-6912-4CAC-8DE0-2BCC874A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F2F2-EE38-41E8-985F-DE4F3FF4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E543-2F8B-4F62-B4F1-723CBF65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E0F8-601F-4893-ACC9-BA358172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4838-EDD6-4852-8C98-F6AA2873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99F-1C1B-4E8B-95B0-5DB9FDF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309C-8EBD-4058-BA32-F07ADFC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2733-79C1-46D8-A74F-EC895D2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5443-EE02-48BD-A569-D5C282B9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81D7-7D83-4CC6-942C-8989FE65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9B0E-A5A4-4FA5-8AAD-D2B4C2A3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7D5-1926-48FD-A707-8B5F6BDF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A7A-DC71-48A6-9EC3-5A2A1828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A27-6BFC-4709-8F7A-7781D457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680-5278-4A71-8925-6AB13A68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B6A-D692-4575-AF91-06FE05D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E7D-034E-4CE1-8EED-1932D56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70C-0A3A-4BA3-8ADF-B2FD9CEC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20BE-02C8-4F42-995D-2591E972E8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64BB-8030-4657-91E5-611B69F2D5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pic_270752"/>
          <p:cNvPicPr/>
          <p:nvPr/>
        </p:nvPicPr>
        <p:blipFill>
          <a:blip r:embed="rId1"/>
          <a:stretch/>
        </p:blipFill>
        <p:spPr>
          <a:xfrm>
            <a:off x="210960" y="0"/>
            <a:ext cx="8933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11" descr=""/>
          <p:cNvPicPr/>
          <p:nvPr/>
        </p:nvPicPr>
        <p:blipFill>
          <a:blip r:embed="rId2"/>
          <a:stretch/>
        </p:blipFill>
        <p:spPr>
          <a:xfrm>
            <a:off x="1285920" y="4443480"/>
            <a:ext cx="55958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409720" y="596520"/>
            <a:ext cx="354348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这句话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表面看是在夸自己记性好，实际上是在用幽默的语言、委婉的语气批评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读书太马虎。这简短的语言描写，透出鲁迅先生含蓄、幽默、风趣的性格特点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6" descr="scan0008"/>
          <p:cNvPicPr/>
          <p:nvPr/>
        </p:nvPicPr>
        <p:blipFill>
          <a:blip r:embed="rId1"/>
          <a:stretch/>
        </p:blipFill>
        <p:spPr>
          <a:xfrm>
            <a:off x="182520" y="0"/>
            <a:ext cx="52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4520" y="171000"/>
            <a:ext cx="445428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交流“碰壁”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9120" y="1898640"/>
            <a:ext cx="77058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重点理解：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你想，四周黑洞洞的，还不容易碰壁吗？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请结合时代背景理解鲁迅先生这句话的深刻内涵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6" descr="g_cha_p_06"/>
          <p:cNvPicPr/>
          <p:nvPr/>
        </p:nvPicPr>
        <p:blipFill>
          <a:blip r:embed="rId1"/>
          <a:stretch/>
        </p:blipFill>
        <p:spPr>
          <a:xfrm>
            <a:off x="5899320" y="0"/>
            <a:ext cx="20174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6"/>
          <p:cNvGrpSpPr/>
          <p:nvPr/>
        </p:nvGrpSpPr>
        <p:grpSpPr>
          <a:xfrm>
            <a:off x="284040" y="1047600"/>
            <a:ext cx="8534520" cy="5302440"/>
            <a:chOff x="284040" y="1047600"/>
            <a:chExt cx="8534520" cy="5302440"/>
          </a:xfrm>
        </p:grpSpPr>
        <p:pic>
          <p:nvPicPr>
            <p:cNvPr id="161" name="Picture 5" descr="b49"/>
            <p:cNvPicPr/>
            <p:nvPr/>
          </p:nvPicPr>
          <p:blipFill>
            <a:blip r:embed="rId1"/>
            <a:stretch/>
          </p:blipFill>
          <p:spPr>
            <a:xfrm>
              <a:off x="284040" y="1047600"/>
              <a:ext cx="8534520" cy="53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" descr="bottom-cao-bgimg"/>
            <p:cNvPicPr/>
            <p:nvPr/>
          </p:nvPicPr>
          <p:blipFill>
            <a:blip r:embed="rId2"/>
            <a:stretch/>
          </p:blipFill>
          <p:spPr>
            <a:xfrm>
              <a:off x="314280" y="5581800"/>
              <a:ext cx="8472600" cy="74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79440" y="606240"/>
            <a:ext cx="8548560" cy="58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　　</a:t>
            </a:r>
            <a:r>
              <a:rPr b="1" lang="zh-CN" sz="3600" spc="-1" strike="noStrike">
                <a:solidFill>
                  <a:srgbClr val="0000ff"/>
                </a:solidFill>
                <a:latin typeface="华文仿宋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四周黑洞洞的</a:t>
            </a:r>
            <a:r>
              <a:rPr b="1" lang="zh-CN" sz="3600" spc="-1" strike="noStrike">
                <a:solidFill>
                  <a:srgbClr val="0000ff"/>
                </a:solidFill>
                <a:latin typeface="华文仿宋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指旧社会的黑暗；</a:t>
            </a:r>
            <a:r>
              <a:rPr b="1" lang="zh-CN" sz="3600" spc="-1" strike="noStrike">
                <a:solidFill>
                  <a:srgbClr val="0000ff"/>
                </a:solidFill>
                <a:latin typeface="华文仿宋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把鼻子碰扁了</a:t>
            </a:r>
            <a:r>
              <a:rPr b="1" lang="zh-CN" sz="3600" spc="-1" strike="noStrike">
                <a:solidFill>
                  <a:srgbClr val="0000ff"/>
                </a:solidFill>
                <a:latin typeface="华文仿宋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，暗示鲁迅受到反动势力的残酷迫害。鲁迅写文章揭露国民党反动派，反动派很害怕，查抄他的信件，不许他发表文章，还要逮捕他。鲁迅先生先后用了一百多个笔名，巧妙地和反动派进行斗争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碰了几次壁，把鼻子碰扁了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这句话体现了鲁迅先生幽默的语言风格，也体现了鲁迅先生的顽强斗争精神和乐观主义精神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0320" y="604800"/>
            <a:ext cx="464796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交流“救助车夫”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7880" y="2804760"/>
            <a:ext cx="776592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爸爸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跑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到伯父家里，不一会儿，就跟伯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拿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了药和纱布出来。他们把那个拉车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扶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上车子，一个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蹲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着，一个半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跪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着，爸爸拿镊子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夹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出碎玻璃片，伯父拿硼酸水给他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洗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干净。他们又给他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敷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上药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扎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好绷带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伯父又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掏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出一些钱来给他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叫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他在家里休养几天，把剩下的药和绷带也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给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楷体_GB2312"/>
              </a:rPr>
              <a:t>了他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4" descr="pic_270752"/>
          <p:cNvPicPr/>
          <p:nvPr/>
        </p:nvPicPr>
        <p:blipFill>
          <a:blip r:embed="rId1"/>
          <a:stretch/>
        </p:blipFill>
        <p:spPr>
          <a:xfrm>
            <a:off x="5045040" y="203040"/>
            <a:ext cx="4098960" cy="27162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606600" y="1566720"/>
            <a:ext cx="44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Verdana"/>
                <a:ea typeface="楷体_GB2312"/>
              </a:rPr>
              <a:t>重点朗读以下文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注意其中动词的使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9760" y="3004920"/>
            <a:ext cx="8335800" cy="32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华文仿宋"/>
              </a:rPr>
              <a:t>　　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这时候，我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清清楚楚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地看见，而且现在也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清清楚楚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地记得，他的脸上不再有那种慈祥的愉快的表情了，他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变得那么严肃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。他没有回答我，只把枯瘦的手按在我的头上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半天没动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，最后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楷体_GB2312"/>
              </a:rPr>
              <a:t>深深地叹了一口气</a:t>
            </a:r>
            <a:r>
              <a:rPr b="1" lang="zh-CN" sz="3600" spc="-1" strike="noStrike">
                <a:solidFill>
                  <a:srgbClr val="3333ff"/>
                </a:solidFill>
                <a:latin typeface="Garamond"/>
                <a:ea typeface="楷体_GB2312"/>
              </a:rPr>
              <a:t>。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24000" y="749160"/>
            <a:ext cx="4671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中宋"/>
              </a:rPr>
              <a:t>重点理解下面的句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中宋"/>
              </a:rPr>
              <a:t>注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划线的词语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中宋"/>
              </a:rPr>
              <a:t>的含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9"/>
          <p:cNvGrpSpPr/>
          <p:nvPr/>
        </p:nvGrpSpPr>
        <p:grpSpPr>
          <a:xfrm>
            <a:off x="5030640" y="0"/>
            <a:ext cx="4112640" cy="2729880"/>
            <a:chOff x="5030640" y="0"/>
            <a:chExt cx="4112640" cy="2729880"/>
          </a:xfrm>
        </p:grpSpPr>
        <p:pic>
          <p:nvPicPr>
            <p:cNvPr id="171" name="Picture 6" descr="052001ls0910"/>
            <p:cNvPicPr/>
            <p:nvPr/>
          </p:nvPicPr>
          <p:blipFill>
            <a:blip r:embed="rId1"/>
            <a:stretch/>
          </p:blipFill>
          <p:spPr>
            <a:xfrm>
              <a:off x="5030640" y="18000"/>
              <a:ext cx="1995120" cy="271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luxun1000"/>
            <p:cNvPicPr/>
            <p:nvPr/>
          </p:nvPicPr>
          <p:blipFill>
            <a:blip r:embed="rId2"/>
            <a:stretch/>
          </p:blipFill>
          <p:spPr>
            <a:xfrm>
              <a:off x="7199280" y="0"/>
              <a:ext cx="1944000" cy="272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8"/>
          <p:cNvGrpSpPr/>
          <p:nvPr/>
        </p:nvGrpSpPr>
        <p:grpSpPr>
          <a:xfrm>
            <a:off x="284040" y="1047600"/>
            <a:ext cx="8534520" cy="5302440"/>
            <a:chOff x="284040" y="1047600"/>
            <a:chExt cx="8534520" cy="5302440"/>
          </a:xfrm>
        </p:grpSpPr>
        <p:pic>
          <p:nvPicPr>
            <p:cNvPr id="174" name="Picture 6" descr="b49"/>
            <p:cNvPicPr/>
            <p:nvPr/>
          </p:nvPicPr>
          <p:blipFill>
            <a:blip r:embed="rId1"/>
            <a:stretch/>
          </p:blipFill>
          <p:spPr>
            <a:xfrm>
              <a:off x="284040" y="1047600"/>
              <a:ext cx="8534520" cy="53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7" descr="bottom-cao-bgimg"/>
            <p:cNvPicPr/>
            <p:nvPr/>
          </p:nvPicPr>
          <p:blipFill>
            <a:blip r:embed="rId2"/>
            <a:stretch/>
          </p:blipFill>
          <p:spPr>
            <a:xfrm>
              <a:off x="314280" y="5581800"/>
              <a:ext cx="8472600" cy="74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4"/>
          <p:cNvSpPr/>
          <p:nvPr/>
        </p:nvSpPr>
        <p:spPr>
          <a:xfrm>
            <a:off x="841320" y="1978200"/>
            <a:ext cx="7986600" cy="38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　　　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这里的两个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清清楚楚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强调了当时的情景给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的印象之深；他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变得那么严肃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，手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半天没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深深地叹了一口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等表情、动作的描写，说明鲁迅先生看到了旧社会的罪恶。这段话表现了鲁迅先生对旧社会的痛恨和对劳苦人民的极大同情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5" descr="01a"/>
          <p:cNvPicPr/>
          <p:nvPr/>
        </p:nvPicPr>
        <p:blipFill>
          <a:blip r:embed="rId3"/>
          <a:stretch/>
        </p:blipFill>
        <p:spPr>
          <a:xfrm>
            <a:off x="1168560" y="1576440"/>
            <a:ext cx="857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1520" y="307800"/>
            <a:ext cx="62118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交流“关心女佣阿三”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8800" y="1754280"/>
            <a:ext cx="87552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重点理解：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Verdana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Verdana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Verdana"/>
                <a:ea typeface="楷体_GB2312"/>
              </a:rPr>
              <a:t>她说：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Verdana"/>
                <a:ea typeface="楷体_GB2312"/>
              </a:rPr>
              <a:t>周先生自己病得那么厉害，还三更半夜地写文章。有时候我听着他一阵阵接连不断地咳嗽，真替他难受。他对自己的病一点儿也不在乎，倒常常劝我多休息，不叫我干重活儿。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61880" y="5311800"/>
            <a:ext cx="868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里运用对比的方法，体现了鲁迅先生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自己想得少，为别人想得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高尚品质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6" descr="luxun1000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h_3"/>
          <p:cNvPicPr/>
          <p:nvPr/>
        </p:nvPicPr>
        <p:blipFill>
          <a:blip r:embed="rId1"/>
          <a:stretch/>
        </p:blipFill>
        <p:spPr>
          <a:xfrm>
            <a:off x="184320" y="0"/>
            <a:ext cx="895968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8120" y="2266560"/>
            <a:ext cx="6445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Garamond"/>
              </a:rPr>
              <a:t>鲁迅先生是一个怎样的人？</a:t>
            </a:r>
            <a:r>
              <a:rPr b="0" lang="zh-CN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9720" y="3564000"/>
            <a:ext cx="67197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华文仿宋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学习课文后，请你说说：鲁迅的有哪些让人敬佩的思想品质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  <a:ea typeface="华文仿宋"/>
              </a:rPr>
              <a:t>2.</a:t>
            </a:r>
            <a:r>
              <a:rPr b="1" lang="zh-CN" sz="3200" spc="-1" strike="noStrike">
                <a:solidFill>
                  <a:srgbClr val="006600"/>
                </a:solidFill>
                <a:latin typeface="Verdana"/>
                <a:ea typeface="楷体_GB2312"/>
              </a:rPr>
              <a:t>请从文中找出一个最能概括鲁迅思想品质的句子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81000" y="706320"/>
            <a:ext cx="6607080" cy="1238400"/>
            <a:chOff x="981000" y="706320"/>
            <a:chExt cx="6607080" cy="1238400"/>
          </a:xfrm>
        </p:grpSpPr>
        <p:sp>
          <p:nvSpPr>
            <p:cNvPr id="186" name="WordArt 4"/>
            <p:cNvSpPr txBox="1"/>
            <p:nvPr/>
          </p:nvSpPr>
          <p:spPr>
            <a:xfrm>
              <a:off x="2906640" y="992160"/>
              <a:ext cx="4681440" cy="83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黑体"/>
                </a:rPr>
                <a:t>回顾课文，分析形象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187" name="Picture 6" descr="Gif0405_037"/>
            <p:cNvPicPr/>
            <p:nvPr/>
          </p:nvPicPr>
          <p:blipFill>
            <a:blip r:embed="rId2"/>
            <a:stretch/>
          </p:blipFill>
          <p:spPr>
            <a:xfrm>
              <a:off x="981000" y="706320"/>
              <a:ext cx="1571400" cy="123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20060329091611588"/>
          <p:cNvPicPr/>
          <p:nvPr/>
        </p:nvPicPr>
        <p:blipFill>
          <a:blip r:embed="rId1"/>
          <a:stretch/>
        </p:blipFill>
        <p:spPr>
          <a:xfrm>
            <a:off x="231840" y="0"/>
            <a:ext cx="891216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1441440" y="1171440"/>
            <a:ext cx="667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“的确，伯父就是这样的一个人，他为自己想得少，为别人想得多。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363760" y="41083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横眉冷对千夫指 ，俯首甘为孺子牛 。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2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780109963x0902007-fm02"/>
          <p:cNvPicPr/>
          <p:nvPr/>
        </p:nvPicPr>
        <p:blipFill>
          <a:blip r:embed="rId1"/>
          <a:stretch/>
        </p:blipFill>
        <p:spPr>
          <a:xfrm>
            <a:off x="271440" y="1057320"/>
            <a:ext cx="8543880" cy="5281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19520" y="4350960"/>
            <a:ext cx="298944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Garamond"/>
                <a:ea typeface="华文中宋"/>
              </a:rPr>
              <a:t>积累运用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63560" y="1714320"/>
            <a:ext cx="632772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、抄写课文中描写人物神态和表情的语句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、从自己抄写的语句中，选择对自己最有启发的仿写几句话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back1"/>
          <p:cNvPicPr/>
          <p:nvPr/>
        </p:nvPicPr>
        <p:blipFill>
          <a:blip r:embed="rId1"/>
          <a:stretch/>
        </p:blipFill>
        <p:spPr>
          <a:xfrm>
            <a:off x="290520" y="1060560"/>
            <a:ext cx="8507520" cy="5290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4920" y="1294920"/>
            <a:ext cx="38541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Garamond"/>
                <a:ea typeface="华文中宋"/>
              </a:rPr>
              <a:t>鲁迅先生的葬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1000" y="2487240"/>
            <a:ext cx="835812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鲁迅先生于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936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年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0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月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9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日病逝于上海寓所，享年五十六岁。他的遗体被送到万国殡仪馆。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日下午出殡前，灵堂上布满了各界群众所敬献的挽联和花圈，沿途早已站着长长的队伍。治丧委员宋庆龄、蔡元培、沈钧儒和作家巴金、萧军扶柩上了灵车。青年艺术家抬着司徒乔画的鲁迅先生的巨幅遗像，作为送葬队伍的前导。队伍跨着沉重的步伐前进，沿途又有许多群众加入，送葬的队伍越来越长</a:t>
            </a:r>
            <a:r>
              <a:rPr b="0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5673600" y="1195560"/>
            <a:ext cx="2955960" cy="858600"/>
            <a:chOff x="5673600" y="1195560"/>
            <a:chExt cx="2955960" cy="858600"/>
          </a:xfrm>
        </p:grpSpPr>
        <p:pic>
          <p:nvPicPr>
            <p:cNvPr id="96" name="Picture 4" descr="Small_2005411184850"/>
            <p:cNvPicPr/>
            <p:nvPr/>
          </p:nvPicPr>
          <p:blipFill>
            <a:blip r:embed="rId2"/>
            <a:stretch/>
          </p:blipFill>
          <p:spPr>
            <a:xfrm>
              <a:off x="5673600" y="1211400"/>
              <a:ext cx="1425600" cy="8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5" descr="1119255210"/>
            <p:cNvPicPr/>
            <p:nvPr/>
          </p:nvPicPr>
          <p:blipFill>
            <a:blip r:embed="rId3"/>
            <a:stretch/>
          </p:blipFill>
          <p:spPr>
            <a:xfrm>
              <a:off x="7243920" y="1195560"/>
              <a:ext cx="1385640" cy="83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3525840" y="2279520"/>
            <a:ext cx="323532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95" name="Picture 11" descr="20116191832037351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3"/>
          <p:cNvSpPr/>
          <p:nvPr/>
        </p:nvSpPr>
        <p:spPr>
          <a:xfrm>
            <a:off x="2260440" y="2631960"/>
            <a:ext cx="49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600"/>
                </a:solidFill>
                <a:latin typeface="Comic Sans MS"/>
              </a:rPr>
              <a:t>Bye  by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ack1"/>
          <p:cNvPicPr/>
          <p:nvPr/>
        </p:nvPicPr>
        <p:blipFill>
          <a:blip r:embed="rId1"/>
          <a:stretch/>
        </p:blipFill>
        <p:spPr>
          <a:xfrm>
            <a:off x="290520" y="1060560"/>
            <a:ext cx="8507520" cy="5290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1480" y="2604600"/>
            <a:ext cx="82440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蔡元培主持了在万国公墓举行的葬仪，在哀乐声中，由宋庆龄、沈钧儒将一面绣着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民族魂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”</a:t>
            </a:r>
            <a:r>
              <a:rPr b="0" lang="zh-CN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的白绸旗子，覆盖在灵柩上。人群在暮色中默哀，向这位倔强的旗手和战士告别。人群唱起了吕骥、冼星海临时谱写的</a:t>
            </a: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安息歌</a:t>
            </a: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Verdana"/>
                <a:ea typeface="华文中宋"/>
              </a:rPr>
              <a:t>：愿你安息，安息！愿你安息，安息，安息在土地里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784080" y="0"/>
            <a:ext cx="8003880" cy="2037960"/>
            <a:chOff x="784080" y="0"/>
            <a:chExt cx="8003880" cy="2037960"/>
          </a:xfrm>
        </p:grpSpPr>
        <p:pic>
          <p:nvPicPr>
            <p:cNvPr id="101" name="Picture 5" descr="z2"/>
            <p:cNvPicPr/>
            <p:nvPr/>
          </p:nvPicPr>
          <p:blipFill>
            <a:blip r:embed="rId2"/>
            <a:stretch/>
          </p:blipFill>
          <p:spPr>
            <a:xfrm>
              <a:off x="6262200" y="0"/>
              <a:ext cx="2525760" cy="20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20060423002755815"/>
            <p:cNvPicPr/>
            <p:nvPr/>
          </p:nvPicPr>
          <p:blipFill>
            <a:blip r:embed="rId3"/>
            <a:stretch/>
          </p:blipFill>
          <p:spPr>
            <a:xfrm>
              <a:off x="3545640" y="71640"/>
              <a:ext cx="2540520" cy="19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pic_270743"/>
            <p:cNvPicPr/>
            <p:nvPr/>
          </p:nvPicPr>
          <p:blipFill>
            <a:blip r:embed="rId4"/>
            <a:stretch/>
          </p:blipFill>
          <p:spPr>
            <a:xfrm>
              <a:off x="784080" y="101160"/>
              <a:ext cx="2577600" cy="191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pic_270753"/>
          <p:cNvPicPr/>
          <p:nvPr/>
        </p:nvPicPr>
        <p:blipFill>
          <a:blip r:embed="rId1"/>
          <a:stretch/>
        </p:blipFill>
        <p:spPr>
          <a:xfrm>
            <a:off x="1911240" y="3807000"/>
            <a:ext cx="6323040" cy="16300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7"/>
          <p:cNvSpPr txBox="1"/>
          <p:nvPr/>
        </p:nvSpPr>
        <p:spPr>
          <a:xfrm>
            <a:off x="3254400" y="655560"/>
            <a:ext cx="26049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字词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2752560" y="2325600"/>
            <a:ext cx="3911400" cy="486720"/>
            <a:chOff x="2752560" y="2325600"/>
            <a:chExt cx="3911400" cy="486720"/>
          </a:xfrm>
        </p:grpSpPr>
        <p:sp>
          <p:nvSpPr>
            <p:cNvPr id="107" name="Text Box 8"/>
            <p:cNvSpPr/>
            <p:nvPr/>
          </p:nvSpPr>
          <p:spPr>
            <a:xfrm>
              <a:off x="3267000" y="2352600"/>
              <a:ext cx="33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、给下面的字注音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8" name="Picture 9" descr="021u"/>
            <p:cNvPicPr/>
            <p:nvPr/>
          </p:nvPicPr>
          <p:blipFill>
            <a:blip r:embed="rId2"/>
            <a:stretch/>
          </p:blipFill>
          <p:spPr>
            <a:xfrm>
              <a:off x="2752560" y="2325600"/>
              <a:ext cx="47628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 Box 11"/>
          <p:cNvSpPr/>
          <p:nvPr/>
        </p:nvSpPr>
        <p:spPr>
          <a:xfrm>
            <a:off x="2205000" y="3078000"/>
            <a:ext cx="10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ǎ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67000" y="3106800"/>
            <a:ext cx="8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4135320" y="3106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ú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138640" y="3092400"/>
            <a:ext cx="9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138720" y="3076560"/>
            <a:ext cx="11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gǎ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024680" y="3078000"/>
            <a:ext cx="133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uǎ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670040" y="5370480"/>
            <a:ext cx="160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uā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062160" y="5386320"/>
            <a:ext cx="121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iá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4309920" y="53848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065560" y="5370480"/>
            <a:ext cx="12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ā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6327720" y="5370480"/>
            <a:ext cx="8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7184880" y="53560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ò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4" descr="b49"/>
          <p:cNvPicPr/>
          <p:nvPr/>
        </p:nvPicPr>
        <p:blipFill>
          <a:blip r:embed="rId1"/>
          <a:stretch/>
        </p:blipFill>
        <p:spPr>
          <a:xfrm>
            <a:off x="311040" y="1060560"/>
            <a:ext cx="8520120" cy="5316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57280" y="1805040"/>
            <a:ext cx="237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追悼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失声痛哭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挽联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吊唁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囫囵吞枣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张冠李戴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</a:rPr>
              <a:t>饱经风霜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830680" y="177156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对死者表示沉痛的怀念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828880" y="2278080"/>
            <a:ext cx="58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仿宋"/>
              </a:rPr>
              <a:t>因悲痛过度而哽咽，哭不出声来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830680" y="2786040"/>
            <a:ext cx="31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哀悼死者的对联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816280" y="324972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仿宋"/>
              </a:rPr>
              <a:t>祭奠死者并慰问家属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86040" y="37274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把枣子整个吞下去。比喻不加分析地笼统接受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2801880" y="4645080"/>
            <a:ext cx="53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仿宋"/>
              </a:rPr>
              <a:t>姓张的帽子戴在姓李的头上了。比喻弄错了对象或弄错了事实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814480" y="5587920"/>
            <a:ext cx="51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形容经历过很多的艰难困苦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16"/>
          <p:cNvGrpSpPr/>
          <p:nvPr/>
        </p:nvGrpSpPr>
        <p:grpSpPr>
          <a:xfrm>
            <a:off x="861840" y="1239840"/>
            <a:ext cx="4316400" cy="459720"/>
            <a:chOff x="861840" y="1239840"/>
            <a:chExt cx="4316400" cy="459720"/>
          </a:xfrm>
        </p:grpSpPr>
        <p:sp>
          <p:nvSpPr>
            <p:cNvPr id="131" name="Text Box 13"/>
            <p:cNvSpPr/>
            <p:nvPr/>
          </p:nvSpPr>
          <p:spPr>
            <a:xfrm>
              <a:off x="1317600" y="1239840"/>
              <a:ext cx="38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、解释以下词语的意义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2" name="Picture 15" descr="021u"/>
            <p:cNvPicPr/>
            <p:nvPr/>
          </p:nvPicPr>
          <p:blipFill>
            <a:blip r:embed="rId2"/>
            <a:stretch/>
          </p:blipFill>
          <p:spPr>
            <a:xfrm>
              <a:off x="861840" y="1257120"/>
              <a:ext cx="4762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2" descr="325499995"/>
          <p:cNvPicPr/>
          <p:nvPr/>
        </p:nvPicPr>
        <p:blipFill>
          <a:blip r:embed="rId1"/>
          <a:stretch/>
        </p:blipFill>
        <p:spPr>
          <a:xfrm>
            <a:off x="311040" y="1060560"/>
            <a:ext cx="8493120" cy="5287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9200" y="363240"/>
            <a:ext cx="5097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Garamond"/>
                <a:ea typeface="华文中宋"/>
              </a:rPr>
              <a:t>听课朗读思考问题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24200" y="1247400"/>
            <a:ext cx="5060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1.</a:t>
            </a:r>
            <a:r>
              <a:rPr b="1" i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文章写了鲁迅先生的哪些事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2.</a:t>
            </a:r>
            <a:r>
              <a:rPr b="1" i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鲁迅先生是个怎样的人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3.</a:t>
            </a:r>
            <a:r>
              <a:rPr b="1" i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作者为什么要写鲁迅先生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back1"/>
          <p:cNvPicPr/>
          <p:nvPr/>
        </p:nvPicPr>
        <p:blipFill>
          <a:blip r:embed="rId1"/>
          <a:stretch/>
        </p:blipFill>
        <p:spPr>
          <a:xfrm>
            <a:off x="290520" y="1060560"/>
            <a:ext cx="8507520" cy="5290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7040" y="1542600"/>
            <a:ext cx="8346960" cy="16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1. </a:t>
            </a:r>
            <a:r>
              <a:rPr b="1" lang="zh-CN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文章写了鲁迅先生的哪些事？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Garamond"/>
                <a:ea typeface="楷体_GB2312"/>
              </a:rPr>
              <a:t>在这些事中你印象最深的是哪一件？为什么？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81000" y="3557520"/>
            <a:ext cx="7113600" cy="27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去世后，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看到他受到很多人的爱戴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和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谈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笑谈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碰壁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救助黄包车车夫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伯父关心女佣阿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pic_27067202"/>
          <p:cNvPicPr/>
          <p:nvPr/>
        </p:nvPicPr>
        <p:blipFill>
          <a:blip r:embed="rId2"/>
          <a:stretch/>
        </p:blipFill>
        <p:spPr>
          <a:xfrm>
            <a:off x="5913360" y="5048280"/>
            <a:ext cx="2828880" cy="1273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02b"/>
          <p:cNvPicPr/>
          <p:nvPr/>
        </p:nvPicPr>
        <p:blipFill>
          <a:blip r:embed="rId3"/>
          <a:stretch/>
        </p:blipFill>
        <p:spPr>
          <a:xfrm>
            <a:off x="7004160" y="247680"/>
            <a:ext cx="1330200" cy="958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793800" y="312840"/>
            <a:ext cx="55418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Garamond"/>
              </a:rPr>
              <a:t>小组合作，读书释疑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3200" y="186984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Garamond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Garamond"/>
              </a:rPr>
              <a:t>你可以根据每个部分的主要意思分别给它们加一个小标题吗？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225520" y="393840"/>
            <a:ext cx="244656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考考你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44" name="Picture 5" descr="04d"/>
          <p:cNvPicPr/>
          <p:nvPr/>
        </p:nvPicPr>
        <p:blipFill>
          <a:blip r:embed="rId1"/>
          <a:stretch/>
        </p:blipFill>
        <p:spPr>
          <a:xfrm>
            <a:off x="455760" y="270000"/>
            <a:ext cx="1374480" cy="1154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754200" y="3686040"/>
            <a:ext cx="34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１、深受爱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497480" y="3714840"/>
            <a:ext cx="43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２、谈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水浒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473720" y="4529160"/>
            <a:ext cx="36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４、救助车夫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739800" y="5299200"/>
            <a:ext cx="35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５、关心女佣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768240" y="457200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３、笑谈</a:t>
            </a:r>
            <a:r>
              <a:rPr b="0" lang="zh-CN" sz="3600" spc="-1" strike="noStrike">
                <a:solidFill>
                  <a:srgbClr val="ff0066"/>
                </a:solidFill>
                <a:latin typeface="华文中宋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碰壁</a:t>
            </a:r>
            <a:r>
              <a:rPr b="0" lang="zh-CN" sz="3600" spc="-1" strike="noStrike">
                <a:solidFill>
                  <a:srgbClr val="ff0066"/>
                </a:solidFill>
                <a:latin typeface="华文中宋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b49"/>
          <p:cNvPicPr/>
          <p:nvPr/>
        </p:nvPicPr>
        <p:blipFill>
          <a:blip r:embed="rId1"/>
          <a:stretch/>
        </p:blipFill>
        <p:spPr>
          <a:xfrm>
            <a:off x="284040" y="1047600"/>
            <a:ext cx="8534520" cy="5302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90760" y="1827360"/>
            <a:ext cx="62136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交流“谈</a:t>
            </a:r>
            <a:r>
              <a:rPr b="0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水浒传</a:t>
            </a:r>
            <a:r>
              <a:rPr b="0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”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560" y="3286080"/>
            <a:ext cx="81550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重点理解：</a:t>
            </a:r>
            <a:r>
              <a:rPr b="1" lang="zh-CN" sz="3200" spc="-1" strike="noStrike">
                <a:solidFill>
                  <a:srgbClr val="006600"/>
                </a:solidFill>
                <a:latin typeface="Verdana"/>
              </a:rPr>
              <a:t>伯父摸着胡子，笑了笑，说：     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Verdana"/>
              </a:rPr>
              <a:t>哈哈！还是我的记性好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探    讨：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伯父说这句话的意思是什么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84360" y="426960"/>
            <a:ext cx="63021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200" spc="-1" strike="noStrike">
                <a:solidFill>
                  <a:srgbClr val="ff5050"/>
                </a:solidFill>
                <a:latin typeface="Garamond"/>
                <a:ea typeface="华文中宋"/>
              </a:rPr>
              <a:t>集体交流，突破难点</a:t>
            </a:r>
            <a:r>
              <a:rPr b="0" lang="zh-CN" sz="5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8" descr="200511100223855"/>
          <p:cNvPicPr/>
          <p:nvPr/>
        </p:nvPicPr>
        <p:blipFill>
          <a:blip r:embed="rId2"/>
          <a:stretch/>
        </p:blipFill>
        <p:spPr>
          <a:xfrm>
            <a:off x="860400" y="1373040"/>
            <a:ext cx="158760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7-07T00:16:28Z</dcterms:modified>
  <cp:revision>4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