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applause.wav" ContentType="audio/x-wav"/>
  <Override PartName="/ppt/media/image4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projctor.wav" ContentType="audio/x-wav"/>
  <Override PartName="/ppt/media/whoosh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F7C-4568-4B94-A441-38D3EFC9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6B2-9A21-455C-BF8E-D90BB79E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368-1CF8-4640-873F-461FBEE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D4E-5BD3-4C3E-9015-1BF0F8C7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C16-B705-4A65-B494-5D71803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D09-5ADD-46C7-83B2-4EB6C766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D04-A467-4630-A9B0-23332798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B70-2F45-4D7B-8131-E25434B2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F4F-6192-49FE-A4A6-F01BB36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69B-B28D-4CC1-8702-14B0B70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D21-FE13-4AB7-9870-8A65200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950-8A78-413A-B366-A71A955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89F-7B4C-45B7-8B2C-90AAD0AE2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我召唤青青的小树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907920"/>
            <a:ext cx="187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邵燕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全诗散发着炽热的激情，极富感染力。“我”“召唤青青的小树林”一起到“原野上的飞奔”，我们跑过“原野”、我们“越过山脊”、我们“踱到河边”，在春风里奔跑。通过“我”的飞奔，充分展现了诗人对生活的热爱，对青春的赞美，使每一个读诗的人都不由自主地产生对生命、对青春的期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8120" y="304920"/>
            <a:ext cx="3543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写作亮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467480" cy="4343400"/>
          </a:xfrm>
          <a:prstGeom prst="cloudCallout">
            <a:avLst>
              <a:gd name="adj1" fmla="val -32569"/>
              <a:gd name="adj2" fmla="val 639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下面，掌声有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我们小组为大家朗诵《我召唤青青的小树林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77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邵燕祥，生于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1933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年，祖籍浙江萧山。中国诗人，杂文家，当代诗人。他的第一本诗集《歌唱北京城》（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1951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）和第二本诗集《到远方去》（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1955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）中，有许多诗表现了年轻一代的理想和激情，又有了个性色彩，为他赢得了声誉。从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1980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年到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1986</a:t>
            </a:r>
            <a:r>
              <a:rPr b="1" lang="zh-CN" sz="2400" spc="-1" strike="noStrike">
                <a:solidFill>
                  <a:srgbClr val="bf1919"/>
                </a:solidFill>
                <a:latin typeface="华文行楷"/>
                <a:ea typeface="华文行楷"/>
              </a:rPr>
              <a:t>年，出版了《献给历史的情歌》、《邵燕祥抒情长诗集》等诗集和诗选，还有诗评集《赠给十八岁的诗人》。杂文集《蜜和刺》等作品问世。先为中国作协理事和主席团委员、中国笔会中心会员。这首诗选自《在远方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53280" y="2514600"/>
            <a:ext cx="2790720" cy="289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95480" y="152280"/>
            <a:ext cx="4000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d7d2"/>
                </a:solidFill>
                <a:uFillTx/>
                <a:latin typeface="仿宋_GB2312"/>
                <a:ea typeface="仿宋_GB2312"/>
              </a:rPr>
              <a:t>召</a:t>
            </a: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唤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越过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渡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搀扶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摇一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d7d2"/>
                </a:solidFill>
                <a:uFillTx/>
                <a:latin typeface="仿宋_GB2312"/>
                <a:ea typeface="仿宋_GB2312"/>
              </a:rPr>
              <a:t>拽</a:t>
            </a:r>
            <a:r>
              <a:rPr b="1" lang="zh-CN" sz="3200" spc="-1" strike="noStrike">
                <a:solidFill>
                  <a:srgbClr val="00d7d2"/>
                </a:solidFill>
                <a:latin typeface="仿宋_GB2312"/>
                <a:ea typeface="仿宋_GB2312"/>
              </a:rPr>
              <a:t>一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5029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zh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hu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14600" y="228600"/>
            <a:ext cx="46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词语积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《我召唤青青的小树林》是一首讴歌青春、赞美青春的激情之作，是邵燕祥被剥夺发表作品的权利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年后，重新拿起笔，挥洒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年前青春诗情的作品，展现了诗人获得自由后重新焕发的青春活力，表达了诗人对生命的热爱、对生活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04920"/>
            <a:ext cx="4152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写作背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be0e3"/>
                </a:solidFill>
                <a:latin typeface="Arial"/>
                <a:ea typeface="华文彩云"/>
              </a:rPr>
              <a:t>在这首诗中，诗人仿佛是一个激情满怀、意气风发的少年，轻松快乐，召唤着青青的小树林，一同到原野上飞奔，尽情挥洒炽热的青春。在诗人的感召下，连无知无觉无思想的树木都变成了少年，它们情不自禁地欢呼雀跃着跟着诗人一起飞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895480"/>
            <a:ext cx="52578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全诗共七节，分成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第一部分（第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节），写“我”“召唤青青的小树林”一起在“原野上飞奔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第二部分（第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2—6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节），写“我”与“小树林”一起在原野飞奔的历程和感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第三部（第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ce260a"/>
                </a:solidFill>
                <a:latin typeface="仿宋_GB2312"/>
                <a:ea typeface="仿宋_GB2312"/>
              </a:rPr>
              <a:t>节），呼应开头，再次“召唤青青的小树林”去“原野上飞奔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377208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00400" y="0"/>
            <a:ext cx="3009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诗文结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7925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有人说，“我召唤青青的小树林”，似乎是不合理的。你觉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6705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诗人赋予“青青的小树林”于象征，就非常合理了。全诗散发着炽热的激情，极富感染力，使每一个读诗的人都不由自主地产生对生命、对青春的期盼。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505320"/>
            <a:ext cx="3962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诗人展开丰富的想象，于是，“新叶”变成了“绿色的旗帜”、“繁花”变成了“桃色的、白色的云”、“枝条”变成了马。这些想象，不仅充满童趣，也是平凡事物充满诗意，加上“春水”、“春风”、“春雨”，寄托了诗人对青春、生命、活力、自由的追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32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叶——绿色的旗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繁花——桃色的、白色的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条——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718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两节中作者用了那些比喻的修辞手法，又把什么比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作者为什么要召唤青青的小树林和他一起飞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91440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是对美好未来的渴望与追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590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这里，“青青的小树林”象征着青春活力，象征着生命，它是全诗的核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诗首尾两节的呼应与反复，突出了“青青的小树林”这一核心意象。在这里，“青青的小树林”象征着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57200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它们共同营造出春意盎然、生机勃勃的意境，表现了诗人对生活的热爱，对青春的赞美，对自由的向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5812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诗歌写叶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写花、写枝条、写河水、写春风、写春雨是为了突出诗人什么样的情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32004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第</a:t>
            </a:r>
            <a:r>
              <a:rPr b="1" lang="zh-CN" sz="24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节写激情挥洒青春后的快乐酣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华文彩云"/>
                <a:ea typeface="华文彩云"/>
              </a:rPr>
              <a:t>1</a:t>
            </a:r>
            <a:r>
              <a:rPr b="1" lang="zh-CN" sz="2400" spc="-1" strike="noStrike">
                <a:solidFill>
                  <a:srgbClr val="009900"/>
                </a:solidFill>
                <a:latin typeface="华文彩云"/>
                <a:ea typeface="华文彩云"/>
              </a:rPr>
              <a:t>、中间五个小节，写出诗人跌宕起伏的情感。试概括各段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29000" y="457200"/>
            <a:ext cx="2514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286000"/>
            <a:ext cx="571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第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节里诗人像一个快乐的少年漫步在树林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895480"/>
            <a:ext cx="7925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第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节写快乐少年的想法，就在这时快乐少年突然产生奇妙的想像：枝条作马，纵身驰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7339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第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4—5</a:t>
            </a:r>
            <a:r>
              <a:rPr b="1" lang="zh-CN" sz="2000" spc="-1" strike="noStrike">
                <a:solidFill>
                  <a:srgbClr val="bf1919"/>
                </a:solidFill>
                <a:latin typeface="仿宋_GB2312"/>
                <a:ea typeface="仿宋_GB2312"/>
              </a:rPr>
              <a:t>节具体写“我”和“青青的小树林”一起越过原野时的青春飞扬。此时的“我”和“青青的小树林”已经融为了一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4T22:47:00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