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51-1825-4F65-8DD9-07650C43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F32-E727-4331-A19F-6CD7A105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1F6-A850-4B01-9FC2-E618CF52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973-C8B7-4411-B80A-82AFCD2C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3EC-30C2-4325-B490-48886D4E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3E4-D1B6-46C3-9850-DAD50651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AF5-BEDF-4F2D-9E13-5D282A5E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179-33F9-45FC-B778-5E06DB1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662-9E70-4804-BA6F-EC3A65D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374-921A-4F67-9B7E-26A86AAC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C43-6F19-46FB-8F12-098C828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924-DC66-4D75-8FBC-33FC8CF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83B-8086-4251-B812-A272A526A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523880"/>
            <a:ext cx="7010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召唤青青的小树林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第二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4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品味 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920" y="3962160"/>
            <a:ext cx="3581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ff"/>
                </a:solidFill>
                <a:latin typeface="Arial"/>
              </a:rPr>
              <a:t>跑累了，就搀扶着站定</a:t>
            </a:r>
            <a:br>
              <a:rPr sz="2000"/>
            </a:br>
            <a:r>
              <a:rPr b="1" lang="zh-CN" sz="2000" spc="-1" strike="noStrike">
                <a:solidFill>
                  <a:srgbClr val="33ccff"/>
                </a:solidFill>
                <a:latin typeface="Arial"/>
              </a:rPr>
              <a:t>在月光下悄悄闭上眼睛</a:t>
            </a:r>
            <a:br>
              <a:rPr sz="2000"/>
            </a:br>
            <a:r>
              <a:rPr b="1" lang="zh-CN" sz="2000" spc="-1" strike="noStrike">
                <a:solidFill>
                  <a:srgbClr val="33ccff"/>
                </a:solidFill>
                <a:latin typeface="Arial"/>
              </a:rPr>
              <a:t>如果地面被春雨打湿</a:t>
            </a:r>
            <a:br>
              <a:rPr sz="2000"/>
            </a:br>
            <a:r>
              <a:rPr b="1" lang="zh-CN" sz="2000" spc="-1" strike="noStrike">
                <a:solidFill>
                  <a:srgbClr val="33ccff"/>
                </a:solidFill>
                <a:latin typeface="Arial"/>
              </a:rPr>
              <a:t>那是我们的热汗淋淋</a:t>
            </a:r>
            <a:br>
              <a:rPr sz="2000"/>
            </a:br>
            <a:r>
              <a:rPr b="1" lang="zh-CN" sz="2000" spc="-1" strike="noStrike">
                <a:solidFill>
                  <a:srgbClr val="33ccff"/>
                </a:solidFill>
                <a:latin typeface="Arial"/>
              </a:rPr>
              <a:t>来吧，青青的小树林</a:t>
            </a:r>
            <a:br>
              <a:rPr sz="2000"/>
            </a:br>
            <a:r>
              <a:rPr b="1" lang="zh-CN" sz="2000" spc="-1" strike="noStrike">
                <a:solidFill>
                  <a:srgbClr val="33ccff"/>
                </a:solidFill>
                <a:latin typeface="Arial"/>
              </a:rPr>
              <a:t>同我一起到原野上飞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30492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召唤青青的小树林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同我一起到原野上飞奔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摇一簇早春的新叶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那是绿色的旗帜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05740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133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拽一片细碎的繁花</a:t>
            </a:r>
            <a:br>
              <a:rPr sz="2000"/>
            </a:b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桃色的、白色的云</a:t>
            </a:r>
            <a:br>
              <a:rPr sz="2000"/>
            </a:b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送一枝新条作教鞭</a:t>
            </a:r>
            <a:br>
              <a:rPr sz="2000"/>
            </a:b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给年轻的女教师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73392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送一枝新条当马骑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给没有上学的孩子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跟我一起越过山脊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化为奔马脖颈上的马鬃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跟我一起踱到河边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Arial"/>
              </a:rPr>
              <a:t>一串串身影落入春水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457200"/>
            <a:ext cx="22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春风轻浅地掠过林梢</a:t>
            </a:r>
            <a:br>
              <a:rPr sz="2000"/>
            </a:b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我们一路吹着柳哨</a:t>
            </a:r>
            <a:br>
              <a:rPr sz="2000"/>
            </a:b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春风猛扬起我们的头发</a:t>
            </a:r>
            <a:br>
              <a:rPr sz="2000"/>
            </a:b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我们狂喜地向前快跑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出生时间：</a:t>
            </a: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祖籍：浙江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我国散文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当代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60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邵燕祥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505320"/>
            <a:ext cx="28195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代表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《如花怒放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《迟开的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《晨昏随笔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87631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57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ff"/>
                </a:solidFill>
                <a:latin typeface="Arial"/>
                <a:ea typeface="宋体"/>
              </a:rPr>
              <a:t>写作背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908000"/>
            <a:ext cx="693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《我召唤青青的小树林》是一首讴歌青春、赞美青春的激情之作，是邵燕祥被剥夺发表作品的权利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年后，重新拿起笔，挥洒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年前青春诗情的作品，展现了诗人获得自由后重新焕发的青春活力，表达了诗人对生命的热爱、对生活的热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400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438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赏析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开篇即为全诗奠定了强烈的感情基调。摇一簇早春的新叶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那是绿色的旗帜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拽一片细碎的繁花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桃色的、白色的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赏析：“摇”“拽”用词贴切，传神地表现出诗人充满活力的情态，而把“新叶”喻为“旗帜”，把“繁花”喻为“云”，比喻新巧；又以色彩加以描摹，创造了一个美好的诗境。全诗结构整齐而巧妙，节奏轻快、跳跃，风格清新。全诗首尾两节呼应。中间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小节情感由舒缓而奔放，由奔放到激越。由激越的舒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青青的小树林”象征着青春的热力和勃勃的生计，而“我”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飞奔”则充分表现了诗人对青春的赞美，对生活无比热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99"/>
                </a:solidFill>
                <a:latin typeface="Arial"/>
              </a:rPr>
              <a:t>诗歌情感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全文的情绪流程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</a:rPr>
              <a:t>舒缓——奔放——激越——和缓——勒马驻足，蓄势待发——情感充沛达到高潮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ff"/>
                </a:solidFill>
                <a:latin typeface="Arial"/>
              </a:rPr>
              <a:t>点睛之笔</a:t>
            </a:r>
            <a:r>
              <a:rPr b="1" lang="zh-CN" sz="4400" spc="-1" strike="noStrike">
                <a:solidFill>
                  <a:srgbClr val="33c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ff"/>
                </a:solidFill>
                <a:latin typeface="Arial"/>
              </a:rPr>
              <a:t>全诗结构整齐而巧妙，由激越到舒缓。在内容上又各有侧重，构成一个完整的整体。诗句整齐而构思精巧，给人耳目一新之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ff"/>
                </a:solidFill>
                <a:latin typeface="Arial"/>
              </a:rPr>
              <a:t>本文运用了联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联想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）相似联想 （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）对比联想 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接近联想 （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9933"/>
                </a:solidFill>
                <a:latin typeface="Arial"/>
              </a:rPr>
              <a:t>）因果联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由于某人或某种事物而想起其他相关的人或事物；由某一概念而引起其他相关的概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联想与想象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联想是指在一个事物的基础上想到另外一个真实存在，具有相同特点的事物。而想象是指在一个事物的基础上想到另外一个不存在的，构想出来的事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666880" y="2057400"/>
            <a:ext cx="441972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talicC"/>
              </a:rPr>
              <a:t>THANK YOU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talicC"/>
              <a:ea typeface="Italic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4T22:47:00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