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8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2.gif" ContentType="image/gif"/>
  <Override PartName="/ppt/media/image3.jpeg" ContentType="image/jpeg"/>
  <Override PartName="/ppt/media/image14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9.png" ContentType="image/png"/>
  <Override PartName="/ppt/media/image6.gif" ContentType="image/gif"/>
  <Override PartName="/ppt/media/image11.gif" ContentType="image/gi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A5BF-29DD-4055-BF40-B70E64D5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ECBA-3E08-46CB-93A6-7C79D56C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9C67-EB9B-4595-BE36-16577ED6A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C457-1ECF-47AB-A22E-801D3D5B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F377-2215-4FFB-8BFB-42D87DD7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75A4-F5C2-4099-93DE-A8227E35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0D4E-9A3A-481A-AF63-D78F1884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7056-A371-416C-BCF5-89037527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32F1-3563-4619-995F-E19C97C6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3DE3-4AB3-4484-A5DA-E2D8E2FA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C7BB-EF88-4558-BEFB-48048E15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3612-3D04-4732-BFD3-51DF4497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4F92-D11D-4E23-9AB9-0907CFB939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4.gif"/><Relationship Id="rId4" Type="http://schemas.openxmlformats.org/officeDocument/2006/relationships/slide" Target="slide6.xml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6720" y="5518080"/>
            <a:ext cx="822960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我召唤青青的小树林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5 0.031 0.04129 C 0.031 0.06526 0.017 0.0839 0 0.0839 C -0.017 0.0839 -0.031 0.10255 -0.031 0.12519 C -0.031 0.14783 -0.017 0.16647 0 0.16647 C 0.017 0.16647 0.031 0.18512 0.031 0.20776 C 0.031 0.2304 0.017 0.24905 0 0.24905 C -0.017 0.24905 -0.031 0.26769 -0.031 0.29166 C -0.031 0.3143 -0.017 0.33295 0 0.33295 C 0.017 0.33295 0.031 0.3143 0.031 0.29166 C 0.031 0.26769 0.017 0.24905 0 0.24905 C -0.017 0.24905 -0.031 0.2304 -0.031 0.20776 C -0.031 0.18512 -0.017 0.16647 0 0.16647 C 0.017 0.16647 0.031 0.14783 0.031 0.12519 C 0.031 0.10255 0.017 0.0839 0 0.0839 C -0.017 0.0839 -0.031 0.06526 -0.031 0.04129 C -0.031 0.01865 -0.017 0 0 0 Z">
                                      <p:cBhvr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仿宋"/>
              </a:rPr>
              <a:t>我们随着诗人纵身驰骋，越过山脊，渡到河边，诗人的情感也有原先的舒缓变得奔波、热烈。“越过”、“落入”等词很确切地表明了这种情况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701440" y="764640"/>
            <a:ext cx="50403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春风轻浅地掠过林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们一路吹着柳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645000"/>
            <a:ext cx="56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春风猛扬起我们的头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们狂喜地向前快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5440" y="2279520"/>
            <a:ext cx="842472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轻浅”和“掠过”写出了春风的轻巧和和煦，“吹着柳梢”既写出了欢快的氛围，有拟人化地表现了柳枝轻拂的柔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720" y="5013360"/>
            <a:ext cx="842508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现了诗人的情感有原先的舒缓变的奔波、热烈。“掠过”、“猛”、“狂喜”、“快跑”等词语让我们仿佛看见了一个意气风发的少年在原野上飞奔，尽情回车炽热的青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12000" y="5772240"/>
            <a:ext cx="752400" cy="10857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340000" y="692280"/>
            <a:ext cx="54007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跑累了，就搀扶着站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在月光下悄悄闭上眼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如果地面被春雨打湿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那是我们的热汗淋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520" y="3502080"/>
            <a:ext cx="86374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本节情感：最后一节诗人的情绪由激越趋于和缓，诗人在月光下闭上了眼睛，感情接受月光的抚慰，变得沉静，我们可以感受到这种沉静中孕育着另一次激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40720" y="5157720"/>
            <a:ext cx="857160" cy="1905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750000" y="3789360"/>
            <a:ext cx="2394000" cy="28717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240" y="40284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诗歌中间的几个小节的顺序能否调换？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不能对换，因为这关系到本文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幼圆"/>
              </a:rPr>
              <a:t>诗人的情感流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：诗人的情绪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幼圆"/>
              </a:rPr>
              <a:t>舒缓而奔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，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幼圆"/>
              </a:rPr>
              <a:t>奔放而激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，再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幼圆"/>
              </a:rPr>
              <a:t>激越而和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，最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幼圆"/>
              </a:rPr>
              <a:t>勒马驻足，蓄势待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，诗人的情感在诗的最后一节达到了高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28720" y="1413000"/>
            <a:ext cx="7923240" cy="7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首诗歌之所以很精彩，除了结构独特、意境奔放充满活力外，还运用了比喻、拟人和准确的动词，这样，使词语显得形象生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全诗散发着炽热的激情，通过“我”的飞奔，充分展现了诗人对生活的热爱，对青春的赞美，使每一个读诗的人都不由自主地产生对生命、对青春的期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全诗节奏轻快、跳跃，首尾两节呼应，在内容上又各有侧重，构成一个完整的整体。诗句整齐而构思精巧，给人耳目一新之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8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8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08000" y="694800"/>
            <a:ext cx="885816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这首诗歌，通过“我”的飞奔充分地表现了作者对生活的无限热爱，对青春的热情讴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   “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青青的小树林”与“新叶”、“繁花”、“枝条”、“春水”、“春风”、“春雨”共同营造出春意盎然、生机勃勃的意境。中间五个小节，写出诗人跌宕欺负的情感，由此产生了一连串奇妙的联想：枝条作马，纵身驰骋，越过山脊，踱到河边，让热汗淋淋，与快乐一起流淌，与青春一起飞扬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117360"/>
            <a:ext cx="1523880" cy="1086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2000" y="693360"/>
            <a:ext cx="4427640" cy="61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感谢你给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嫩嫩的桑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咀嚼陌上的阳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清明的丝丝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为了你作茧自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为了你蹈火赴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丝一缕闪耀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清明雨，陌上的阳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生命后的生命，随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走向世界外的世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千里万里丝绸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回头望陌上的桑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《陌上桑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3280" y="693720"/>
            <a:ext cx="435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阴郁的日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雪的日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酒是寂寞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碳是寒冷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从冰封的路上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雪天的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我是尘封的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温我 热我 煮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你的火点燃我的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不忍见你焚烧成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不忍见我横流一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窗上冰花如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斗室却如春 微醺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激与安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95640" y="-17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《五十弦》第五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708360" y="5373720"/>
            <a:ext cx="843120" cy="933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77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8" dur="77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2" dur="77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916000" y="1052640"/>
            <a:ext cx="62276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邵燕祥 ，诗人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浙江萧山人，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1953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年加入中国共产党。建国后，历任中央人民广播电台编辑、记者，《诗刊》副主编，中国作协第三、四届理事。著有诗集《到远方法》、《在远方》、《迟开的花》，有《邵燕祥抒情长诗集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　　他的第一本诗集《歌唱北京城》和第二本诗集《到远方去》其中一些表现了年轻一代的理想和激情。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1980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年到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1986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年，出版了</a:t>
            </a:r>
            <a:r>
              <a:rPr b="1" lang="zh-CN" sz="2000" spc="-1" strike="noStrike">
                <a:solidFill>
                  <a:srgbClr val="ff6600"/>
                </a:solidFill>
                <a:latin typeface="幼圆"/>
                <a:ea typeface="幼圆"/>
              </a:rPr>
              <a:t>《献给历史的情歌》、《在远方》、《如花怒放》、《迟开的花》、《邵燕祥抒情长诗集》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等八种诗集和诗选，还有诗评集</a:t>
            </a:r>
            <a:r>
              <a:rPr b="1" lang="zh-CN" sz="2000" spc="-1" strike="noStrike">
                <a:solidFill>
                  <a:srgbClr val="ff6600"/>
                </a:solidFill>
                <a:latin typeface="幼圆"/>
                <a:ea typeface="幼圆"/>
              </a:rPr>
              <a:t>《赠给十八岁的诗人》、《晨昏随笔》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，杂文集</a:t>
            </a:r>
            <a:r>
              <a:rPr b="1" lang="zh-CN" sz="2000" spc="-1" strike="noStrike">
                <a:solidFill>
                  <a:srgbClr val="ff6600"/>
                </a:solidFill>
                <a:latin typeface="幼圆"/>
                <a:ea typeface="幼圆"/>
              </a:rPr>
              <a:t>《蜜和刺》、《忧乐百篇》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。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1980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年前后发表《切不可巴望好皇帝》等杂文开始，</a:t>
            </a:r>
            <a:r>
              <a:rPr b="1" lang="zh-CN" sz="2000" spc="-1" strike="noStrike">
                <a:solidFill>
                  <a:srgbClr val="cc3300"/>
                </a:solidFill>
                <a:latin typeface="幼圆"/>
                <a:ea typeface="幼圆"/>
              </a:rPr>
              <a:t>又写了大量的杂文，批评各种社会弊病</a:t>
            </a: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989440" y="620640"/>
            <a:ext cx="3527280" cy="792360"/>
          </a:xfrm>
          <a:prstGeom prst="rect">
            <a:avLst/>
          </a:prstGeom>
        </p:spPr>
        <p:txBody>
          <a:bodyPr wrap="none" fromWordArt="1" lIns="90000" rIns="90000" tIns="46800" bIns="46800" anchor="ctr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96720" y="1844640"/>
            <a:ext cx="250056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6562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题为‘我召唤青青的小树林’，这里‘召唤’二字用得恰当吗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这里“青青的小树林”指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全文共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小节，除开头结尾外，你最喜欢哪一节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80360" y="907920"/>
            <a:ext cx="761760" cy="1876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411280" y="3860640"/>
            <a:ext cx="857520" cy="1171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380360" y="3429000"/>
            <a:ext cx="1333440" cy="32385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115640" y="1701360"/>
            <a:ext cx="70563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一节表达的思想感情都不一样，请问每节节分别表达了作者怎样的情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一节分别运用了怎样的修辞手法？并且这些修辞手法有突出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71640" y="5850000"/>
            <a:ext cx="6840360" cy="100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6000" y="835200"/>
            <a:ext cx="89614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课题为‘我召唤青青的小树林’，这里‘召唤’二字用得恰当吗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720" y="2635200"/>
            <a:ext cx="84250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c8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cc6600"/>
                </a:solidFill>
                <a:latin typeface="Arial"/>
                <a:ea typeface="楷体_GB2312"/>
              </a:rPr>
              <a:t>我“召唤青青的小树林”似乎是不合常理的，但从全诗的核心意象。“召唤”“飞奔”都是这一意象的形象表达，可以理解为对美好未来的渴望与追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64360" y="4581360"/>
            <a:ext cx="1333440" cy="3238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70200" y="1265400"/>
            <a:ext cx="42894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里“青青的小树林”指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4160" y="2489040"/>
            <a:ext cx="838836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“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青青的小树林” 代表着青春活力、生活热情，意味着茁壮成长，充满希望是全市的核心理念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04000" y="4797360"/>
            <a:ext cx="1452600" cy="1911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9800" y="5232240"/>
            <a:ext cx="835344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而后半句把“细碎的繁花”比作“桃色的、白色的云”有表达了作者的喜悦，情感轻松而又舒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簇早春的新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那是绿色的旗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片细碎的繁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桃色的、白色的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68360" y="4428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170028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9800" y="3500280"/>
            <a:ext cx="84232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这一小节运用了比喻和拟人两种修辞手法，“摇”表现出了飞奔的感觉，似乎微风拂过，“绿色的旗帜”表现出了一树新绿、迎风招展的青春与活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24720" y="6224760"/>
            <a:ext cx="1057320" cy="5619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177336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在第二、三两节中，是人情感较为舒缓，表现了一种了无羁绊的快乐。“新叶”、“新条”和“繁花”赞美了朝气蓬勃的青春，抒发了青少年热爱自然、生活，向往自由自在的思想感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552320" y="717120"/>
            <a:ext cx="575316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送一枝新条作教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给年轻的女教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送一枝新条当马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给没有上学的孩子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2360" y="3933720"/>
            <a:ext cx="8497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本节运用了比喻的修辞手法，把“新条比作”、“教鞭”和“马”，这里的“送一枝新条”给老师和孩子，充满了生活的温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548400"/>
            <a:ext cx="9144000" cy="309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5-08-04T22:47:00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